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  <p:custShowLst>
    <p:custShow name="自定义放映 1" id="0">
      <p:sldLst>
        <p:sld r:id="rId5"/>
        <p:sld r:id="rId7"/>
        <p:sld r:id="rId6"/>
        <p:sld r:id="rId24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9441-B870-4A39-8AC3-A5E5170AD4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气球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882-F797-44B8-94DD-7259655A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8D4-702C-4226-8753-9FC587D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281-149D-462E-BA80-8A37C49A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A68-AB7E-47BA-A257-5D2B1F98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9EBA-90CA-4685-809F-272CC4BF8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AF4D-F98B-444A-ABE5-7B0753E7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57C1-241F-436B-838F-79326BC2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1526-135A-4B9F-801E-641F6466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9B9B-0029-4A34-991B-170A4FA9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60BE-522A-4DFE-953D-C97A3FC4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8BB0-BF4A-42C9-B578-8E61CF7A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F1A-74E5-40E1-B0B9-95DBC2A5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6A80-AC36-4B87-A2DC-3305E9B2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EEF9-7749-4E78-B418-78322D97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8E2F-7E44-4ED0-9D38-C0DADB0D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931E-8EF7-4C7F-B932-5BB9CADF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3A8D-33C4-4976-9FDD-FF59375D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C5F-9E9A-4BDA-9B65-6D799F55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7D8-918A-48A0-9E3B-F339853D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7F1B-94F3-4766-804E-9EF549CA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F09-F2AD-411B-9C4B-7423D5C4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465A-60A3-435A-8907-5AA722F4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A74-B0AB-4740-BFAC-9E85DD24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E68-7AA1-403F-B4DA-87847BAB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3D0E-A199-429F-BE26-CD1FECDB052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8D4E-463A-42B2-AD1B-93199A83681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609300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56000" y="494172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五（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隶书"/>
              </a:rPr>
              <a:t>2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）主题班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2133720"/>
            <a:ext cx="7559640" cy="18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立君子品质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   ——</a:t>
            </a:r>
            <a:r>
              <a:rPr b="0" lang="zh-CN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做儒雅少年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560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609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坐骑扶手下楼梯，安全隐患在眼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088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6165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老师讲课他睡觉，考试答卷专作弊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61657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别人做操保视力，他却乱做近视眼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-54000"/>
            <a:ext cx="9144000" cy="6004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6093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放学围堵吃小吃，不干不净堵交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24720" y="6021360"/>
            <a:ext cx="1619280" cy="647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71640" y="242100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分小组讨论，除上面的这些行为习惯外，我们班中还有哪些，并说说有什么害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-169920"/>
            <a:ext cx="1512720" cy="3571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00200" y="152280"/>
            <a:ext cx="3168720" cy="1341720"/>
          </a:xfrm>
          <a:prstGeom prst="cloudCallout">
            <a:avLst>
              <a:gd name="adj1" fmla="val -63027"/>
              <a:gd name="adj2" fmla="val 28226"/>
            </a:avLst>
          </a:prstGeom>
          <a:solidFill>
            <a:srgbClr val="66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057400" y="228600"/>
            <a:ext cx="20876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你说我说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5950080"/>
            <a:ext cx="1728720" cy="647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1545600">
            <a:off x="6587640" y="3645000"/>
            <a:ext cx="1295640" cy="212256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685800"/>
            <a:ext cx="5562720" cy="259092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907920"/>
            <a:ext cx="3581280" cy="541044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125360"/>
            <a:ext cx="7315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隶书"/>
                <a:ea typeface="隶书"/>
              </a:rPr>
              <a:t>改正不良行为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572"/>
                </a:solidFill>
                <a:latin typeface="隶书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007572"/>
                </a:solidFill>
                <a:latin typeface="隶书"/>
                <a:ea typeface="隶书"/>
              </a:rPr>
              <a:t>培养良好习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0" name="" descr="01-09-008-04.gif (22138 字节)"/>
          <p:cNvPicPr/>
          <p:nvPr/>
        </p:nvPicPr>
        <p:blipFill>
          <a:blip r:embed="rId2"/>
          <a:stretch/>
        </p:blipFill>
        <p:spPr>
          <a:xfrm>
            <a:off x="6997680" y="0"/>
            <a:ext cx="2146320" cy="1219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95280" y="558972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164360" y="5950080"/>
            <a:ext cx="1655640" cy="647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335772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同学们你们怎样改掉存在的这些不良言行呢？请大家畅所欲言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5485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284640"/>
            <a:ext cx="8686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班里有同学损坏了公物，老师来调查时谁也不说，一起帮助这位同学掩盖事情真相，假如你是知情者，但又碍于同学间的面子，不好当面站出来，那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890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动动脑筋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如果碰到下列情况，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92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周日晚自习，老师都在开会，班上同学吵闹，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197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你做作业时碰到难题，百思不得其解，同学把做好的作业让你抄，你会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0606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早晨，你碰到老师应该怎么做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49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课间你在教室外吃完小吃，剩下塑料袋，可旁边没有垃圾箱，也没有老师，这时你会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437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上课时老师正在讲课，有同学在下面看小说，或者有同学在学老师的话，你觉得对吗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37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有同学在大家休息时聊天，别人制止时反驳说：“我没和你说话，吃的不多管得多。”他的话对吗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5950080"/>
            <a:ext cx="1692360" cy="647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少年君子应该这样做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同学之间友好相处，互相帮助，凡事要谦让，不私自拿别人的学习用品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校内、校外、家里都能与他人主动打招呼，养成讲礼貌的好习惯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孝敬父母，尊敬师长，有爱心，听从父母的正确的教导，不任性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浪费，不乱花钱，生活节俭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讲究卫生，保持生活、学习环境的清洁，争做环保小卫士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6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学习纪律性强，积极性高，课上大胆举手发言。及时认真地完成各科作业，字迹端正，书面整洁，成绩面前不骄傲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7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积极参加体育活动，增强体质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8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自觉遵守公共场所秩序，发扬社会公德，做文明人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9.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养成课外阅读的好习惯，增加知识积累。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不参与迷信、邪教、赌博等活动，不唆使同伴做违法违纪的事情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48428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评选班级“少年君子”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51640" y="5950080"/>
            <a:ext cx="1692360" cy="647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3429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方正姚体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方正姚体"/>
              </a:rPr>
              <a:t>找一找”身边的好少年，“夸夸”他好在什么地方。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方正姚体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2133720"/>
            <a:ext cx="1297080" cy="1079280"/>
          </a:xfrm>
          <a:prstGeom prst="star5">
            <a:avLst/>
          </a:prstGeom>
          <a:solidFill>
            <a:srgbClr val="ff33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052640"/>
            <a:ext cx="883908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语言上讲文明           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行为上讲规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学习上讲刻苦           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生活上讲卫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活动中讲参与           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集体中讲团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待人上讲礼貌           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处事上讲谦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校内外讲形象          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时时处处讲安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9907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行楷"/>
              </a:rPr>
              <a:t>我宣誓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360" y="5950080"/>
            <a:ext cx="1655640" cy="647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16000" y="1557360"/>
            <a:ext cx="66960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谈一谈我们的校训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cc"/>
                </a:solidFill>
                <a:latin typeface="Arial"/>
                <a:ea typeface="隶书"/>
              </a:rPr>
              <a:t>在这里我真心希望大家能通过这次主题班会，收敛并改正掉自己的一些不礼貌行为或现象，可能一时你是改变不了的，但只要你有改变的决心，相信你会成功。当然要改变这种校园不文明现象的大气候光靠一个人是不够的，它还需要我们全班甚至全校同学的一起努力。一颗树木虽然不能从根本上改善周围的环境气候，但是一片森林定能给我们一片清朗的天空。让我们携起手来</a:t>
            </a:r>
            <a:r>
              <a:rPr b="0" lang="en-US" sz="3400" spc="-1" strike="noStrike">
                <a:solidFill>
                  <a:srgbClr val="0033cc"/>
                </a:solidFill>
                <a:latin typeface="Arial"/>
                <a:ea typeface="隶书"/>
              </a:rPr>
              <a:t>,</a:t>
            </a:r>
            <a:r>
              <a:rPr b="0" lang="zh-CN" sz="3400" spc="-1" strike="noStrike">
                <a:solidFill>
                  <a:srgbClr val="0033cc"/>
                </a:solidFill>
                <a:latin typeface="Arial"/>
                <a:ea typeface="隶书"/>
              </a:rPr>
              <a:t>一起践行君子品质</a:t>
            </a:r>
            <a:r>
              <a:rPr b="0" lang="en-US" sz="3400" spc="-1" strike="noStrike">
                <a:solidFill>
                  <a:srgbClr val="0033cc"/>
                </a:solidFill>
                <a:latin typeface="Arial"/>
                <a:ea typeface="隶书"/>
              </a:rPr>
              <a:t>!</a:t>
            </a:r>
            <a:endParaRPr b="0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33336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隶书"/>
              </a:rPr>
              <a:t>寄语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404640"/>
            <a:ext cx="2160360" cy="76536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明天会更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方正姚体"/>
              </a:rPr>
              <a:t>好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2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2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2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050920" y="1484280"/>
            <a:ext cx="46818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明天会更好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486640" y="6200640"/>
            <a:ext cx="657360" cy="657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4653000"/>
            <a:ext cx="2952720" cy="1224000"/>
          </a:xfrm>
          <a:prstGeom prst="cloudCallout">
            <a:avLst>
              <a:gd name="adj1" fmla="val -51342"/>
              <a:gd name="adj2" fmla="val 12457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24360" y="3645000"/>
            <a:ext cx="3203640" cy="12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再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</p:spTree>
  </p:cSld>
  <p:transition spd="med">
    <p:split dir="out" orient="horz"/>
  </p:transition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方正姚体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27560"/>
            <a:ext cx="90360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方正姚体"/>
              </a:rPr>
              <a:t>君子四不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方正姚体"/>
              </a:rPr>
              <a:t>　　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方正姚体"/>
              </a:rPr>
              <a:t>第一、君子不妄动，动必有道：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方正姚体"/>
              </a:rPr>
              <a:t>《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方正姚体"/>
              </a:rPr>
              <a:t>论语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方正姚体"/>
              </a:rPr>
              <a:t>》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方正姚体"/>
              </a:rPr>
              <a:t>说：「君子道人以言，而禁以行。故言则虑其所终，行则稽其所敝。则民慎于言而谨于行。」所以一个君子说话必定有其道理，他们会要求自己谨言慎行，凡事讲求合乎礼仪、不随便，每当有所行动，必定有其用意，此即所谓不妄动，动必有道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方正姚体"/>
              </a:rPr>
              <a:t>　　第二、君子不徒语，语必有理：谣言止于智者，因此，君子常是非礼勿言，守口如瓶，不说空话，不讲不实在的话。但在该说的时候也必定会说，因为应说而不说，有失于人；不应说而说，则是失言。要做个君子，必须能不失人也不失言。君子所言，都是有意义的话，慈悲的话，正义的话。所以君子不徒用语言，说话必定有理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方正姚体"/>
              </a:rPr>
              <a:t>　　第三、君子不苟求，求必有义：古有名训：「君子爱财，取之有道。贞妇爱色，纳之以礼。」君子相当爱惜自己的名誉，对于欲望有所节制，不会贪取妄求不属于自己的东西，不会以苟且心态妄想获利，更不会落井下石，谋求私人利益，豪取强夺。一个君子假如有所求，一定是为了国家、为了社会、为了正义，必定是为民求利，代众生而求。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方正姚体"/>
              </a:rPr>
              <a:t>　　第四，君子不虚行，行必有正：如果是一个君子，他的一言一行，都不会随便，凡事他都会经过再三的考虑：这个行为会伤害到他人吗？这件事情会对别人不利吗？想清楚了，他才会有所行动。所以君子的行为必定合乎正道，另外，佛教说一个修行人，其言行必须合乎「八正道」，所谓八正道，就是要讲真实的语言、要起正直的念头，要说正直的话、做正直的事、修正直的行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  <a:ea typeface="方正姚体"/>
              </a:rPr>
              <a:t>……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方正姚体"/>
              </a:rPr>
              <a:t>。做人处事，如果能以八正道为原则，也不会有差错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方正姚体"/>
              </a:rPr>
              <a:t> 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545600">
            <a:off x="0" y="3933720"/>
            <a:ext cx="3048120" cy="242568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5950080"/>
            <a:ext cx="1728720" cy="647640"/>
          </a:xfrm>
          <a:prstGeom prst="ellipse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隶书"/>
              </a:rPr>
              <a:t>返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360" y="981000"/>
            <a:ext cx="7488000" cy="29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谈一谈你对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行君子之道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做儒雅少年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理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1835280" y="692280"/>
            <a:ext cx="3047760" cy="457200"/>
          </a:xfrm>
          <a:custGeom>
            <a:avLst/>
            <a:gdLst>
              <a:gd name="textAreaLeft" fmla="*/ 29520 w 3047760"/>
              <a:gd name="textAreaRight" fmla="*/ 3018240 w 3047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892" h="21600">
                <a:moveTo>
                  <a:pt x="0" y="0"/>
                </a:moveTo>
                <a:lnTo>
                  <a:pt x="143892" y="0"/>
                </a:lnTo>
                <a:lnTo>
                  <a:pt x="143892" y="21600"/>
                </a:lnTo>
                <a:lnTo>
                  <a:pt x="0" y="21600"/>
                </a:lnTo>
                <a:close/>
              </a:path>
              <a:path fill="lightenLess" w="143892" h="21600">
                <a:moveTo>
                  <a:pt x="0" y="0"/>
                </a:moveTo>
                <a:lnTo>
                  <a:pt x="143892" y="0"/>
                </a:lnTo>
                <a:lnTo>
                  <a:pt x="142492" y="1400"/>
                </a:lnTo>
                <a:lnTo>
                  <a:pt x="1400" y="1400"/>
                </a:lnTo>
                <a:close/>
              </a:path>
              <a:path fill="darken" w="143892" h="21600">
                <a:moveTo>
                  <a:pt x="143892" y="0"/>
                </a:moveTo>
                <a:lnTo>
                  <a:pt x="143892" y="21600"/>
                </a:lnTo>
                <a:lnTo>
                  <a:pt x="142492" y="20200"/>
                </a:lnTo>
                <a:lnTo>
                  <a:pt x="142492" y="1400"/>
                </a:lnTo>
                <a:close/>
              </a:path>
              <a:path fill="darkenLess" w="143892" h="21600">
                <a:moveTo>
                  <a:pt x="14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92" y="20200"/>
                </a:lnTo>
                <a:close/>
              </a:path>
              <a:path fill="lighten" w="14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581280" y="4013280"/>
            <a:ext cx="5562720" cy="284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116000" y="1844640"/>
            <a:ext cx="7056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隶书"/>
                <a:ea typeface="隶书"/>
              </a:rPr>
              <a:t>《</a:t>
            </a:r>
            <a:r>
              <a:rPr b="1" lang="zh-CN" sz="4800" spc="-1" strike="noStrike">
                <a:solidFill>
                  <a:srgbClr val="cc0066"/>
                </a:solidFill>
                <a:latin typeface="隶书"/>
                <a:ea typeface="隶书"/>
              </a:rPr>
              <a:t>发生在我们身边的事</a:t>
            </a:r>
            <a:r>
              <a:rPr b="1" lang="en-US" sz="4800" spc="-1" strike="noStrike">
                <a:solidFill>
                  <a:srgbClr val="cc0066"/>
                </a:solidFill>
                <a:latin typeface="隶书"/>
                <a:ea typeface="隶书"/>
              </a:rPr>
              <a:t>》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30492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情境体验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8360" y="6093000"/>
            <a:ext cx="77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垃圾乱扔脏地面，清洁工忙碌早到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15840"/>
            <a:ext cx="9144000" cy="607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6165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门口垃圾随便扔，主人生气顾客跑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933720"/>
            <a:ext cx="3311640" cy="2548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5937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609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工具乱摆垃圾堆，影响整洁弄脏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-33480"/>
            <a:ext cx="9144000" cy="6054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093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隶书"/>
              </a:rPr>
              <a:t>为抢东西打起架，撕烂衣服打烂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5:52:16Z</dcterms:created>
  <dc:creator>Billgates</dc:creator>
  <dc:description/>
  <cp:keywords/>
  <dc:language>en-US</dc:language>
  <cp:lastModifiedBy>微软用户</cp:lastModifiedBy>
  <cp:lastPrinted>1899-12-30T00:00:00Z</cp:lastPrinted>
  <dcterms:modified xsi:type="dcterms:W3CDTF">2012-03-05T07:32:25Z</dcterms:modified>
  <cp:revision>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