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8F65-34B6-45FD-9F67-8C4946090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B678-1EA9-4F3D-B358-53B8B99B4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0B2F-9C7D-4D8D-9D89-05D4A08E0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46B6-E8BE-4BA5-917E-5C6739AAC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0A1F-C6B3-4E69-9759-C00072435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BD54-935E-4E6F-B7E3-B7BA4BC4A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CE9E-478F-48F0-8382-A26807A3E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E1AA-1033-4C58-A875-F03893212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3480-09FD-4F6D-91EE-AEF94564B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EA9B-4C49-4D50-97ED-DB684996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FD28-FEA3-4232-9100-EF5C2204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D6BC-3678-4415-859A-D3FA5376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A79EB-6C8C-4195-AEBE-1415B28A733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4360" y="1628640"/>
            <a:ext cx="748800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做一个文明的中学生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458136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七年级六班主题班会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451640" y="5013360"/>
            <a:ext cx="143532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4360" y="981000"/>
            <a:ext cx="7920000" cy="47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孔子说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“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不学礼，无以立”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就是说，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你不学“礼”，就没法在社会中立身。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979280" y="805680"/>
            <a:ext cx="427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文明人”自测：你是一个文明的人吗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9280" y="1482840"/>
            <a:ext cx="650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升国旗时，你能肃立，行注目礼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能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时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-1981080" y="2430720"/>
            <a:ext cx="821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你平时说脏话吗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说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很少说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常说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3397320"/>
            <a:ext cx="637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路上见到老师，你会主动上前问好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时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4260960"/>
            <a:ext cx="64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你有过破坏公物、乱扔粉笔的行为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没有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过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经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66560" y="5104080"/>
            <a:ext cx="626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你能和同学友好相处、并互相帮助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的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很少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没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39800" y="1152720"/>
            <a:ext cx="620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你会乱扔垃圾吗？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没有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偶尔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经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9640" y="2160720"/>
            <a:ext cx="78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看见校园有垃圾，你会捡起来并扔进垃圾桶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会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时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4360" y="410544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你能按时独立完成作业，不抄袭别人作业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能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时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3097440"/>
            <a:ext cx="78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你能够做到上课认真听讲，不讲话做小动作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会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时     　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5042160"/>
            <a:ext cx="744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参加各种集会能准时到达，安静听讲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能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时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244160" y="1818360"/>
            <a:ext cx="643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明：选择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得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，选择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得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，选择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得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2655000"/>
            <a:ext cx="777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分数为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30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－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分：你是个讲文明，懂礼貌的人。举止言谈文明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与老师、父母、同学相处融洽，人际关系好，是个受欢迎的人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1280" y="3572280"/>
            <a:ext cx="756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分数为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22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－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1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分：一般情况下，你是个文明的人，但有时可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没有认真对待一些事情，特别是一些小事，人际关系一般，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比较受欢迎的人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4671000"/>
            <a:ext cx="741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分数为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14—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分：许多情况下，你是个不文明的人，人际关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定很差，是个不受欢迎的人。要注意咯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" dur="25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0" dur="25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" dur="25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250" autoRev="1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5" dur="250" autoRev="1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6" dur="250" autoRev="1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250" autoRev="1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0" dur="250" autoRev="1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1" dur="250" autoRev="1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68360" y="1413000"/>
            <a:ext cx="80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大家觉得我们学校里有哪些不文明的行为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867280" y="2997360"/>
            <a:ext cx="28116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39280" y="1773000"/>
            <a:ext cx="80758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撒谎，不守信用，考试作弊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说粗话、脏话，侮辱、谩骂别人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吸烟，酗酒，赌博，沉迷网络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随地吐痰，乱扔垃圾和废弃物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孝敬父母，顶撞老师，不团结同学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公共桌椅或者墙面上乱涂乱画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传播谣言，制作散发不良信息； 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爱慕虚荣，盲目攀比；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背后议论别人，窥探、传播他人隐私；  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将零食带入教学区域里、或在教学区域吃口香糖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11280" y="189000"/>
            <a:ext cx="770580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楷体_GB2312"/>
              </a:rPr>
              <a:t>校园十大不文明行为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05" name=""/>
          <p:cNvSpPr/>
          <p:nvPr/>
        </p:nvSpPr>
        <p:spPr>
          <a:xfrm>
            <a:off x="826920" y="2205000"/>
            <a:ext cx="76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95280" y="620640"/>
            <a:ext cx="792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什么是礼仪呢？简单地说，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礼仪就是律己、敬人的一种行为规范，是表现对他人尊重和理解的过程和手段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文明礼仪，不仅是个人素质、教养的体现，也是个人道德和社会公德的体现。更是城市的脸面，更是国家的脸面。所以我们作为具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500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文明史的“礼仪之邦”，讲文明、用礼仪，也是弘扬民族文化、展示民族精神的重要途径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在一个国家中，个人是主体。对于个人来说，人们首先应该具备的是文明素质，只有当每一个人都具备了文明素质，那么这个国家的整体素质才能提高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9640" y="404640"/>
            <a:ext cx="7777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良好的行为习惯，是保证我们顺利学习的前提，也是树立健康人格的基础。在学校没有良好的行为习惯的同学就可能目无纪律，不讲卫生，扰乱班级的学习环境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应该做一个堂堂正正的人，一个懂文明、有礼貌的谦谦君子，然后才是成才，不能做一部单纯掌握知识技能的机器，而要成为一个身心和谐发展的人。文明就是我们素质的前沿，拥有文明，那我们就拥有了世界上最为宝贵的精神财富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68360" y="549360"/>
            <a:ext cx="784872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文明，是一个永恒的话题，我们会一直继续下去的。主题班队会虽然结束了，但是我们文明的思想通过主题班队会将更加有力量！我们一定会将文明进行到底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56000" y="0"/>
            <a:ext cx="6588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3120" y="571680"/>
            <a:ext cx="1277640" cy="58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你觉得这样的行为恶心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396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5976720" cy="6048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455600" y="-891720"/>
            <a:ext cx="789840" cy="83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明知故犯的行为，可恨吗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37236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 rot="5400000">
            <a:off x="5900760" y="2227320"/>
            <a:ext cx="365760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强不让弱非好汉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zoom dir="ou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738440" y="1400040"/>
            <a:ext cx="5688000" cy="50054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058760" y="6094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293920" y="561960"/>
            <a:ext cx="45720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缺德行为，害人不浅！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checker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473200" y="0"/>
            <a:ext cx="66708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40400" y="324000"/>
            <a:ext cx="1399320" cy="62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黑运当头，谁最缺德？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26920" y="260280"/>
            <a:ext cx="6913800" cy="49323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1762200" y="5437080"/>
            <a:ext cx="50292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你  有  何  话  说？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comb dir="horz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64960" y="333360"/>
            <a:ext cx="6035760" cy="6191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795360" y="1022400"/>
            <a:ext cx="1716840" cy="55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这种行为难道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让人痛恨吗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6697440" cy="65977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 rot="5400000">
            <a:off x="-1461240" y="2856600"/>
            <a:ext cx="5079960" cy="820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礼让三分，命长久！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cover dir="r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1T02:57:22Z</dcterms:created>
  <dc:creator> </dc:creator>
  <dc:description/>
  <dc:language>en-US</dc:language>
  <cp:lastModifiedBy>雨林木风</cp:lastModifiedBy>
  <dcterms:modified xsi:type="dcterms:W3CDTF">2011-02-21T03:48:48Z</dcterms:modified>
  <cp:revision>66</cp:revision>
  <dc:subject/>
  <dc:title>PowerPoint 演示文稿</dc:title>
</cp:coreProperties>
</file>