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708-77AB-4B57-A36E-E8DD358B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C39-352E-40C7-8436-3349DDDD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214-0C90-47AF-A401-D6DA4F34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D73-CEA2-44E1-897D-821504EF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84B-D2AF-4043-AF04-23537B71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D99F-D114-46C9-AD35-D2A9D9B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CC71-4BA6-4BE5-8CA0-186315D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4EEA-8E54-4D77-B443-A18A865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2DEA-4214-4102-9DAC-0F3614E4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726D-3CF8-4CB4-A62D-0358C83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7F22-E170-455A-84DE-7DAEFAA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CC2-B2D8-4499-BC8D-2BB6D18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264C-FD88-4E90-B27C-FE101DA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02E-58B1-40C8-AD05-17E2A5D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2999-D7EF-4BDE-8387-5E6138E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08A-1144-4FC3-A63C-89CB6D5D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E23E-E9ED-4164-99AB-9AE92BD9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9D7-8489-401E-83FD-89217B81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C91-289F-4D31-90CB-7281C0C5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B66-5FB8-43CA-8DB1-E35A113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CD9-7BC5-4490-87E3-CA4F482C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89C-EC2B-4C0B-ADAF-0E68CE6B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0F3-BA0E-40CC-934E-8224FA2C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5F6-AF69-4660-9DEB-02D4CC3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964-C3D8-4D74-8C81-550803A101A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1CBE-C69C-4AB5-B181-A5FBB156513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6920" y="1484280"/>
            <a:ext cx="669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音乐剧鉴赏课件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2781000"/>
            <a:ext cx="6408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东坡下载站编辑整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361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ccecff"/>
                </a:solidFill>
                <a:latin typeface="宋体"/>
              </a:rPr>
              <a:t>《歌剧魅影》的获奖情况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    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包括最佳音乐剧、最佳导演、最佳男主角在内的七项托尼奖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 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88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奥利弗奖最佳音乐剧和最佳男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角奖。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    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988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年戏剧论坛奖六个奖项，其中杰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编曲和杰出作曲奖为韦伯独得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2373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Arial"/>
              </a:rPr>
              <a:t>《歌剧魅影》剧情介绍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545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片段欣赏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</a:rPr>
              <a:t>音乐剧《猫》介绍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880" y="3500280"/>
            <a:ext cx="87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创作背景及影响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90560" y="131256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Verdana"/>
              </a:rPr>
              <a:t>创作特点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    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作为一部由艾略特诗作改编的音乐剧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《猫》能够取得上述惊人的成绩，重要的是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它的成功应该归功于韦伯和莱斯在剧中的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多创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187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《猫》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剧</a:t>
            </a:r>
            <a:br>
              <a:rPr sz="3600"/>
            </a:b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照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812000" y="4648320"/>
            <a:ext cx="1332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片段欣赏</a:t>
            </a:r>
            <a:br>
              <a:rPr sz="72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3671640" cy="489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36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</a:rPr>
              <a:t>欣 赏 片 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Verdana"/>
              </a:rPr>
              <a:t>音乐剧介绍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773360"/>
            <a:ext cx="748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音乐剧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集歌、舞、剧于一体的表演娱乐艺术形式。经过一个世纪的演变和发展，它不仅成为当代最具商机和大众化的娱乐表演艺术形式，而且通过剧作家和作曲家的不懈努力，形成了不同的风格和流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686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Verdana"/>
              </a:rPr>
              <a:t>音乐剧的主要流派</a:t>
            </a:r>
            <a:r>
              <a:rPr b="1" lang="zh-CN" sz="3600" spc="-1" strike="noStrike">
                <a:solidFill>
                  <a:srgbClr val="ccecff"/>
                </a:solidFill>
                <a:latin typeface="Verdana"/>
              </a:rPr>
              <a:t>: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科恩、罗杰斯和小哈姆斯坦：音乐剧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典流派的泰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传统音乐剧的小歌剧流派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桑德海姆和普林斯：概念音乐剧流派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开拓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韦伯和莱斯：音乐剧现代流派的领军人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</a:rPr>
              <a:t>音乐剧</a:t>
            </a:r>
            <a:r>
              <a:rPr b="1" lang="zh-CN" sz="4400" spc="-1" strike="noStrike">
                <a:solidFill>
                  <a:srgbClr val="ccecff"/>
                </a:solidFill>
                <a:latin typeface="Verdana"/>
              </a:rPr>
              <a:t>《歌剧魅影》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</a:rPr>
              <a:t>介绍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050560" y="2708280"/>
            <a:ext cx="468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创作背景和社会影响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   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55640" y="1268280"/>
            <a:ext cx="741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创 作 特 点</a:t>
            </a:r>
            <a:r>
              <a:rPr b="1" lang="zh-CN" sz="3200" spc="-1" strike="noStrike">
                <a:solidFill>
                  <a:srgbClr val="ccec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首先，在创作风格上，《歌剧魅影》与《猫》的风格截然不同，是一部带有惊险样式的、情节十分吸引人的悬念音乐剧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23640" y="191628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其次，《歌剧魅影》成功的原因之一就是它所包含的惊险的情节和离奇的神秘性。这两个要素对于这部具有观赏性的音乐剧来说是必不可少的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11280" y="1773360"/>
            <a:ext cx="808344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音乐创作方面，故事发生在歌剧院的背景给韦伯作曲带来了极大的方便，使他创作起来得心应手。这样他既可以大量采用古典音乐的背景，又可以在音乐剧中套上歌剧，实现他早就梦想的创作形式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02:17:26Z</dcterms:created>
  <dc:creator>庹立明</dc:creator>
  <dc:description/>
  <dc:language>en-US</dc:language>
  <cp:lastModifiedBy>Sky123.Org</cp:lastModifiedBy>
  <dcterms:modified xsi:type="dcterms:W3CDTF">2015-10-28T02:59:27Z</dcterms:modified>
  <cp:revision>1809</cp:revision>
  <dc:subject/>
  <dc:title>大学生音乐修养</dc:title>
</cp:coreProperties>
</file>