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AB2-D6D7-4A34-820E-419E64F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0AB-ABCB-42A1-B794-04CF8C7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F5F-4E35-4296-946E-CC998814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7F2-554B-4512-A802-D4672D20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519-A6E3-4A60-AA50-3B7147C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C6-6994-4F9E-88FC-D298EE1D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019-A7D2-4D91-8D7D-1075A3D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066-FB4C-42FB-850D-2C66946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EFC-7E7C-4072-B7B4-6F1AB6A4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6A0-E54A-48DF-8088-7DB1EA7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DFB-A976-441B-9C6B-805610F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090-7F65-4418-8845-377CC92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E71F-8A18-45A1-ABFC-1F12E9B61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9240" y="-2273040"/>
            <a:ext cx="2771280" cy="11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勇气果敢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 </a:t>
            </a: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树立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47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5880" y="333360"/>
            <a:ext cx="71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实分析一下卓越人物的人格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就会看到他们有一个共同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开始做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总是充分相信自己的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扫除一切险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直到胜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086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3336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泽征尔是世界著名的音乐指挥家，一次他去欧洲参加指挥大赛，决赛时，他被安排在最后。评委交给他一张乐谱，小泽征尔稍做准备便全神贯注地指挥起来。突然，他发现乐曲中出现了一点不和谐，开始他以为是演奏错了，就指挥乐队停下来重奏，但仍觉得不自然，他感到乐谱确实有问题。可是，在场的作曲家和评委会权威人士都声明乐谱不会有问题，是他的错觉。面对几百名国际音乐界权威，他不免对自己的判断产生了动摇。但是，他考虑再三，坚信自己的判断是正确的。于是，他大声说：“不！一定是乐谱错了！”他的声音刚落，评判席上那些评委们立即站起来，向他报以热烈的掌声，祝贺他大赛夺魁。  原来，这是评委们精心设计的一个圈套，以试探指挥家们在发现错误而权威人士不承认的情况下，是否能够坚持自己的判断，因为，只有具备这种素质的人，才真正称得上是世界一流音乐指挥家，在三名选手中，只有小泽征尔相信自己而不附和权威们的意见，从而获得了这次世界音乐指挥家大赛的桂冠。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402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98100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信并不是平白无故地就会附在一个人的身上，首先要有真才实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35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7600" y="2784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用一颗感恩的心去对待生活，用一种自信的姿态去诠释生命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954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38520" y="206064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谢谢大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973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9760" y="47628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勇气是上天的羽翼，怯懦却引人下地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                                    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------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希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00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出生在寂静的荒野上的一座简陋的小屋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全家被赶出居住地，他必须工作以抚养他们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年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母亲不幸去世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开始上学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自己制作了一艘摆渡船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经商失败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州议员落选，想进法学院学法律，但未获入学资格，工作也丢了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向朋友借钱经商，年底破产；接下来花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才把这笔钱还清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再次竞选州议员，当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订婚后即将结婚时，未婚妻病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精神完全崩溃，卧病在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月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努力争取成为州议员的发言人，没有成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760" y="47628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勇气是上天的羽翼，怯懦却引人下地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                                    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------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希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700280"/>
            <a:ext cx="83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争取成为被选举人落选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当选国会议员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参加国会大选，竞选国会议员连任落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再次参加国会大选，这次当选，前往华盛      顿特区，表现可圈可点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寻求国会议员连任失败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想在自己州内担任土地局长失败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参议员落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在共和党的全国代表大会上争取副总统的提名得票不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，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参议员再次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当选美国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就是 亚伯拉罕林肯，美国最伟大的总统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51664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勇敢的人说我能行，懦弱的人说我不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7640" y="4710240"/>
            <a:ext cx="525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雄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就该展翅高飞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732200"/>
            <a:ext cx="2843280" cy="212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4280"/>
            <a:ext cx="63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鹰可以活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，当鹰活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的时候将面临一次生死抉择！这主要是因为当它的生命到了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年头的时候，鹰的爪子开始老化，无法有力地捕捉猎物；它的喙变得又长又弯，会垂到胸脯的位置；它的翅膀会长出又密又厚的羽毛，让它的双翅变得沉重，难以飞翔。 此时的鹰只有两种选择：要么等死，要么经过一个十分痛苦的重生过程。如果想重生，鹰得独自飞到山顶，在山的高处准备重生。这是一个漫长而可怕的过程，重生的鹰要忍受莫大的痛苦和剧烈的身体创伤。重生的第一步是除去老化的喙，鹰用头抵着粗糙的岩石，在石壁上一下下地磨擦，把老化的喙皮一层层磨掉，直到完全被剥离。这时的鹰已经无法吞食食物，它不吃不喝，凭借体内不多的能量来支撑自己的生命，在痛苦的煎熬中静静等待。 几个月后，新的喙慢慢生长出来，鹰开始了重生的第二步。当新的喙长出来后，鹰使用喙把爪子上老化的趾甲一根根拔掉，鲜血一滴滴洒落……然后又是痛苦而漫长的等待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奄奄一息的鹰在痛苦中长出了新的趾甲，而此时它还得熬过最后一关：用新长出来的趾甲把身上又长又重的羽毛一根根拔掉。当新的羽毛长出来后，鹰完成了涅盘般的重生！新的喙、新的爪子，新的羽毛，鹰又能重新捕食了，重生后的鹰能够再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61120" y="0"/>
            <a:ext cx="288288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675640" y="6165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7660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9548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0480" y="2060640"/>
            <a:ext cx="843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心是命运的主宰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伦．凯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784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701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海伦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凯勒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880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出生，在她一岁半的时候，一场重病夺去了她的视力和听力，接着，她又丧失了语言表达能力。然而就在这黑暗而又寂寞的世界里，她竟然学会了读书和说话，并以优异的成绩毕业于美国拉德克利夫学院，成为一个学识渊博，掌握英、法、德、拉丁、希腊五种文字的著名作家和教育家。她走遍美国和世界各地，为盲人学校募集资金，把自己的一生献给了盲人福利和教育事业。一个聋盲人要脱离黑暗走向光明，最重要的是要学会认字读书。而从学会认字到学会阅读，更要付出超乎常人的毅力。海伦是靠手指来观察老师莎莉文小姐的嘴唇，用触觉来领会她喉咙的颤动、嘴的运动和面部表情，而这往往是不准确的。她为了使自己能够发好一个词或句子，要反复的练习，但海伦从会不在失败面前屈服。她的名字已经成为坚韧不拔意志的象征，传奇般的一生成为鼓舞人们战胜厄运的巨大精神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01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602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信是人类运用和驾驭宇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穷大智的唯一管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 所有奇迹的根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所有科学法则无法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奇妙神迹的发源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897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4:11:41Z</dcterms:created>
  <dc:creator>Lenovo User</dc:creator>
  <dc:description/>
  <dc:language>en-US</dc:language>
  <cp:lastModifiedBy>1</cp:lastModifiedBy>
  <dcterms:modified xsi:type="dcterms:W3CDTF">2010-12-20T07:28:28Z</dcterms:modified>
  <cp:revision>14</cp:revision>
  <dc:subject/>
  <dc:title>幻灯片 1</dc:title>
</cp:coreProperties>
</file>