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E9A-0578-4A38-8912-49D0CF17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440-2A41-48FA-9317-57808BD8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B7D-FD04-4603-A4E2-430486FD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2E6-3982-4164-806B-FA6DC34F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05DF-D00F-4E56-9FAF-D0EBF62F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0C43-B951-43A6-BDB5-72B780FA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F43B-E093-48C4-ADBE-7A6D098A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7BFF-5802-44D2-8F5E-79E1A160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3CA7-91A4-4B24-BF8E-60BC8DF3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0040" y="48096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05CD-F75D-4F06-9C11-D0E3981A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9BA0-3253-486D-875F-7E8CB521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F07-BF8A-4937-9AC4-7CCCB0D1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B632-6F0C-49A3-A666-115591AE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4DC4-DD51-465F-912A-58514232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E515-6EAB-487B-A174-F0622F16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9CC7-1B95-4934-8FC8-C42268DF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EF2C-0F63-41F7-AE80-88DDF679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CED-AF80-470B-B067-806D8931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832-059F-4514-A17C-978B114B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CB90-342B-45CF-AC11-A6E7FB90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0040" y="48096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E63-FF38-4760-BD6C-A0765E89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DC4-DA5C-4579-96FF-91FBB72A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FBC-E202-4C04-9D22-56519ECF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DB6-E539-490E-A0C2-6B9A89AE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F32C-C19E-4F41-8AA0-F81BA2C042DE}" type="slidenum"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3828-8CF0-46B0-9E3B-100E7986692E}" type="slidenum"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44720" y="436572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一、一 班家长会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187280" y="1486080"/>
            <a:ext cx="68421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培养好习惯成就好人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4" name="风的色彩.mp3" descr="风的色彩"/>
          <p:cNvPicPr/>
          <p:nvPr/>
        </p:nvPicPr>
        <p:blipFill>
          <a:blip r:embed="rId1"/>
          <a:stretch/>
        </p:blipFill>
        <p:spPr>
          <a:xfrm>
            <a:off x="7596360" y="6453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92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612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小学后，孩子上课和完成作业很大程度上需要较强的坚持性。家长可以有意识地延长孩子注意力集中的时间。孩子做功课的时候，尽量在旁边辅导，可以及时帮助，提高学习效率。等到孩子养成独立完成功课的习惯后，家长再由辅导转到督促和检查上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给孩子创造一个</a:t>
            </a:r>
            <a:r>
              <a:rPr b="1" lang="zh-CN" sz="40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安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学习环境。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关注天气变化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及时给孩子添加衣服，帮孩子带好纸巾、手纸。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能带玩具及其他尖锐、易吞食的危险物品，</a:t>
            </a:r>
            <a:r>
              <a:rPr b="1" lang="zh-CN" sz="40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不提倡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将零食和零钱带到学校，</a:t>
            </a:r>
            <a:r>
              <a:rPr b="1" lang="zh-CN" sz="40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吃零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响课堂纪律、破坏教室卫生、就餐好习惯难以养成，孩子因此受任课老师、班主任多重批评，更会影响其情绪。应教育孩子养成节俭的好习惯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严格控制孩子在家看电视的时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</a:t>
            </a:r>
            <a:r>
              <a:rPr b="1" lang="en-US" sz="44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点之前上床睡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不玩电脑游戏。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休日要求：孩子在家不能一整天看电视或是玩，要安排好一定的时间学习。在家和在校的要求要一样。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3534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留下家长多个联系方式，如日后有变更及时通知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校服，两身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任何交费要及时，提前用铅笔在钱上写上孩子的名字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学扫地。在家教孩子怎么扫地，免得轮到你的孩子做值日生时不会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自己收拾书包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检查作业。养成良好的学习习惯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610720" y="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温馨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7488360" cy="27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</a:rPr>
              <a:t>低年级教育的重点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</a:rPr>
              <a:t>培养习惯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227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一年级新生应该重点培养的行为习惯：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</a:rPr>
              <a:t>良好的生活习惯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）培养孩子的独立意识  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）培养孩子生活自理能力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）培养孩子学习方面的动手操作能力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）培养孩子服务性劳动的能力。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楷体_GB2312"/>
              </a:rPr>
              <a:t>（在家教孩子怎么扫地，免得轮到你的孩子做值日生时不会做）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</a:rPr>
              <a:t>）培养孩子的时间观念。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宋体"/>
              </a:rPr>
              <a:t>树立孩子的安全意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5406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良好的学习习惯：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）严格遵守作息时间的习惯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保证充沛的精力，提高学习效率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做法：制定合理的作息时间，严格督促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） 上课认真听（教师、同学）的习惯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轻松、优质的学习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做法：询问孩子的学习内容聆听孩子的讲述及时给与帮助和鼓励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效果：家长的关心会促使孩子更加认真的听课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）爱想、爱问和积极回答问题的习惯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举手的频率反映了孩子参与学习的程度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应做：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教育孩子积极举手回答问题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当孩子没有得到发言权而灰心时，应及时引导孩子正确认识举手的作用：让老师知道我会了，我是一个聪明的孩子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效果：因积极参与学习而提高学习效率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333000"/>
            <a:ext cx="8396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）专心写作业的习惯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重要性：提高学习效率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问题：边写边玩，边吃边玩，作业费时费力错误百出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家长：教育，限定作业时间，通过做其他事情培养专心做事的习惯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）正确地握笔写字、看书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重要性：影响身体（视力、身姿），影响读书写字的   速度和质量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问题：趴着读书、躺着看书；执笔姿势不正确，身体姿势不正确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家长：多观察，勤督促，持之以恒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39628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</a:rPr>
              <a:t>）读书的习惯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重要性：著名语言学家、语文教育家吕书湘先生曾讲：语文学习的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70%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得益于课外阅读。小学语文教学大纲中也明确规定了小学生的课外阅读量：六年制不少于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150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万字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家长：尊重孩子的读书喜好，买适合孩子的课外读物。忌独断、强迫，正确引导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华文细黑"/>
              </a:rPr>
              <a:t>作 息 时 间</a:t>
            </a:r>
            <a:endParaRPr b="0" lang="en-US" sz="7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D:\湛欢\图片\e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21120" y="188640"/>
            <a:ext cx="91407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00d6"/>
                </a:solidFill>
                <a:latin typeface="华文细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0" y="1628640"/>
            <a:ext cx="8137440" cy="188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  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让孩子爱上读书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6360" y="333360"/>
            <a:ext cx="85392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88c"/>
                </a:solidFill>
                <a:latin typeface="华文细黑"/>
              </a:rPr>
              <a:t>必读：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猜猜我有多爱你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（绘本）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逃家小兔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我爱我爸爸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（绘本）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红鞋子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爷爷一定有办法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安徒生童话选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（拼音读物或绘本）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格林童话选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6360" y="0"/>
            <a:ext cx="8539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选读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哪吒传奇故事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王一梅童话系列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小企鹅心灵成长故事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晚上的浩浩荡荡童话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可爱的鼠小弟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你看起来好像很好吃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丁丁历险记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了不起的狐狸爸爸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胡萝卜种子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小精灵的秋天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1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小猪唏哩呼噜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大个子老鼠小个子猫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3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豆蔻镇的居民和强盗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4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兔子坡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5</a:t>
            </a:r>
            <a:r>
              <a:rPr b="1" lang="zh-CN" sz="3200" spc="-1" strike="noStrike">
                <a:solidFill>
                  <a:srgbClr val="ff388c"/>
                </a:solidFill>
                <a:latin typeface="华文细黑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稻草人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392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）爱护书本及学习用品的习惯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形成细心、整洁的习惯，初步形成节俭意识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：经常检查孩子的文具、书本，教育孩子保护好自己的文具。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5280" y="83664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</a:rPr>
              <a:t>、培养孩良好的行为习惯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重要性：先学做人，后学做事。教育以德为先，人品决定事业的发展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、要求孩子在集体生活中，在活动与交往中学会使用 礼貌用语（您好、再见、谢谢、对不起、请等）；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、要求孩子正直善良，具有无私宽容的品德。在学校尊敬师长，团结同学，与人友好相处，平等相处，平等待人，不逞强、不霸道，要控制自己的行为，不能打架骂人。（家长理智处理孩子间的小矛盾）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WordArt 2" descr=""/>
          <p:cNvPicPr/>
          <p:nvPr/>
        </p:nvPicPr>
        <p:blipFill>
          <a:blip r:embed="rId1"/>
          <a:stretch/>
        </p:blipFill>
        <p:spPr>
          <a:xfrm>
            <a:off x="817560" y="530280"/>
            <a:ext cx="6637320" cy="933480"/>
          </a:xfrm>
          <a:prstGeom prst="rect">
            <a:avLst/>
          </a:prstGeom>
          <a:ln w="0">
            <a:noFill/>
          </a:ln>
        </p:spPr>
      </p:pic>
      <p:pic>
        <p:nvPicPr>
          <p:cNvPr id="125" name="WordArt 3" descr=""/>
          <p:cNvPicPr/>
          <p:nvPr/>
        </p:nvPicPr>
        <p:blipFill>
          <a:blip r:embed="rId2"/>
          <a:stretch/>
        </p:blipFill>
        <p:spPr>
          <a:xfrm>
            <a:off x="1109520" y="1974960"/>
            <a:ext cx="6723360" cy="1006200"/>
          </a:xfrm>
          <a:prstGeom prst="rect">
            <a:avLst/>
          </a:prstGeom>
          <a:ln w="0">
            <a:noFill/>
          </a:ln>
        </p:spPr>
      </p:pic>
      <p:pic>
        <p:nvPicPr>
          <p:cNvPr id="126" name="WordArt 4" descr=""/>
          <p:cNvPicPr/>
          <p:nvPr/>
        </p:nvPicPr>
        <p:blipFill>
          <a:blip r:embed="rId3"/>
          <a:stretch/>
        </p:blipFill>
        <p:spPr>
          <a:xfrm>
            <a:off x="1212840" y="3486240"/>
            <a:ext cx="5962680" cy="598320"/>
          </a:xfrm>
          <a:prstGeom prst="rect">
            <a:avLst/>
          </a:prstGeom>
          <a:ln w="0">
            <a:noFill/>
          </a:ln>
        </p:spPr>
      </p:pic>
      <p:pic>
        <p:nvPicPr>
          <p:cNvPr id="127" name="WordArt 5" descr=""/>
          <p:cNvPicPr/>
          <p:nvPr/>
        </p:nvPicPr>
        <p:blipFill>
          <a:blip r:embed="rId4"/>
          <a:stretch/>
        </p:blipFill>
        <p:spPr>
          <a:xfrm>
            <a:off x="701640" y="4700520"/>
            <a:ext cx="753444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ordArt 2" descr=""/>
          <p:cNvPicPr/>
          <p:nvPr/>
        </p:nvPicPr>
        <p:blipFill>
          <a:blip r:embed="rId1"/>
          <a:stretch/>
        </p:blipFill>
        <p:spPr>
          <a:xfrm>
            <a:off x="1523880" y="1189080"/>
            <a:ext cx="6645240" cy="1603440"/>
          </a:xfrm>
          <a:prstGeom prst="rect">
            <a:avLst/>
          </a:prstGeom>
          <a:ln w="0">
            <a:noFill/>
          </a:ln>
        </p:spPr>
      </p:pic>
      <p:pic>
        <p:nvPicPr>
          <p:cNvPr id="129" name="WordArt 3" descr=""/>
          <p:cNvPicPr/>
          <p:nvPr/>
        </p:nvPicPr>
        <p:blipFill>
          <a:blip r:embed="rId2"/>
          <a:stretch/>
        </p:blipFill>
        <p:spPr>
          <a:xfrm>
            <a:off x="171360" y="3468600"/>
            <a:ext cx="876456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187280" y="2708280"/>
            <a:ext cx="7696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1249200" cy="11080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 rot="5400000">
            <a:off x="3457080" y="2095560"/>
            <a:ext cx="5399280" cy="172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的孩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共同教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33280"/>
            <a:ext cx="885672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59"/>
                </a:solidFill>
                <a:latin typeface="华文细黑"/>
              </a:rPr>
              <a:t>上午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0----1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55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（上三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节课）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7: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4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开始晨读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59"/>
                </a:solidFill>
                <a:latin typeface="华文细黑"/>
              </a:rPr>
              <a:t>下午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0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到校，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上课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放学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值日生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4:2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之前。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星期一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4:45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放学 ，值日生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5:2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之前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17360"/>
            <a:ext cx="885672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88c"/>
                </a:solidFill>
                <a:latin typeface="华文细黑"/>
              </a:rPr>
              <a:t>注意事项：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上学都不可以迟到，也别早到。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家长在接送学生时要严格遵守学校规定的时间、地点。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因病、因事不能到校上课者，及时请假。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手机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395486025</a:t>
            </a:r>
            <a:endParaRPr b="0" lang="en-US" sz="6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54936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二、学习用品的准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铅笔盒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尽量简洁、实用，不宜太花俏，大小适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铅笔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每天在铅笔盒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里应该准备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支左右削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铅笔。（中午、晚上回家再削好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-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年级不准使用自动铅笔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橡皮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一定要擦得干净，保证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1890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直尺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5CM——20C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均可，塑料的，刻度清晰，能放进铅笔盒，不要太花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准备彩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以备上课用，不要太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准备几本练习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包书皮，把同步最好是用针线缝一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以上的所有用具都要写上或贴上孩子的名字，以免丢失找不到或是无人认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、所有学习用品要安全、简单，太花哨或功能太多的文具会影响孩子上课专心听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260280"/>
            <a:ext cx="9325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作业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孩子准备记作业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晚上都要检查孩子的作业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看是否完成，是否认真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都要帮孩子认读复习要求认识的生字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星期听写一次学过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孩子在家做作业的时候，要求家长关注孩子的写字姿势，并让孩子认真对待每天的家庭作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260280"/>
            <a:ext cx="9325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孩子的书写要严格要求，要求做到工整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线题要用尺子来连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养成良好的学习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做完作业后要求孩子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复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天学过的内容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再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习后面的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让孩子养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预习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习惯。（大声读课文，正确、通顺；数学准备学具，其他学科准备相关物品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664640"/>
            <a:ext cx="91440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管有没有作业，都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求孩子读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尤其是在拼音方面一定要让孩子多拼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注重古诗词的积累，多读课外书！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注孩子每次单元测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看孩子的弱项，并根据弱项进行复习指导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试卷要签名，签意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意见签在卷面台头上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真对待口头作业。（朗读、背诵作业认真检查过关，每天保证至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的阅读时间：课内、背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课外亲子阅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22:51:57Z</dcterms:created>
  <dc:creator>xhqqhm</dc:creator>
  <dc:description/>
  <cp:keywords/>
  <dc:language>en-US</dc:language>
  <cp:lastModifiedBy>User</cp:lastModifiedBy>
  <cp:lastPrinted>1899-12-30T00:00:00Z</cp:lastPrinted>
  <dcterms:modified xsi:type="dcterms:W3CDTF">2012-11-24T00:09:22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