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B81-CD57-4FCC-B8F7-9A923026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CF3-1A45-4BC7-AA32-D25C48B2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818-9124-4D87-A770-FEFEB81D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0D0-9F28-4248-BAB4-515207CF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8CE-5049-4376-B53F-BC4B693D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3A4-E7DF-49D4-BB0C-EED292FB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D05-0CD8-4B39-8E04-20973985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BF5-9BE8-497A-9995-D8D914EF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9EA-2697-476C-B5BC-F9CF98EB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6EE-08FD-43CA-BD5D-F337DF60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27B-396C-437C-BDD6-79803D9C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80E-E05E-41DD-A5E0-65334AA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4C18-C4E4-4741-A73A-6929EE1A43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17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63640" y="69228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两首高考诗的鉴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5640" y="64612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广水一中     付卫平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46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76720" y="476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首联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通过视觉描写展现了落叶翻飞的情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场秋雨过后，庄稼已经收割了，闲置着的田地显得格外空旷，只见深红色的落叶脱离树干，层层叠叠地在半空里飞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860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颔联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以拟人化的手法，描写落叶的心理活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落叶思绪翻飞，一心向往着春日，哪里肯相信自己在凭借秋风而飞舞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64000" y="1628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颈联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描写落叶飘零的动态情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的翻飞着随流水而去，有的在暮色苍茫的河边盲目地飘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436572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尾联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直抒胸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自己要像青松那样傲然挺立，四季常青，而不做落叶，随风飘荡，任意东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492000" y="954000"/>
            <a:ext cx="5651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示例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翻思”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由实写到虚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从眼前景写到春日景，体现了不同季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用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对比手法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达强烈的感受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示例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二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拟人手法对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写出落叶矛盾的心理状态，第一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视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描写，红字言简意深，第三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动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描写落叶飘零，无处着落的凄惨的处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用：呼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题目，为后文对比写松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蓄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营造凄凉的环境氛围。 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98920" y="40464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从落叶的角度看，第二联与一、三两联的不同是如何体现出来的？这样写有什么作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08000" y="981000"/>
            <a:ext cx="47624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示例三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从落叶角度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二联用拟人手法，对比写出落叶的矛盾状态。（修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从旁观者角度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出了落叶的情态。第一联具体从静态写出了落叶的繁多和艳丽；第三联具体从动态写出了落叶的随水随风的飘落。（描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98920" y="40464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从落叶的角度看，第二联与一、三两联的不同是如何体现出来的？这样写有什么作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419280" y="1412640"/>
            <a:ext cx="5724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示例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对比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突出 对落叶的感叹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示例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借物抒怀，以物喻人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松树的四季常青的高贵品质，表现了作者洁身自好、不入世俗的孤傲清高品质和追求自由、超凡脱俗的情感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45160" y="6922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本诗最后一联为什么写松？请简要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03280" y="1341360"/>
            <a:ext cx="57610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示例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用松“立”与叶“落”二者不同构成对比，表达对松树不同的赞美，强化对落叶飘零的感慨。作者借物抒怀，表达了诗人清高、超凡脱俗的情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45160" y="6922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本诗最后一联为什么写松？请简要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2873520" cy="354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53080" y="-14400"/>
            <a:ext cx="3089160" cy="2602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360" y="112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同学们，欣赏诗歌要多读、多积累、多感悟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50292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野      菊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40000" y="2276280"/>
            <a:ext cx="753408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0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5256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未与：不给。不追求被文人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况：何况。更不肯。更不肯随流俗在重阳节被俗人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政：正。缘：因为。正因为在野外更有清幽淡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哪肯因为无人，剪掉自己的幽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已是傍晚时分，在绿色的半山腰中与野菊相逢。即使匆忙也要折一枝淡黄的野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野菊应该嘲笑东篱下被人赏识的家菊。因为它还媚求陶渊明的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40000" y="1483920"/>
            <a:ext cx="4762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答案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颔联描绘了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长于山野、花色清淡、香气清馨，不因无人欣赏而自减其香，不为外部环境而改变内心的高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野菊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41760" y="81612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颔联描绘了怎样的野菊形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5280" y="259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请自选角度赏析颈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11280" y="1341000"/>
            <a:ext cx="4716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赏析角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现手法、表达方式、修辞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诗歌写作技巧方面考虑，还可以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炼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度，赏析用字的形象和传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表现手法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用典、联想、想象、对比、衬托、渲染、象征、抑扬、照应、动静、正侧、起兴、虚实、直抒胸臆、借景抒情、托物言志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修辞方法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比喻、比拟、借代、对偶、夸张、排比、反问、设问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表达方式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记叙、描写（角度、特征、方法）、议论、抒情（直抒胸臆和间接抒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50920" y="333360"/>
            <a:ext cx="5040360" cy="78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描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抓住色彩的特征赏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碧”和“黄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相互映衬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修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“已”和“便”构成串对，“半山”和“一枝”对应，突出野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借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“碧”代山林翠绿，“黄”代“菊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抒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度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喜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炼字角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逢” “忙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的妙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067280" y="549360"/>
            <a:ext cx="4752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例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对仗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对仗工整，“半山碧”“一枝黄”色彩对比鲜明，勾勒出色彩鲜明的图景。表现对野菊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借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特征代本体，使得画面形象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相逢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野菊拟人化，表现对它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忙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现诗人欣喜之情，形象写出对野菊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95280" y="1413000"/>
            <a:ext cx="4916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句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菊东篱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托物言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借写野菊表明自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孤芳自赏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“未与” ）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率性自然，超凡脱俗的清高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“肯为无人” “冷笑” ）的志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924360" y="4759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尾联化用了陶渊明哪句诗？表达了作者怎样的志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6121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  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75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25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11:02:58Z</dcterms:created>
  <dc:creator>微软用户</dc:creator>
  <dc:description/>
  <dc:language>en-US</dc:language>
  <cp:lastModifiedBy>dell</cp:lastModifiedBy>
  <dcterms:modified xsi:type="dcterms:W3CDTF">2012-11-29T13:27:20Z</dcterms:modified>
  <cp:revision>14</cp:revision>
  <dc:subject/>
  <dc:title>暑假作业检测复习卷 答案</dc:title>
</cp:coreProperties>
</file>