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2AA-89B0-4837-8DB5-4340D0E6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F6D-A71C-41B8-8680-712B3A2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0D9-DF7C-4A07-9C81-B7D908C1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1B4-ACF4-485D-9D80-11CE2A6D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A20-A8D7-47C1-9ECF-FCABB45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91E4-61F0-48E0-94F6-08AF2DE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7C92-0B07-40A7-884E-E1E4FCC8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26EE-4502-4311-8625-D49E883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C89-803E-4C19-A8EF-94B2194E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2F48-DECA-49CB-9AF4-AE919D2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665F-2EB6-4E33-9011-EC5E88A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5B0-8CF2-423F-AE75-A659CD9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AAA-31F2-4981-A753-AEDCF0C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481C-A21F-4125-9334-CF5869B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0E1D-C31A-4AC1-BA43-8E705867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523C-16D2-41C1-8A31-17731B5C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1AB1-D25E-4F36-A876-B41A4A98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D4C-2655-437D-BA05-CFE51CE5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FDB-3315-4A94-9B4F-DFC1AE83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F57-7FEB-4F1E-84CA-7CF66718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F82-131B-482B-8941-D59C2D9F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528-FC36-4364-9286-886D054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636-8AB8-4A39-B0D2-0EACD95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FAB-E448-4885-9773-469A7229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8820-BB32-4ECB-A2A9-0B957C60BB13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4DC7-3CB8-4B6C-A692-8950DAE2C82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A7F7-05B0-44D8-A43F-CEC9A292D974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49C1-A43E-4A92-98FD-60E19876C4EB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jz42.com/Article_Print.asp?ArticleID=28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ws.tom.com/Archive/2002/4/18-80333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m.gov.cn/gb/employment/2006-12/08/content_152503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  <a:ea typeface="方正北魏楷书简体"/>
              </a:rPr>
              <a:t>员工职业心态训练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改变不了事情，就改变对待事情的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35812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活就是一面镜子，你笑，它也笑；你哭，它也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国作家萨克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248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328-9D95-4E5C-96E4-B65D6D29122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710FF-82BC-42F3-BC34-2567F903A9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6560"/>
            <a:ext cx="82296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一个人因为发生的事情所受到的伤害，不如他对这个事情的看法更严重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事情本身不重要，重要的是人对这个事情的态度。所以，如果改变不了事情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就改变对这个事情的态度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05240" y="914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态度变了，事情就变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248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9DB-2AF2-44B7-94E2-9259F2B3FB0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84EA7-BCA4-445D-95B2-6B415E402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47560" y="1447920"/>
            <a:ext cx="6389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改变不了环境，但可以改变自己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改变不了事实，但可以改变态度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改变不了过去，但可以改变现在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不能控制他人，但可以掌握自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616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9FA-06BD-4858-B937-5C416D697F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83820-136C-418A-8949-A785959647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7480" y="13190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知足常乐，正确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66688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和盖茨比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和布什比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和兔子比赛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5960" y="4419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上肯定不足，比下肯定有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8800" y="228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33"/>
                </a:solidFill>
                <a:latin typeface="Arial"/>
              </a:rPr>
              <a:t>阳光心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DD0-1FBF-4611-96C0-7B2DF4EB3FC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9A754-D5B3-4EED-A092-BDDD3FDADF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060440" y="22334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酸甜苦辣才是真正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4B9-2F54-4487-8C8C-C1FDFA1BEBC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1EFED-6A69-43A7-8531-F795A1C55D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第二种  积极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0FF-527B-4A87-9A56-157D329D64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B5081-EE29-4EBC-8C36-B4517F6C10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8040" y="277920"/>
            <a:ext cx="7927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成就你人生的十大积极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执著：对个人、企业和团队目标、价值观坚定不移的信念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挑战：勇敢地挺身而出，积极地迎接变化和新的任务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热情：对自己的工作以及公司的产品、服务、品牌和形象具有强烈的感情和浓厚的兴趣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奉献：全心全意完成工作或处理事务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激情：始终对未来充满憧憬和希望，对现在全力以赴地投入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愉快：乐于接受微笑、乐趣，并分享成功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爱心：助人为乐，感恩心态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自豪：因为自身价值或团队成绩而深感荣耀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渴望：强烈的成功欲望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信赖：相信他人和集体的素质、价值和可靠性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C46-9C45-4BEF-B21D-54E5C41BE9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E3696-C416-4A4B-98EA-5CEEE72708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毁坏你人生的十大消极心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畏惧：面对困难缩头缩脚，没有目标或对自己、公司的目标缺乏信心，不敢接受任务和挑战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愤怒：因假想的对立或莫名的原因而产生极大的痛苦与敌意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冷漠：事不关己，高高挂起，脸色整天阴云密布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紧张：头脑、身体和情绪处于焦虑和不安的状态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忧虑：对可能出现的困难、任务或问题感到寝食难安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敌意：对立或反抗的行为，过于强烈的厌恶感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嫉妒：对团队、他人的成就或优秀素质心生不满甚至感到气愤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贪婪：无休止、无节制地追求享受、金钱、地位、名誉或权力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自私：从自身利益出发，全然不顾他人的感受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麻木：得过且过，没有兴趣和热情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5B1-BD9C-4BE6-97BE-B5F713C431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DC43C-F1A0-4959-8584-55EE28CB8B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23760" y="838080"/>
            <a:ext cx="51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说“我办不到”——积极与消极语态对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90512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试试看其他可能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可以控制自己的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可以选择不同的作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能选择恰当的回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能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8288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已无能为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就是这样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把我快给气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板肯定不会同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被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是因为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872-FAD5-4D15-A8F2-AFD970103E9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4EAF5-81E9-4204-9D7E-3C2D6FAD24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01720" y="990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、正确处理好三件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2860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上只有三件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——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己的事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——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人的事”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——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天爷的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072-C3D5-4C91-AC48-0D780EF5B91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6A01C-7810-4CDB-B971-BEB03ACA3D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5715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Garamond"/>
              </a:rPr>
              <a:t>心态决定人生成败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心态就是决定我们心理活动和左右我们思维的一种心理态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205-825D-4B1B-8A1C-996805D855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1AFA9-4445-415E-A529-0A4C069D7E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37360" y="1295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积极的人与消极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83356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积极的人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理好“自己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去管“别人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操心“老天爷的事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819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消极的人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管不好“自己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管“别人的事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操心“老天爷的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D75-DA7F-4DD3-80CB-EEB653A9FF4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46E60-4B01-493B-8E66-F008443C59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8040" y="732960"/>
            <a:ext cx="79279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执著追求，死皮赖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362320"/>
            <a:ext cx="2971800" cy="3152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2286000"/>
            <a:ext cx="2303640" cy="3200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29400" y="2362320"/>
            <a:ext cx="222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疯狂”就是表扬我时我清醒，批评我时我感激，把失望变为动力，把打击变为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DF1-50C6-43B4-8C53-F7AE7D09EF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10C54-D264-435D-B3A7-8B0069EBD2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2500" spc="-1" strike="noStrike">
                <a:solidFill>
                  <a:srgbClr val="006633"/>
                </a:solidFill>
                <a:latin typeface="Garamond"/>
              </a:rPr>
              <a:t>、当自己面对困难和挫折时，这样提问自己：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“这件事有什么好的、积极的方面？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“我要如何来利用？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）“我应该如何化不利为有利，化困难为机遇，化悲痛为力量？化被动为主动？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AB7-2183-458A-8C4A-121E657EF0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7DCCF-7049-48B8-A4FD-690A11A539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91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、</a:t>
            </a:r>
            <a:r>
              <a:rPr b="1" lang="zh-CN" sz="2500" spc="-1" strike="noStrike">
                <a:solidFill>
                  <a:srgbClr val="006633"/>
                </a:solidFill>
                <a:latin typeface="Garamond"/>
              </a:rPr>
              <a:t>每天早晨提问自己三个问题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1689120"/>
            <a:ext cx="792972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现在有什么事情让我感到快乐——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现在有什么事情让我感到振奋——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）现在有什么事情值得我去追求——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41F-1AD0-4C3A-9214-3369CB2A7B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C7A52-18FC-4308-A201-D8F870B866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CN" sz="2500" spc="-1" strike="noStrike">
                <a:solidFill>
                  <a:srgbClr val="006633"/>
                </a:solidFill>
                <a:latin typeface="Garamond"/>
              </a:rPr>
              <a:t>、每天晚上提问自己三个问题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我今天为自己或别人作出了什么贡献和努力？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我今天最高兴、最自豪的一件事是什么？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明天有什么事情值得我去追求？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A08-05B5-4E48-8F74-9B60A94142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EB65D-4FF4-407F-8D7C-2ACA33C9D6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6520" y="10666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有什么样的想法，就有什么样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1981080"/>
            <a:ext cx="4800600" cy="1371600"/>
          </a:xfrm>
          <a:prstGeom prst="wedgeRectCallout">
            <a:avLst>
              <a:gd name="adj1" fmla="val -42592"/>
              <a:gd name="adj2" fmla="val 976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只有提出好的问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才能得到好的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0A7-8390-41BF-91AE-69579CEC0A0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951F6-F4C0-46AE-99A0-DC9AE8E32C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第四种  老板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679-E8D0-45E4-8759-23A6C589353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54161-7D12-4C3C-ACD5-230E520DC7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33"/>
                </a:solidFill>
                <a:latin typeface="Garamond"/>
              </a:rPr>
              <a:t>讨论：假如你是老板——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你最关心的五个方面是什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你最喜欢下属怎么做（什么样的下属）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你最讨厌或反对下属怎么做（什么样的下属）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7C4-7B94-410F-8794-4B0EEDB21A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E8FB9-1B3E-4B90-AD3B-1AD833CBF1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6633"/>
                </a:solidFill>
                <a:latin typeface="Garamond"/>
              </a:rPr>
              <a:t>像老板那样思考和行动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个字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四个字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1447920"/>
            <a:ext cx="3456000" cy="1726920"/>
          </a:xfrm>
          <a:prstGeom prst="cloudCallout">
            <a:avLst>
              <a:gd name="adj1" fmla="val -118856"/>
              <a:gd name="adj2" fmla="val 19759"/>
            </a:avLst>
          </a:prstGeom>
          <a:solidFill>
            <a:srgbClr val="ffff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</a:rPr>
              <a:t>钱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3483000"/>
            <a:ext cx="3311280" cy="2232000"/>
          </a:xfrm>
          <a:prstGeom prst="wedgeRectCallout">
            <a:avLst>
              <a:gd name="adj1" fmla="val -138208"/>
              <a:gd name="adj2" fmla="val -686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多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好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21C-3A83-47BD-B15A-645BBBB9AA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D9F88-2386-4C4A-B99F-E174658920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68240" y="1317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贯彻始终的四个大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2209680"/>
            <a:ext cx="7848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多快好省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F06-20A4-4ADF-9E52-F81DFD8BBC7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9B54F-6BDD-4DC7-A026-23FEF18164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62.28%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职场人的快乐指数令人担忧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3716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844720" y="3506760"/>
          <a:ext cx="1557360" cy="218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4720" y="3506760"/>
                    <a:ext cx="1557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24000" y="3068640"/>
          <a:ext cx="1355400" cy="251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068640"/>
                    <a:ext cx="1355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9640" y="1125360"/>
            <a:ext cx="3097440" cy="1511640"/>
          </a:xfrm>
          <a:prstGeom prst="cloudCallout">
            <a:avLst>
              <a:gd name="adj1" fmla="val -30212"/>
              <a:gd name="adj2" fmla="val 7342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7.72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网友选择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的来说是快乐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1125360"/>
            <a:ext cx="2484360" cy="180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2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1.64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网友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快乐的时候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1752480"/>
            <a:ext cx="2376360" cy="1871640"/>
          </a:xfrm>
          <a:prstGeom prst="cloudCallout">
            <a:avLst>
              <a:gd name="adj1" fmla="val -35907"/>
              <a:gd name="adj2" fmla="val 835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.64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网友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很痛苦，想换工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7FA-3443-4C98-A36E-43A5B97D3E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3ACCF-0264-49AE-83C2-020B03D171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做企业和老板最放心的那种人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2060640"/>
            <a:ext cx="2232000" cy="1297080"/>
          </a:xfrm>
          <a:prstGeom prst="wedgeRectCallout">
            <a:avLst>
              <a:gd name="adj1" fmla="val -13013"/>
              <a:gd name="adj2" fmla="val 1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人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32360" y="3500280"/>
            <a:ext cx="2232000" cy="1297080"/>
          </a:xfrm>
          <a:prstGeom prst="wedgeRectCallout">
            <a:avLst>
              <a:gd name="adj1" fmla="val -13013"/>
              <a:gd name="adj2" fmla="val 17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66"/>
                </a:solidFill>
                <a:latin typeface="Arial"/>
                <a:ea typeface="黑体"/>
              </a:rPr>
              <a:t>人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3500280"/>
            <a:ext cx="2232000" cy="1297080"/>
          </a:xfrm>
          <a:prstGeom prst="wedgeRectCallout">
            <a:avLst>
              <a:gd name="adj1" fmla="val -13013"/>
              <a:gd name="adj2" fmla="val 177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人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2060640"/>
            <a:ext cx="2232000" cy="1297080"/>
          </a:xfrm>
          <a:prstGeom prst="wedgeRectCallout">
            <a:avLst>
              <a:gd name="adj1" fmla="val 2916"/>
              <a:gd name="adj2" fmla="val -2629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66"/>
                </a:solidFill>
                <a:latin typeface="Arial"/>
                <a:ea typeface="黑体"/>
              </a:rPr>
              <a:t>人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084640"/>
            <a:ext cx="511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68360" y="1773360"/>
            <a:ext cx="0" cy="33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5157720"/>
            <a:ext cx="1152360" cy="6476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1916280"/>
            <a:ext cx="647640" cy="10080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638-112B-4DB4-9612-A97D95DBD3C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FA080-EE67-409C-8FD0-B1ED716AD3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19810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b3b0b"/>
                </a:solidFill>
                <a:latin typeface="Arial"/>
              </a:rPr>
              <a:t>第五种  共赢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405-D452-4506-822B-9F054C2B37F2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1887A-7F26-4A62-9223-DBF3065823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、情商比智商重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9960" y="2139840"/>
            <a:ext cx="7507080" cy="30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智商决定录用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情商决定提升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C56-9D7F-434D-9C75-11EB64DCDED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48624-D977-4130-AD19-26DA95D11E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21337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专业知识在一个人成功中的作用只占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％，而其余的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％则取决于人际关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1FF-5524-4BD0-8F90-7F20664D8CA1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61892-5647-4BED-8880-F70D9EC257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84720" y="2133720"/>
            <a:ext cx="2232000" cy="1439640"/>
          </a:xfrm>
          <a:prstGeom prst="wedgeRectCallout">
            <a:avLst>
              <a:gd name="adj1" fmla="val -14152"/>
              <a:gd name="adj2" fmla="val 282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风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645000"/>
            <a:ext cx="2232000" cy="1439640"/>
          </a:xfrm>
          <a:prstGeom prst="wedgeRectCallout">
            <a:avLst>
              <a:gd name="adj1" fmla="val -14152"/>
              <a:gd name="adj2" fmla="val 2827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怀才不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645000"/>
            <a:ext cx="2232000" cy="1439640"/>
          </a:xfrm>
          <a:prstGeom prst="wedgeRectCallout">
            <a:avLst>
              <a:gd name="adj1" fmla="val -14152"/>
              <a:gd name="adj2" fmla="val 2827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淘汰出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2133720"/>
            <a:ext cx="2232000" cy="1439640"/>
          </a:xfrm>
          <a:prstGeom prst="wedgeRectCallout">
            <a:avLst>
              <a:gd name="adj1" fmla="val 30226"/>
              <a:gd name="adj2" fmla="val 10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左右逢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522936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835280" y="191592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5300640"/>
            <a:ext cx="1513080" cy="504720"/>
          </a:xfrm>
          <a:prstGeom prst="wedgeRectCallout">
            <a:avLst>
              <a:gd name="adj1" fmla="val -8027"/>
              <a:gd name="adj2" fmla="val 701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智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1844640"/>
            <a:ext cx="720720" cy="10796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9907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实中的四种人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63C-65B3-4E0E-8F30-6D9B7EBE773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46235-E47D-4C8E-B8C9-55D1CE1559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人际关系的六种模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033800" cy="3890880"/>
          </a:xfrm>
          <a:prstGeom prst="rect">
            <a:avLst/>
          </a:prstGeom>
          <a:noFill/>
          <a:ln w="381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送人玫瑰手留余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自私自利零和游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压抑自我委曲求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2057400"/>
            <a:ext cx="3816360" cy="3886200"/>
          </a:xfrm>
          <a:prstGeom prst="rect">
            <a:avLst/>
          </a:prstGeom>
          <a:noFill/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杀敌一千自伤八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自扫门前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买卖不成仁义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2133720"/>
            <a:ext cx="1224000" cy="647640"/>
          </a:xfrm>
          <a:prstGeom prst="wedgeRoundRectCallout">
            <a:avLst>
              <a:gd name="adj1" fmla="val -23412"/>
              <a:gd name="adj2" fmla="val 29166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利人利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133720"/>
            <a:ext cx="1511280" cy="720720"/>
          </a:xfrm>
          <a:prstGeom prst="wedgeEllipseCallout">
            <a:avLst>
              <a:gd name="adj1" fmla="val -28361"/>
              <a:gd name="adj2" fmla="val 378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3429000"/>
            <a:ext cx="1224000" cy="647640"/>
          </a:xfrm>
          <a:prstGeom prst="wedgeRoundRectCallout">
            <a:avLst>
              <a:gd name="adj1" fmla="val -31324"/>
              <a:gd name="adj2" fmla="val 50736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损人利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3429000"/>
            <a:ext cx="1440000" cy="647640"/>
          </a:xfrm>
          <a:prstGeom prst="wedgeEllipseCallout">
            <a:avLst>
              <a:gd name="adj1" fmla="val -26958"/>
              <a:gd name="adj2" fmla="val 38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4724280"/>
            <a:ext cx="1224000" cy="648000"/>
          </a:xfrm>
          <a:prstGeom prst="wedgeRoundRectCallout">
            <a:avLst>
              <a:gd name="adj1" fmla="val -34435"/>
              <a:gd name="adj2" fmla="val 48527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损己利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4724280"/>
            <a:ext cx="1441440" cy="648000"/>
          </a:xfrm>
          <a:prstGeom prst="wedgeEllipseCallout">
            <a:avLst>
              <a:gd name="adj1" fmla="val -27865"/>
              <a:gd name="adj2" fmla="val 38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2349360"/>
            <a:ext cx="792360" cy="216000"/>
          </a:xfrm>
          <a:custGeom>
            <a:avLst/>
            <a:gdLst>
              <a:gd name="textAreaLeft" fmla="*/ 0 w 792360"/>
              <a:gd name="textAreaRight" fmla="*/ 792720 w 792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3645000"/>
            <a:ext cx="863640" cy="217440"/>
          </a:xfrm>
          <a:custGeom>
            <a:avLst/>
            <a:gdLst>
              <a:gd name="textAreaLeft" fmla="*/ 0 w 863640"/>
              <a:gd name="textAreaRight" fmla="*/ 864000 w 8636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4941720"/>
            <a:ext cx="863640" cy="216000"/>
          </a:xfrm>
          <a:custGeom>
            <a:avLst/>
            <a:gdLst>
              <a:gd name="textAreaLeft" fmla="*/ 0 w 863640"/>
              <a:gd name="textAreaRight" fmla="*/ 864000 w 863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4000" y="2060640"/>
            <a:ext cx="1224000" cy="647640"/>
          </a:xfrm>
          <a:prstGeom prst="wedgeRoundRectCallout">
            <a:avLst>
              <a:gd name="adj1" fmla="val -15500"/>
              <a:gd name="adj2" fmla="val 12990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两败俱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1989000"/>
            <a:ext cx="1297080" cy="648000"/>
          </a:xfrm>
          <a:prstGeom prst="wedgeEllipseCallout">
            <a:avLst>
              <a:gd name="adj1" fmla="val -22217"/>
              <a:gd name="adj2" fmla="val 46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3284640"/>
            <a:ext cx="1224000" cy="647640"/>
          </a:xfrm>
          <a:prstGeom prst="wedgeRoundRectCallout">
            <a:avLst>
              <a:gd name="adj1" fmla="val -14722"/>
              <a:gd name="adj2" fmla="val 14217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独善其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4724280"/>
            <a:ext cx="1224000" cy="648000"/>
          </a:xfrm>
          <a:prstGeom prst="wedgeRoundRectCallout">
            <a:avLst>
              <a:gd name="adj1" fmla="val -28208"/>
              <a:gd name="adj2" fmla="val 52449"/>
              <a:gd name="adj3" fmla="val 16667"/>
            </a:avLst>
          </a:prstGeom>
          <a:solidFill>
            <a:srgbClr val="03f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好聚好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3429000"/>
            <a:ext cx="1223640" cy="576360"/>
          </a:xfrm>
          <a:prstGeom prst="wedgeEllipseCallout">
            <a:avLst>
              <a:gd name="adj1" fmla="val -34435"/>
              <a:gd name="adj2" fmla="val 348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单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96360" y="4724280"/>
            <a:ext cx="1295280" cy="648000"/>
          </a:xfrm>
          <a:prstGeom prst="wedgeEllipseCallout">
            <a:avLst>
              <a:gd name="adj1" fmla="val -29046"/>
              <a:gd name="adj2" fmla="val 36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无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276640"/>
            <a:ext cx="936720" cy="215640"/>
          </a:xfrm>
          <a:custGeom>
            <a:avLst/>
            <a:gdLst>
              <a:gd name="textAreaLeft" fmla="*/ 0 w 936720"/>
              <a:gd name="textAreaRight" fmla="*/ 937080 w 936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573360"/>
            <a:ext cx="863640" cy="216000"/>
          </a:xfrm>
          <a:custGeom>
            <a:avLst/>
            <a:gdLst>
              <a:gd name="textAreaLeft" fmla="*/ 0 w 863640"/>
              <a:gd name="textAreaRight" fmla="*/ 864000 w 863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5013360"/>
            <a:ext cx="936720" cy="216000"/>
          </a:xfrm>
          <a:custGeom>
            <a:avLst/>
            <a:gdLst>
              <a:gd name="textAreaLeft" fmla="*/ 0 w 936720"/>
              <a:gd name="textAreaRight" fmla="*/ 937080 w 936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47A-667E-49C2-9FDC-35CC5F3CD3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50249-4FBE-4B97-AEAD-5225807E85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483360" y="1112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际关系的最高境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2590920"/>
            <a:ext cx="7315200" cy="18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利人就是利己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5B2-3A77-4155-892D-6F1D6653314F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FDC87-1E9D-4F24-9D2C-AFD3CB910A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0" y="10936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学会宽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09680"/>
            <a:ext cx="8353440" cy="207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世界上最宽阔的是海洋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比海洋宽阔的是天空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比天空宽阔的是人的胸怀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523-AB91-414E-9724-467071CC6C82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165E7-EE73-4E66-9A55-B5B1CF842B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27960" y="20048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控制愤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43F-86A9-48A4-9231-736A569C3F88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B6A9A-3F3C-40CB-8549-A947FA844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职场情绪的三大原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一，先处理心情，再处理工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二，不要把工作中的不良情绪带回家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三，不要把家庭中的不良情绪带到办公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07B-A846-4F20-9BAF-CF46E542B0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528B0-3BE3-41D2-A907-2B39543E4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800280"/>
            <a:ext cx="4200480" cy="47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09C-D974-45DD-AEFD-422E62A3120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F0F0F-4393-4325-B0E6-8BE886F8E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、修炼自己的同理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3960"/>
            <a:ext cx="822960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同理心是在人际交往过程中，能够体会他人的情绪和想法、理解他人的立场和感受并站在他人的角度思考和处理问题的能力。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9BB-9649-4470-B150-73B11B9021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5B727-5687-4D73-86E6-8EF34AA0E1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95280" y="1905120"/>
            <a:ext cx="6782040" cy="28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己所不欲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勿施於人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B44-3BB8-45AE-9DCD-C81CEE541F6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A5E6F-B98A-4820-9286-756860C5A5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93000" y="26938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五种  感恩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EC0-0D0B-4228-9DE7-00B25CFA011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94C2A-4BC3-40C6-8951-A92F836F43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一、感恩是一种幸福生活的方式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二、感恩国家和社会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三、感恩家人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方正彩云简体"/>
              </a:rPr>
              <a:t>四、感恩公司和老板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方正彩云简体"/>
              </a:rPr>
              <a:t>五、感恩所有的人们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F0F-33BC-4EA3-9077-B5F20B8DF62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68E62-ECCB-4117-9AAB-47F083B09F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47920" y="15238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激养育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给予了你的生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命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教育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丰富了你的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心灵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关爱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教会了你的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付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启迪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提升了你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的智慧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伤害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磨练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你的意志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欺骗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唤醒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了你的良知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折磨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锻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炼了你的毅力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放弃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他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磨砺了你的独立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打击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他强化了你的能力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激批评你的人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因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为他拓宽了你的心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332-5A59-471A-A2FF-38EAD2582D9A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60D25-DFF4-4940-A8AF-66D31DDEE4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的人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待同一个事物会有不同的心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753-564F-4A9B-89B5-9115466B03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E091F-23CC-4B28-AFA6-1A989E6B9D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914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同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样的遭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同的态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同的人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2333520"/>
            <a:ext cx="2590920" cy="33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924-004D-4414-9BBD-6DC7604465F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06061-A8BF-4788-B24F-12DC626650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功学大师拿波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希尔的忠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98108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与人之间只有很小的差异，但这种很小的差异却往往造成了巨大的差异！很小的差异就是所具备的心态是积极的还是消极的，巨大的差异就是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成功与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368-36BE-403E-A24A-8D849E3E096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41ECB-A7E3-41DD-AFF9-10EF1CFCF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1430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心态是人生最根本的竞争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209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态比知识重要，心态比能力重要。从根本上决定我们生命质量的不是金钱，不是权力，甚至不是知识，也不是能力，而是心态！态度是人与人竞争制胜的最核心、最根本的竞争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个人而言，职业竞争表面上看是知识、能力、职位、权力、业绩、关系的竞争，实质上却是职业心态和人生态度的竞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802-BCE9-403E-AE88-9EA43348DFA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D4452-D2D3-490B-819A-283BFF55A8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第一：阳光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员工职业心态训练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782-1E9E-44DF-9A07-4D63C46235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1B00C-F158-45F5-B728-C804BBC31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5T12:13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