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4DD-1AC2-4CE0-AB33-7D6166FE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3FC-6739-40F3-AE9A-7F4618E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233-1E26-4232-9E9A-46F25CE1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30A-6996-4376-8176-67A39B23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418-3878-4C9D-84FA-2E5A9AD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80C6-9015-4BB1-AA0A-68B3F2A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357-834B-408F-997B-0DFD8A47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E0B1-CD19-4CE1-BE46-78521CC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4F97-B486-4740-81E4-0B3BB94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F69-D57C-48D5-B319-EEDBEF0F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4FC8-9916-4DAE-8D2F-B4CF400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124-B6A1-497D-9B0F-825EB08A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4535-EB98-47D6-9FB5-4F5B0B4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B6EE-92D5-405E-A822-46CA289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7F4-FE58-4FFD-8909-90D96E3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004-C0EC-47EA-984C-AD7B1F1A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981-B593-4F1F-BC3B-AC8B2AEB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AB0A-0645-4814-8AF8-E3F4185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A210-BC94-40D0-B49F-63BC3F07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A2BF-9FA0-427D-9B47-0341A33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4B7E-877C-440C-90E4-CBD94684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F09D-766C-40A7-87EC-CD57788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D65-2CF5-47D8-93CA-D6E439E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18A8-89F5-417A-8655-6028E549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32A0-5268-4BB5-87EF-6F1DB952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58FB-9988-463F-8AD3-9A612E6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7059-F7F2-4989-8377-54FEC73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C18D-91A9-41C3-9B57-46D5CC5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2EAA-180C-43A8-88C0-41F32399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7E7F-738D-4F31-907B-136A4AA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3D45-3526-4787-B491-03016FDC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48BC-A21C-4CC5-92F6-59383B7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1ABE-4987-4F99-8EC0-531121B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A28-48BD-4DA5-865A-811C856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946F-28F5-44F1-B7E7-659389A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7AA4-46EF-4D01-AC18-547D067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913D-B36A-4987-A7DF-ED20329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7D48-68CE-4839-AF43-EF9FC31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F76A-3E8B-49B7-BEE4-023C2242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760E-D755-4A81-B737-AD814CE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C6A4-18FF-46AF-BEE8-1F42C93C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F54E-28FD-41B3-9489-0BFBBD59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CE67-5BC6-40C9-9DE0-A21C7A3E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67C23-43D9-4F19-AC64-6088DB2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301-0E4B-4CF2-A5CB-541DD9E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8B4C6-CCD0-4AA6-945C-C0CC9D63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44778-6A97-4B87-93D1-8F18857D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A7762-5555-4213-8597-A79D73A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D1380-A711-49E6-A018-356E990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A51F1-C0DB-4CBF-A6E5-77AC4362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EBD5D-F829-47F9-9C64-E667A0A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DE248-ABC5-4425-A96C-CD77AD1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C0835-695C-4483-ADED-7BC8B97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0044B-8DA9-4A07-B035-BCBAE271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937AA-A6A3-41EE-AA16-1FCF145A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583-E7C7-4041-B365-52199373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246F3-F1D5-478E-90F2-D1A322E3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A483-BB17-429D-839E-502535D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B263-347B-479F-A44A-4C5A838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AE0C-5F3E-43CD-859D-52E7AFC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89A0-FB5D-4DBF-B093-5CAE934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5FCC-1D31-4D84-B098-E40A031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1545-84A2-4921-9132-C2CCF8B4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0CA0-90E1-44AC-9DF6-DA708AD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A699-A389-4A19-8055-6A16C03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A67D-DD1D-4A7F-93A0-44C4E45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6FB-86D7-4794-9807-0BF5B55F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6DFE-6449-4280-B4A2-FAE31BB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6306-C54D-4053-AC2C-9AEE454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98DE-9707-47D3-9C03-00D4185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2FDA-D652-4986-9D88-935E1BE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7A71-E56B-4553-AF01-BB6A789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B2C9-213C-4FB9-B65D-59158111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ABB4-9BC5-4AAD-BFCD-545E58A4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6994-C3E4-4DBE-82CD-CE5C684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0E30-36A9-438E-913B-60185F4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C62C3-6542-41EA-88FA-13535F2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6F7-A092-42AC-B204-78C811A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08ABD-48D8-467A-802E-D114B96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17EB-B394-48D8-BE32-EE6010EF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EA64-B8B4-4C2C-A269-8F97D6F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D97A-4DB4-4990-8528-F89402BE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DF13F-FBBA-4B17-9E99-2F0FF8F9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B5A-2983-43A7-8F69-19A72D02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8A5B-DA09-498A-B49A-97B50FBFE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5DB-F31C-409C-8871-8D73A9476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69F-EFE0-4DFE-968A-BEC6C6CE35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C1A-58D0-44A8-B867-67FF3BEDB9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D24-8D7A-40D4-89CD-6BC08637E8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502-0F4C-487A-9257-9C5646F0082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050-B4F5-4C90-B89C-57DFA7F519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8000" y="1268280"/>
            <a:ext cx="5759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63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"/>
              </a:rPr>
              <a:t>养成良好的行为习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"/>
              <a:ea typeface="Gulim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5084640"/>
            <a:ext cx="7777080" cy="39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4787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黑体"/>
              </a:rPr>
              <a:t>什么是教育，行为习惯的培养就是教育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342900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Time for game</a:t>
            </a: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你我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游戏规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小组为单位，每次派一个参赛者参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参赛者可自选题目编号，然后根据编号的内容做出相应的回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游戏过程中，不得出现“你、我、他（她、它）”这三个字，别想钻空……中文英文法文德文日文韩文等等等等的这三个字都不行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旦出现这三个字其中之一一次，便要接受惩罚，每完成一项就给相应的组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以下编号中任选一项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4000" y="2565000"/>
            <a:ext cx="73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7     8       9     10     1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804000" y="4508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出你一次有趣的旅游经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说出你自己的学习方法，例如学习实践和科目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2997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你说说如果你中了彩票你会怎么做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用中文对着主持人翻译出以下两句话   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I  see  and  I  can  help  you    I  know you but I love you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唱出以下歌曲 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234936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送你离开  千里之外  你无声黑白  沉默年代  或许不该  太遥远的相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送你离开  天涯之外  你是否还在   琴声何来  生死难猜  用一生  去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杰伦《千里之外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唱出以下歌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2421000"/>
            <a:ext cx="73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曾经的我想唱就唱我最闪亮   这一年夏天有最感动的阳光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给我梦想   我勇敢往前闯   风吹雨打拍拍肩膀   现在的我想唱就唱我最闪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一年夏天有最温暖的目光   记忆的远方   我披戴的荣光   照进天窗擦亮梦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男《我最闪亮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11280" y="193680"/>
            <a:ext cx="7993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人将海里最凶猛的鲨鱼和他最喜欢吃的热带鱼放在一个大水池里，但是中间用一块透明的强化玻璃隔开。在最开始，鲨鱼看到另外一边自己喜欢的食物的时候会毫不犹豫的冲过去，但是很快就被玻璃给拦下来了，于是鲨鱼开始一次又一次的撞击玻璃，很快鲨鱼就被撞的头破血流，但是刚刚被撞出裂纹的玻璃马上被人换上更加结实的。一段时间之后，鲨鱼不再冲向近在咫尺的热带鱼，不再去碰中间的玻璃，甚至是远远的离开曾经撞的头破血流的地方，好像害怕再受到伤害一样，只是远远的看着在隔壁自由自在游着的热带鱼。最后，人们把中间的透明玻璃抽掉，可是这个时候，鲨鱼依然不敢跨越中间的那个地块，偶尔有热带鱼不小心游到鲨鱼这边，鲨鱼很快就会扑过去，可是一旦这些鱼逃到水池的另外一边，鲨鱼马上就会停下来，眼睁睁的看着这些鱼离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5406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谈谈你对环保的理解，比如我应该为学校和家庭做些什么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向大家介绍你的家人，包括自己和爸爸妈妈还有兄弟姐妹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25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秒朗读完以下两段文字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628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些事情已过去，望着老师的心情，我有时都会哭，还有三个月，我们就要和她说再见，我不舍得她，她教的我们这个班，很严格，我很喜欢，但我希望见到这个班有团结的风气，不再让她老师担心，因为我觉得这个班非常友爱，我希望永远都不会散。我想念这个班，想念他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 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蹑手蹑脚地打开门，没想到灯是亮着的，我进到客厅，发现妈妈坐在沙发上睡着了，她披在身上的外套已经滑落，电视开着，却被她调成了静音，桌子上还摆着我最爱吃的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有些难过，小心地把妈妈的外套捡起来，想再次给她盖上，不料却惊醒了妈妈。“妈。”我怯怯地叫着，“对不起，这么晚了你还在这等我。”“没事，你不是给我留条了吗，不要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10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为下周我们班上场的拔河队员打打气，说一番鼓励的话激励他们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1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秒之内读出一段文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一个黑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他找到了一个神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神答应实现他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愿望。 他的第一个愿望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希望他天天有水喝。 第二个愿望：希望他能变白。 第三个愿望：希望天天能看到女生的屁股。 “砰”的一声他变成了马桶！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特别回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就喜欢吃的食物、喜欢的运动等方面和对方组员讨论、诱使对方说出你我他三个字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游戏到此结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们体会到习惯的力量了吗？怎么养成良好的行为习惯，什么是良好的行为习惯我们听得太多了，已经是老掉牙的东西了。所以，这次游戏的目的是为了让大家体会一下习惯的力量，让大家明白一个好的行为习惯具有怎样的力量，希望大家能养成良好的行为习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学们，好的学习效果、好的学习成绩从培养良好行为习惯开始，这几乎是一个人人皆知的道理，希望同学们尽快养成好的学习、生活习惯。诺贝尔奖获得者、智利诗人米斯特拉尔说：“许多需要的东西我们可以等待／但是学生不能等／他的骨骼正在形成／血液正在生成／心智正在发育／对学生我们不能说明天／他的名字是今天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，让我们从今天做起，从现在做起，从小事情做起，在生活和学习中培养自己一个又一个好习惯，让好习惯伴随我们终身，成为我们走向成功、走向辉煌的一个又一个五彩的阶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</a:rPr>
              <a:t>养成哪些良好的学习习惯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尊重与欣赏老师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亲其师，信其道。学生要学习好，除了我们老师努力提高能力水平，适应学生外，学生更要尊重老师，适应老师，并学会欣赏自己的老师。不同层次的老师，学生用不同的方式，眼睛向内、提高自我的方式去适应，与老师共同进步。从现在适应老师，长大了适应社会。不会稍不如意就埋怨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26920" y="1052640"/>
            <a:ext cx="7560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自学预习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专心上课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认真观察，积极思考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善于提问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仔细审题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整理错题集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你们知道以下的东西吗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个行动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习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种习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性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种性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命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4200" y="1413000"/>
            <a:ext cx="8929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我的一言一行是自我形象的标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是学校荣誉的标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是良好品德的标志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33336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树立一种信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以下基本的习惯你做到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时到校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迟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早退，不旷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心听讲，勤于思考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完成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持锻炼身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积极参加有益的文娱活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节俭，不摆阔气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乱花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有规律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时作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a1a1a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356000" y="2133720"/>
            <a:ext cx="453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你们很多人都没做到呢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如你们的历史和数学交了没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代和历代很生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果其实也不怎么严重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9:16:52Z</dcterms:created>
  <dc:creator>雨林木风</dc:creator>
  <dc:description/>
  <dc:language>en-US</dc:language>
  <cp:lastModifiedBy>User</cp:lastModifiedBy>
  <dcterms:modified xsi:type="dcterms:W3CDTF">2013-10-15T02:39:5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f000000000001024120</vt:lpwstr>
  </property>
</Properties>
</file>