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type.wav" ContentType="audio/x-wav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DFB-6D2A-4022-B01B-64E3FE2B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318-41E1-4A4A-82D8-C680D1E5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27F-F3B2-4D91-8A63-E1D5B38F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98A-6601-4D2B-AF63-3AEF42B2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879-46DA-4B0C-A082-70E03523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90F-75BA-4C72-8141-91C0938C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CED0-8E99-4E52-AFF6-DFBED722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0A7-B2F9-42A6-A409-A4499A92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CBE-2FD0-497B-8F97-61489AC8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574-CCF2-492C-8C68-7913E6CB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26D5-9408-4568-8D99-EA1609B8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B32-F69D-444D-ACF2-FB238691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B097-9ABC-43F1-8EA4-6295BE2B4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0121309242112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20103111859526295"/>
          <p:cNvPicPr/>
          <p:nvPr/>
        </p:nvPicPr>
        <p:blipFill>
          <a:blip r:embed="rId2"/>
          <a:stretch/>
        </p:blipFill>
        <p:spPr>
          <a:xfrm>
            <a:off x="-177840" y="0"/>
            <a:ext cx="93218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1187280" y="2492280"/>
            <a:ext cx="69138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我文明，我快乐，我成长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4" name="队歌.mp3" descr=""/>
          <p:cNvPicPr/>
          <p:nvPr/>
        </p:nvPicPr>
        <p:blipFill>
          <a:blip r:embed="rId3"/>
          <a:stretch/>
        </p:blipFill>
        <p:spPr>
          <a:xfrm>
            <a:off x="8380440" y="6021360"/>
            <a:ext cx="584280" cy="233280"/>
          </a:xfrm>
          <a:prstGeom prst="rect">
            <a:avLst/>
          </a:prstGeom>
          <a:ln w="0">
            <a:noFill/>
          </a:ln>
        </p:spPr>
      </p:pic>
      <p:pic>
        <p:nvPicPr>
          <p:cNvPr id="45" name="出旗曲.mp3" descr="出旗曲"/>
          <p:cNvPicPr/>
          <p:nvPr/>
        </p:nvPicPr>
        <p:blipFill>
          <a:blip r:embed="rId4"/>
          <a:stretch/>
        </p:blipFill>
        <p:spPr>
          <a:xfrm>
            <a:off x="-106200" y="4941720"/>
            <a:ext cx="303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60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8723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755640" y="1628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学生进老师办公室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敲门就可进入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随意翻找东西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敲门允许方可进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755640" y="1628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同学之间交往忌人格不平等、小团体主义及（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攀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借东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说话随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755640" y="1628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同学之间交往忌人格不平等、小团体主义及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攀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借东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说话随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826920" y="1628640"/>
            <a:ext cx="36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在排队打饭时（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排在熟人的前面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请人带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按次序排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826920" y="1628640"/>
            <a:ext cx="36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在排队打饭时（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排在熟人的前面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请人带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按次序排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826920" y="1628640"/>
            <a:ext cx="36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佩带红领巾时，应（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把红领巾系在衣领下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将红领巾直接接触脖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穿无领衫可以带红领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826920" y="1628640"/>
            <a:ext cx="36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佩带红领巾时，应（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把红领巾系在衣领下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将红领巾直接接触脖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穿无领衫可以带红领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当你离开朋友家时，请主人不要送的时候应说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留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失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拜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当你离开朋友家时，请主人不要送的时候应说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留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失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拜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在公共汽车、地铁、火车、飞机上或剧院、宴会等公共场所，朋友或熟人间说话应该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随心所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高谈阔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轻声细语，不妨碍别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1266262_11445406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2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在公共汽车、地铁、火车、飞机上或剧院、宴会等公共场所，朋友或熟人间说话应该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C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随心所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高谈阔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轻声细语，不妨碍别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别人给你服务，做事和帮忙，无论给你的帮助多么微不足道，都要说（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对不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别人给你服务，做事和帮忙，无论给你的帮助多么微不足道，都要说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对不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在公共场所捡到别人丢的东西时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4572000" y="177336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没人看见我可以自己留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交给失主或警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有偿交给失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在公共场所捡到别人丢的东西时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B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4572000" y="177336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没人看见我可以自己留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交给失主或警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有偿交给失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外出要遵守交通规则，注意靠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边行走，过马路时走人行横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4572000" y="177336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中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外出要遵守交通规则，注意靠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边行走，过马路时走人行横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4572000" y="177336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中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611280" y="1628640"/>
            <a:ext cx="38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接电话时第一句话应说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572000" y="177336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．喂，你找谁？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您好！请问您找哪一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谁呀？干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611280" y="1628640"/>
            <a:ext cx="38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接电话时第一句话应说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4572000" y="177336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．喂，你找谁？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您好！请问您找哪一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谁呀？干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611280" y="1628640"/>
            <a:ext cx="38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递物品一般应该用（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递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4572000" y="177336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随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单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双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755640" y="1628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早晨进校见到老师，要行礼问早、问好。如遇地方狭窄，应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、学生给老师让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、学生或老师让路都可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、老师给学生让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60e93cc032d98468b119a86d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611280" y="1628640"/>
            <a:ext cx="38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递物品一般应该用（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递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4572000" y="177336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随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单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双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致歉语有对不起、请原谅、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4643280" y="1844640"/>
            <a:ext cx="45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拜托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多谢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打扰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致歉语有对不起、请原谅、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9"/>
          <p:cNvSpPr/>
          <p:nvPr/>
        </p:nvSpPr>
        <p:spPr>
          <a:xfrm>
            <a:off x="4643280" y="1844640"/>
            <a:ext cx="45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拜托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多谢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打扰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上课铃.mp3" descr="上课铃"/>
          <p:cNvPicPr/>
          <p:nvPr/>
        </p:nvPicPr>
        <p:blipFill>
          <a:blip r:embed="rId2"/>
          <a:stretch/>
        </p:blipFill>
        <p:spPr>
          <a:xfrm>
            <a:off x="788364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3" name="type.wav"/>
      </p:stSnd>
    </p:sndAc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4472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21309242112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73864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 rot="21315000">
            <a:off x="1783080" y="1771200"/>
            <a:ext cx="5184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文明拍手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一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一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文明学生我和你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文明学生不落后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三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三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请勿随地乱吐痰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四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四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大家都从点滴起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五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五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加强管理和监督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六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六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纸屑杂物不乱丢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七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七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人际交往要和气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 rot="21297000">
            <a:off x="5651640" y="2204640"/>
            <a:ext cx="20890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八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八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公共设施不乱画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九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九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保护环境要持久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十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十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文明公约要落实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种太阳.mp3" descr=""/>
          <p:cNvPicPr/>
          <p:nvPr/>
        </p:nvPicPr>
        <p:blipFill>
          <a:blip r:embed="rId2"/>
          <a:stretch/>
        </p:blipFill>
        <p:spPr>
          <a:xfrm>
            <a:off x="1332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43770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10121309242112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2010311185952629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WordArt 4"/>
          <p:cNvSpPr txBox="1"/>
          <p:nvPr/>
        </p:nvSpPr>
        <p:spPr>
          <a:xfrm>
            <a:off x="1871640" y="2421000"/>
            <a:ext cx="543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学做文明小学生</a:t>
            </a:r>
            <a:endParaRPr b="1" i="1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5" name="歌声与微笑伴奏.mp3" descr="歌声与微笑伴奏"/>
          <p:cNvPicPr/>
          <p:nvPr/>
        </p:nvPicPr>
        <p:blipFill>
          <a:blip r:embed="rId3"/>
          <a:stretch/>
        </p:blipFill>
        <p:spPr>
          <a:xfrm>
            <a:off x="34920" y="645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6" name="少先队退旗曲.mp3" descr="少先队退旗曲"/>
          <p:cNvPicPr/>
          <p:nvPr/>
        </p:nvPicPr>
        <p:blipFill>
          <a:blip r:embed="rId4"/>
          <a:stretch/>
        </p:blipFill>
        <p:spPr>
          <a:xfrm>
            <a:off x="84614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74997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79905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755640" y="1628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早晨进校见到老师，要行礼问早、问好。如遇地方狭窄，应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、学生给老师让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、学生或老师让路都可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、老师给学生让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755640" y="162864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 升国旗时应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4500720" y="1773360"/>
            <a:ext cx="41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肃立、脱帽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．肃立、脱帽、行注目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．肃立、脱帽、行注目礼、少先队员行队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755640" y="162864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 升国旗时应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肃立、脱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肃立、脱帽、行注目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肃立、脱帽、行注目礼、少先队员行队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55640" y="162864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在手势语运用中，切忌谈话时伸出食指指点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，这是一种不礼貌的行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天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对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755640" y="162864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在手势语运用中，切忌谈话时伸出食指指点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，这是一种不礼貌的行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天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对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60e93cc032d98468b119a86d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755640" y="1628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学生进老师办公室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700360" y="981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4500720" y="1773360"/>
            <a:ext cx="417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敲门就可进入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随意翻找东西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C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敲门允许方可进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248436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礼仪知识抢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9:59:46Z</dcterms:created>
  <dc:creator>USER</dc:creator>
  <dc:description/>
  <cp:keywords/>
  <dc:language>en-US</dc:language>
  <cp:lastModifiedBy>ba</cp:lastModifiedBy>
  <cp:lastPrinted>1899-12-30T00:00:00Z</cp:lastPrinted>
  <dcterms:modified xsi:type="dcterms:W3CDTF">2013-09-15T12:54:44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