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2BCB-8DE2-4446-AFAA-E483BD5F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D11C-BFD0-4A29-90ED-EF3A952E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3A9D-B0DA-4CE7-9CAA-F156929D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1B19-B48A-41D4-B4D2-EA710270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01ED-2927-46E7-9F0B-818F5203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B47-0DF5-474E-8F72-E8C320F0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6F71-C8D1-4F76-AB8F-F2D9B7D4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2540-B120-4050-BE12-00B4EDFA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EBFC-0BEA-42A3-8283-DDEA84C0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8BC8-9E1C-4B3E-B5B5-109D522C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282B-8327-4500-9C3F-C7388238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8E3C-7734-4EE2-9C4E-2981EB36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47A9-00E0-48FD-9098-A2D0CE2BB6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助人为乐主题班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东坡下载站编辑整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天时不如地利，地利不如人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众人拾柴火焰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单丝不成线，独木不成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我不应把我的作品全归功于自己的智慧，还应归功于我以外向我提供素材的成千成万的事情和人物。 ——歌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团结一致，同心同德，任何强大的敌人，任何困难的环境，都会向我们投降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二、真诚和善良是人类的美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真诚和善良是做人起码的社会公德，也是自己受人尊重的基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美国得克萨斯州的一个风雪交加的夜晚，一位名叫克雷斯的年轻人因为汽车“抛锚”被困在郊外。正当他万分焦急的时候，有一位骑马的男子正巧经过这里。见此情景，这位男子二话没说便用马帮助克雷斯把汽车拉到了小镇上。 事后，当感激不尽的克雷斯拿出不菲的美钞对他表示酬谢时，这位男子说：“这不需要回报，但我要你给我一个承诺，当别人有困难的时候，你也要尽力帮助他人。”于是，在后来的日子里，克雷斯主动帮助了许许多多的人，并且每次都没有忘记转述那句同样的话给所有被他帮助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许多年后的一天，克雷斯被突然暴发的洪水困在了一个孤岛上，一位勇敢的少年冒着被洪水吞噬的危险救了他。当他感谢少年的时候，少年竟然也说出了那句克雷斯曾说过无数次的话：“这不需要回报，但我要你给我一个承诺……” 克雷斯的胸中顿时涌起了一股暖暖的激流：“原来，我穿起的这根关于爱的链条，周转了无数的人，最后经过少年还给了我，我一生做的这些好事，全都是为我自己做的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在与同学的交往中，要以诚相等，与人为善，要怀有一颗仁爱之心。当同学遇到困难和痛苦时，要尽自己的能力，给以真诚的帮助。在帮助同学的过程中，还可以锻炼自己的能力，陶冶高尚的情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谈一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你帮助过别人或接受过别人的帮助吗？谈谈自己当时的心理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善人者，人亦善之。——管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越是善良的人，越察觉不出别人的居心不良。——米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如果说美貌是推荐信，那么善良就是信用卡。——布尔沃一利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老老实实最能打动人心。——（英）莎士比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一颗好心抵得过黄金。——（英）莎士比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三、要善于与人合作，凡事多为别人着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有个外国老太来中国，她找了几个中国孩子，让他们做一个游戏，她把几个栓着细线小球放进一个瓶子里，瓶口很小，一次只能容纳一个小球通过。 她说：“这是一个火灾现场，每个人只有逃出瓶子才能活下去。” 她让每个孩子拿一根细线，时间开始了，只见几个孩子从小到大，依次把小球取出来了。 老太很惊讶，她在许多国家做过这个实验，但是没有一个成功过，那些孩子无一例外地都争先恐后地把细线拼命往上拉，导致最后一堆小球堵在瓶口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这就是合作的力量啊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要善于与人合作，凡事多为别人着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在集体生活中，有时难免发生某些矛盾，这时，首先要克制自己的情绪，消除与同学之间的隔阂，学会正确认识自己，正确对待同学。要勇于开展批评和自我批评，虚心听取老师、家长和同学的劝告，严于律己，宽以待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同学们生活、学习在同一个班集体里，相互之间应该互相友爱、和睦相处，才能使班级和谐，使集体中的每一个人都健康快乐地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要勇于承认自己的缺点和错误，并有改正的决心和行动。我们要保持健康向上、开朗乐观的心理，克服孤独离群或自高自大等不健康的心理，使自己成为受欢迎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你有与朋友或同学合作成功或失败的事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三个臭皮匠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顶个诸葛亮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人心齐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泰山移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一个篱笆三个桩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一个好汉三个帮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一堆沙子是松散的，可是它和水泥、石子、水混合后，比花岗岩还坚韧。 ——王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上下同欲者胜。 ——孙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二人同心，其力断金。——《易经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我们的国家是一个文明古国，礼仪之邦。助人为乐、和睦相处是中华民族的传统美德。我们应该发扬光大，献出自己的爱，为集体和社会增加一份温暖，使我们的生活更加充满阳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填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（      ）和（        ）是人类的感情之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（      ）和（        ）是人类的美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要善于与人（        ），凡事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着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547640" y="1916280"/>
            <a:ext cx="6096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观赏！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助人为乐的基本内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互相合作，互相帮助，乐于助人，与人为善，对人和蔼，热情大方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是助人为乐的基本内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335772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每个人都有遇到困难的时候，互相帮助能使人充分感受到集体的温暖和同学间的情谊，增强战胜困难的决心和勇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一、团结和友谊是人类的感情之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有一位仙人，一天他变成一个渔翁，一手提着一筐鱼，一手拿着一根鱼竿，坐在山路上等人。等谁呢？原来他知道有两个人在山里迷路，已经几天没有吃上东西了，他等在他们必经的路口，想考验考验这两个人在生死关头是否团结合作。果然，两个人走到他身边，同时发现了鱼和鱼竿。渔翁答应给每个人一样东西。要到鱼的人急忙就地点火开始烧鱼吃，不过两天就把鱼吃个精光，再也找不到食物了，可怜的饿死在空空的鱼筐旁。另一个人呢，他只有找到湖才能钓到鱼，所以他提着根鱼竿继续忍饥挨饿地往前赶路，又走了两天终于看到湖水了，他也累得走不动了，眼巴巴的带着无尽的遗憾撒手人间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仙人看到这种结局后非常失望，因为事情的发展不该是这个样子的。只要两个人拿到鱼和鱼竿后，不是各奔东西，而是商量着一起寻找湖泊，这样凭着每天鱼的充饥，他们就能坚持着走到湖边；走到湖边他们很快就会钓到鱼；如此团结协作带来的良性循环，才是他们生命真正的保障。何况，沿着湖边走下去，就是仙人要指点他们出山的路径。所以说，我们看待团结，要把它看作和自己的生命一样重要；这样，你才会加倍地爱护它，珍惜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团结和友谊是人类的感情之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团结和友谊能美化我们的生活，充实我们的心灵。对待同学要采取尊重和关心的态度，只有尊重和关心他人，才能得到他人对你的尊重和关心。在相互尊重和关心的交往中，才能增进同学之间的感情，加深同学之间的友谊，发现彼此之间的长处和短处，优点和缺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通过比较，可以知道自己的优点和长处，发现自己的缺点和短处，有利于增强自信心，克服嫉妒心狭隘等不健康的心理，争取不断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我和朋友比一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我的优点：                 朋友的优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我的缺点：                 朋友的缺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39337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我们可以这样相互帮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03:11:43Z</dcterms:created>
  <dc:creator>微软用户</dc:creator>
  <dc:description/>
  <dc:language>en-US</dc:language>
  <cp:lastModifiedBy>Sky123.Org</cp:lastModifiedBy>
  <dcterms:modified xsi:type="dcterms:W3CDTF">2015-09-15T01:26:30Z</dcterms:modified>
  <cp:revision>9</cp:revision>
  <dc:subject/>
  <dc:title>助人为乐、和睦相处</dc:title>
</cp:coreProperties>
</file>