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F920-32AB-4900-8B64-5A3800126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C80B-1DF8-4772-AB09-D6A7C365C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7567-B858-43B4-AA1E-56549EA80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4E1A-A9A0-41C3-ACEC-A71AA4C92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612D6-1C52-406F-BD16-9F0F9A11C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6EA63-E44C-4436-99EB-99A26EDA0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168CF-9331-4849-8D27-E867B9B49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33C5A-5D84-4B8E-857D-4AF8B4C09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04C03-F3F5-4EB3-BAD2-2271CACB0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0607D-CB4A-47FA-B30C-DD30F121F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22C51-9677-4D6A-ACB4-00AABC85C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469C-4067-4265-B79C-EC5FAB935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9772D-30E7-4E1E-907F-28E914B95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8F3F0-385C-41B4-B09E-C1972D4FD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4CEA9-28C0-487B-87CF-8916C300D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0242E-6974-428B-AF63-1BCCFD698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58D26-BF79-45E2-9D6D-747E494A0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22540-072D-49D9-B6FE-6D33B22AF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7E727-1847-4A4B-B1F5-8A8234B69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F5B0C-7DAB-45DE-96BB-7681D4F2D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AB2FE-6492-42E8-ACE0-D58BBBA75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00783-CF41-4FD2-8FFA-4627B7767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221A-8AA1-4A1E-A514-32F8932D3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F70B9-D9DC-4A85-A3A3-1D5EE9FC8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AF1B1-E291-40FF-86C3-F8C69590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B7757-1CEE-4F6E-B8A7-1FFC2CC29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5E2F0-8D38-41A0-9B07-A075CBEB0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E5D72-1E01-4E84-B959-99D304376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A21E4-F15A-43C8-AD10-3B9EC7D4C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07833-6EAC-4B22-8604-F16C708BC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DFF73-67FD-4496-9D12-D8A63EDDB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9D35B-6013-4D7C-BE89-DC3CFEB54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E08E1-7581-4D05-B473-EB1351C76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1EFC-98BA-4D76-938F-AC44D3467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65448-6FA4-4102-9035-2630F0B15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4509A-5CC2-4959-837B-3436BA632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1E3E2-9A08-4E7F-8088-73CE4530E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619C3-CA56-4B5A-89CD-068BE7E57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75F85-1DA5-44C0-ADEA-D5257118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32E2E-CDBF-446B-9423-8CE23F0AB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F278D-C039-4FD4-B116-93E9176CF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86AE0-B978-46F4-8F08-F894C1B46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203D4-304D-4072-96CC-A1FE07E54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5050-7820-4BBB-9C85-26C773748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624D-997E-4D50-BA21-C3CE7AAEF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F8C2-494D-40A1-942A-D2022028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F431-BF7A-4114-8DB7-AE4CFEA6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DBBB-98FC-4FA9-9E8A-088370E7E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ul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E4F15-AE54-4CF8-B068-0015A81CF6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4" descr="일러스트범용1-4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ul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D1151-4088-4EAB-8533-5A64A1CBB9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24" descr="일러스트범용1-1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ul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6EC8B-257D-48C5-ADCC-12C0F51647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24" descr="일러스트범용1-2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ul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F31A3-9CC5-40FD-BFAC-1018EC834E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23" descr="일러스트범용1-3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TextBox 2" descr=""/>
          <p:cNvPicPr/>
          <p:nvPr/>
        </p:nvPicPr>
        <p:blipFill>
          <a:blip r:embed="rId1"/>
          <a:stretch/>
        </p:blipFill>
        <p:spPr>
          <a:xfrm>
            <a:off x="609480" y="3876840"/>
            <a:ext cx="7925040" cy="645840"/>
          </a:xfrm>
          <a:prstGeom prst="rect">
            <a:avLst/>
          </a:prstGeom>
          <a:ln w="0">
            <a:noFill/>
          </a:ln>
        </p:spPr>
      </p:pic>
      <p:sp>
        <p:nvSpPr>
          <p:cNvPr id="169" name="TextBox 2"/>
          <p:cNvSpPr/>
          <p:nvPr/>
        </p:nvSpPr>
        <p:spPr>
          <a:xfrm>
            <a:off x="3632040" y="6593040"/>
            <a:ext cx="550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0" name=""/>
          <p:cNvSpPr/>
          <p:nvPr/>
        </p:nvSpPr>
        <p:spPr>
          <a:xfrm>
            <a:off x="2124000" y="62064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ulim"/>
              </a:rPr>
              <a:t>多给孩子有用的关爱和尊重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"/>
          <p:cNvGrpSpPr/>
          <p:nvPr/>
        </p:nvGrpSpPr>
        <p:grpSpPr>
          <a:xfrm>
            <a:off x="4443480" y="1557360"/>
            <a:ext cx="4305240" cy="4422600"/>
            <a:chOff x="4443480" y="1557360"/>
            <a:chExt cx="4305240" cy="4422600"/>
          </a:xfrm>
        </p:grpSpPr>
        <p:pic>
          <p:nvPicPr>
            <p:cNvPr id="172" name="Picture 515" descr="보고순서 copy"/>
            <p:cNvPicPr/>
            <p:nvPr/>
          </p:nvPicPr>
          <p:blipFill>
            <a:blip r:embed="rId1"/>
            <a:srcRect l="4193" t="10686" r="6021" b="8028"/>
            <a:stretch/>
          </p:blipFill>
          <p:spPr>
            <a:xfrm>
              <a:off x="5335560" y="1557360"/>
              <a:ext cx="2229120" cy="55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AutoShape 516"/>
            <p:cNvSpPr/>
            <p:nvPr/>
          </p:nvSpPr>
          <p:spPr>
            <a:xfrm>
              <a:off x="4956120" y="2295720"/>
              <a:ext cx="3792600" cy="47448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4" name="AutoShape 517"/>
            <p:cNvSpPr/>
            <p:nvPr/>
          </p:nvSpPr>
          <p:spPr>
            <a:xfrm>
              <a:off x="4956120" y="5505480"/>
              <a:ext cx="3792600" cy="47448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5" name="AutoShape 518"/>
            <p:cNvSpPr/>
            <p:nvPr/>
          </p:nvSpPr>
          <p:spPr>
            <a:xfrm>
              <a:off x="4956120" y="2936880"/>
              <a:ext cx="3792600" cy="47484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6" name="AutoShape 519"/>
            <p:cNvSpPr/>
            <p:nvPr/>
          </p:nvSpPr>
          <p:spPr>
            <a:xfrm>
              <a:off x="4956120" y="3578400"/>
              <a:ext cx="3792600" cy="47448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7" name="AutoShape 520"/>
            <p:cNvSpPr/>
            <p:nvPr/>
          </p:nvSpPr>
          <p:spPr>
            <a:xfrm>
              <a:off x="4956120" y="4221360"/>
              <a:ext cx="3792600" cy="47448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8" name="AutoShape 521"/>
            <p:cNvSpPr/>
            <p:nvPr/>
          </p:nvSpPr>
          <p:spPr>
            <a:xfrm>
              <a:off x="4956120" y="4862520"/>
              <a:ext cx="3792600" cy="47484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4443480" y="2295720"/>
              <a:ext cx="476280" cy="474480"/>
              <a:chOff x="4443480" y="2295720"/>
              <a:chExt cx="476280" cy="474480"/>
            </a:xfrm>
          </p:grpSpPr>
          <p:grpSp>
            <p:nvGrpSpPr>
              <p:cNvPr id="180" name=""/>
              <p:cNvGrpSpPr/>
              <p:nvPr/>
            </p:nvGrpSpPr>
            <p:grpSpPr>
              <a:xfrm>
                <a:off x="4443480" y="2295720"/>
                <a:ext cx="476280" cy="474480"/>
                <a:chOff x="4443480" y="2295720"/>
                <a:chExt cx="476280" cy="474480"/>
              </a:xfrm>
            </p:grpSpPr>
            <p:sp>
              <p:nvSpPr>
                <p:cNvPr id="181" name="AutoShape 524"/>
                <p:cNvSpPr/>
                <p:nvPr/>
              </p:nvSpPr>
              <p:spPr>
                <a:xfrm>
                  <a:off x="4443480" y="2295720"/>
                  <a:ext cx="476280" cy="47448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82" name="AutoShape 525"/>
                <p:cNvSpPr/>
                <p:nvPr/>
              </p:nvSpPr>
              <p:spPr>
                <a:xfrm>
                  <a:off x="4467240" y="2320920"/>
                  <a:ext cx="426960" cy="42660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437600"/>
                    </a:gs>
                    <a:gs pos="100000">
                      <a:srgbClr val="00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pic>
              <p:nvPicPr>
                <p:cNvPr id="183" name="Picture 526" descr="바코드"/>
                <p:cNvPicPr/>
                <p:nvPr/>
              </p:nvPicPr>
              <p:blipFill>
                <a:blip r:embed="rId2"/>
                <a:srcRect l="16802" t="9783" r="20325" b="5978"/>
                <a:stretch/>
              </p:blipFill>
              <p:spPr>
                <a:xfrm>
                  <a:off x="4770360" y="2342880"/>
                  <a:ext cx="82800" cy="5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" name="AutoShape 527"/>
                <p:cNvSpPr/>
                <p:nvPr/>
              </p:nvSpPr>
              <p:spPr>
                <a:xfrm>
                  <a:off x="4479840" y="2333520"/>
                  <a:ext cx="401760" cy="7596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99dd01"/>
                    </a:gs>
                    <a:gs pos="100000">
                      <a:srgbClr val="569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185" name="Text Box 528"/>
              <p:cNvSpPr/>
              <p:nvPr/>
            </p:nvSpPr>
            <p:spPr>
              <a:xfrm>
                <a:off x="4579920" y="2436480"/>
                <a:ext cx="20484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443480" y="2936880"/>
              <a:ext cx="476280" cy="474840"/>
              <a:chOff x="4443480" y="2936880"/>
              <a:chExt cx="476280" cy="474840"/>
            </a:xfrm>
          </p:grpSpPr>
          <p:grpSp>
            <p:nvGrpSpPr>
              <p:cNvPr id="187" name=""/>
              <p:cNvGrpSpPr/>
              <p:nvPr/>
            </p:nvGrpSpPr>
            <p:grpSpPr>
              <a:xfrm>
                <a:off x="4443480" y="2936880"/>
                <a:ext cx="476280" cy="474840"/>
                <a:chOff x="4443480" y="2936880"/>
                <a:chExt cx="476280" cy="474840"/>
              </a:xfrm>
            </p:grpSpPr>
            <p:sp>
              <p:nvSpPr>
                <p:cNvPr id="188" name="AutoShape 531"/>
                <p:cNvSpPr/>
                <p:nvPr/>
              </p:nvSpPr>
              <p:spPr>
                <a:xfrm>
                  <a:off x="4443480" y="2936880"/>
                  <a:ext cx="476280" cy="47484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89" name="AutoShape 532"/>
                <p:cNvSpPr/>
                <p:nvPr/>
              </p:nvSpPr>
              <p:spPr>
                <a:xfrm>
                  <a:off x="4467240" y="2962440"/>
                  <a:ext cx="426960" cy="42696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437600"/>
                    </a:gs>
                    <a:gs pos="100000">
                      <a:srgbClr val="00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pic>
              <p:nvPicPr>
                <p:cNvPr id="190" name="Picture 533" descr="바코드"/>
                <p:cNvPicPr/>
                <p:nvPr/>
              </p:nvPicPr>
              <p:blipFill>
                <a:blip r:embed="rId3"/>
                <a:srcRect l="16802" t="9783" r="20325" b="5978"/>
                <a:stretch/>
              </p:blipFill>
              <p:spPr>
                <a:xfrm>
                  <a:off x="4770360" y="2986200"/>
                  <a:ext cx="82800" cy="5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1" name="AutoShape 534"/>
                <p:cNvSpPr/>
                <p:nvPr/>
              </p:nvSpPr>
              <p:spPr>
                <a:xfrm>
                  <a:off x="4479840" y="2975040"/>
                  <a:ext cx="401760" cy="7632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99dd01"/>
                    </a:gs>
                    <a:gs pos="100000">
                      <a:srgbClr val="569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192" name="Text Box 535"/>
              <p:cNvSpPr/>
              <p:nvPr/>
            </p:nvSpPr>
            <p:spPr>
              <a:xfrm>
                <a:off x="4579920" y="3076560"/>
                <a:ext cx="20484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4443480" y="3578400"/>
              <a:ext cx="476280" cy="474480"/>
              <a:chOff x="4443480" y="3578400"/>
              <a:chExt cx="476280" cy="47448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4443480" y="3578400"/>
                <a:ext cx="476280" cy="474480"/>
                <a:chOff x="4443480" y="3578400"/>
                <a:chExt cx="476280" cy="474480"/>
              </a:xfrm>
            </p:grpSpPr>
            <p:sp>
              <p:nvSpPr>
                <p:cNvPr id="195" name="AutoShape 538"/>
                <p:cNvSpPr/>
                <p:nvPr/>
              </p:nvSpPr>
              <p:spPr>
                <a:xfrm>
                  <a:off x="4443480" y="3578400"/>
                  <a:ext cx="476280" cy="47448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96" name="AutoShape 539"/>
                <p:cNvSpPr/>
                <p:nvPr/>
              </p:nvSpPr>
              <p:spPr>
                <a:xfrm>
                  <a:off x="4467240" y="3603600"/>
                  <a:ext cx="426960" cy="42660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437600"/>
                    </a:gs>
                    <a:gs pos="100000">
                      <a:srgbClr val="00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pic>
              <p:nvPicPr>
                <p:cNvPr id="197" name="Picture 540" descr="바코드"/>
                <p:cNvPicPr/>
                <p:nvPr/>
              </p:nvPicPr>
              <p:blipFill>
                <a:blip r:embed="rId4"/>
                <a:srcRect l="16802" t="9783" r="20325" b="5978"/>
                <a:stretch/>
              </p:blipFill>
              <p:spPr>
                <a:xfrm>
                  <a:off x="4770360" y="3627360"/>
                  <a:ext cx="82800" cy="55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8" name="AutoShape 541"/>
                <p:cNvSpPr/>
                <p:nvPr/>
              </p:nvSpPr>
              <p:spPr>
                <a:xfrm>
                  <a:off x="4479840" y="3616200"/>
                  <a:ext cx="401760" cy="7596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99dd01"/>
                    </a:gs>
                    <a:gs pos="100000">
                      <a:srgbClr val="569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199" name="Text Box 542"/>
              <p:cNvSpPr/>
              <p:nvPr/>
            </p:nvSpPr>
            <p:spPr>
              <a:xfrm>
                <a:off x="4579920" y="3714480"/>
                <a:ext cx="20484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4443480" y="4221360"/>
              <a:ext cx="476280" cy="474480"/>
              <a:chOff x="4443480" y="4221360"/>
              <a:chExt cx="476280" cy="474480"/>
            </a:xfrm>
          </p:grpSpPr>
          <p:grpSp>
            <p:nvGrpSpPr>
              <p:cNvPr id="201" name=""/>
              <p:cNvGrpSpPr/>
              <p:nvPr/>
            </p:nvGrpSpPr>
            <p:grpSpPr>
              <a:xfrm>
                <a:off x="4443480" y="4221360"/>
                <a:ext cx="476280" cy="474480"/>
                <a:chOff x="4443480" y="4221360"/>
                <a:chExt cx="476280" cy="474480"/>
              </a:xfrm>
            </p:grpSpPr>
            <p:sp>
              <p:nvSpPr>
                <p:cNvPr id="202" name="AutoShape 545"/>
                <p:cNvSpPr/>
                <p:nvPr/>
              </p:nvSpPr>
              <p:spPr>
                <a:xfrm>
                  <a:off x="4443480" y="4221360"/>
                  <a:ext cx="476280" cy="47448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03" name="AutoShape 546"/>
                <p:cNvSpPr/>
                <p:nvPr/>
              </p:nvSpPr>
              <p:spPr>
                <a:xfrm>
                  <a:off x="4467240" y="4246560"/>
                  <a:ext cx="426960" cy="42660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437600"/>
                    </a:gs>
                    <a:gs pos="100000">
                      <a:srgbClr val="00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pic>
              <p:nvPicPr>
                <p:cNvPr id="204" name="Picture 547" descr="바코드"/>
                <p:cNvPicPr/>
                <p:nvPr/>
              </p:nvPicPr>
              <p:blipFill>
                <a:blip r:embed="rId5"/>
                <a:srcRect l="16802" t="9783" r="20325" b="5978"/>
                <a:stretch/>
              </p:blipFill>
              <p:spPr>
                <a:xfrm>
                  <a:off x="4770360" y="4270320"/>
                  <a:ext cx="82800" cy="55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5" name="AutoShape 548"/>
                <p:cNvSpPr/>
                <p:nvPr/>
              </p:nvSpPr>
              <p:spPr>
                <a:xfrm>
                  <a:off x="4479840" y="4259160"/>
                  <a:ext cx="401760" cy="7596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99dd01"/>
                    </a:gs>
                    <a:gs pos="100000">
                      <a:srgbClr val="569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206" name="Text Box 549"/>
              <p:cNvSpPr/>
              <p:nvPr/>
            </p:nvSpPr>
            <p:spPr>
              <a:xfrm>
                <a:off x="4579920" y="4354200"/>
                <a:ext cx="20484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4443480" y="4862520"/>
              <a:ext cx="476280" cy="474840"/>
              <a:chOff x="4443480" y="4862520"/>
              <a:chExt cx="476280" cy="474840"/>
            </a:xfrm>
          </p:grpSpPr>
          <p:grpSp>
            <p:nvGrpSpPr>
              <p:cNvPr id="208" name=""/>
              <p:cNvGrpSpPr/>
              <p:nvPr/>
            </p:nvGrpSpPr>
            <p:grpSpPr>
              <a:xfrm>
                <a:off x="4443480" y="4862520"/>
                <a:ext cx="476280" cy="474840"/>
                <a:chOff x="4443480" y="4862520"/>
                <a:chExt cx="476280" cy="474840"/>
              </a:xfrm>
            </p:grpSpPr>
            <p:sp>
              <p:nvSpPr>
                <p:cNvPr id="209" name="AutoShape 552"/>
                <p:cNvSpPr/>
                <p:nvPr/>
              </p:nvSpPr>
              <p:spPr>
                <a:xfrm>
                  <a:off x="4443480" y="4862520"/>
                  <a:ext cx="476280" cy="47484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10" name="AutoShape 553"/>
                <p:cNvSpPr/>
                <p:nvPr/>
              </p:nvSpPr>
              <p:spPr>
                <a:xfrm>
                  <a:off x="4467240" y="4888080"/>
                  <a:ext cx="426960" cy="42696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437600"/>
                    </a:gs>
                    <a:gs pos="100000">
                      <a:srgbClr val="00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pic>
              <p:nvPicPr>
                <p:cNvPr id="211" name="Picture 554" descr="바코드"/>
                <p:cNvPicPr/>
                <p:nvPr/>
              </p:nvPicPr>
              <p:blipFill>
                <a:blip r:embed="rId6"/>
                <a:srcRect l="16802" t="9783" r="20325" b="5978"/>
                <a:stretch/>
              </p:blipFill>
              <p:spPr>
                <a:xfrm>
                  <a:off x="4770360" y="4910040"/>
                  <a:ext cx="82800" cy="5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2" name="AutoShape 555"/>
                <p:cNvSpPr/>
                <p:nvPr/>
              </p:nvSpPr>
              <p:spPr>
                <a:xfrm>
                  <a:off x="4479840" y="4900680"/>
                  <a:ext cx="401760" cy="7632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99dd01"/>
                    </a:gs>
                    <a:gs pos="100000">
                      <a:srgbClr val="569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213" name="Text Box 556"/>
              <p:cNvSpPr/>
              <p:nvPr/>
            </p:nvSpPr>
            <p:spPr>
              <a:xfrm>
                <a:off x="4579920" y="5005440"/>
                <a:ext cx="20484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4443480" y="5505480"/>
              <a:ext cx="476280" cy="474480"/>
              <a:chOff x="4443480" y="5505480"/>
              <a:chExt cx="476280" cy="47448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443480" y="5505480"/>
                <a:ext cx="476280" cy="474480"/>
                <a:chOff x="4443480" y="5505480"/>
                <a:chExt cx="476280" cy="474480"/>
              </a:xfrm>
            </p:grpSpPr>
            <p:sp>
              <p:nvSpPr>
                <p:cNvPr id="216" name="AutoShape 559"/>
                <p:cNvSpPr/>
                <p:nvPr/>
              </p:nvSpPr>
              <p:spPr>
                <a:xfrm>
                  <a:off x="4443480" y="5505480"/>
                  <a:ext cx="476280" cy="47448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17" name="AutoShape 560"/>
                <p:cNvSpPr/>
                <p:nvPr/>
              </p:nvSpPr>
              <p:spPr>
                <a:xfrm>
                  <a:off x="4467240" y="5530680"/>
                  <a:ext cx="426960" cy="42660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437600"/>
                    </a:gs>
                    <a:gs pos="100000">
                      <a:srgbClr val="00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pic>
              <p:nvPicPr>
                <p:cNvPr id="218" name="Picture 561" descr="바코드"/>
                <p:cNvPicPr/>
                <p:nvPr/>
              </p:nvPicPr>
              <p:blipFill>
                <a:blip r:embed="rId7"/>
                <a:srcRect l="16802" t="9783" r="20325" b="5978"/>
                <a:stretch/>
              </p:blipFill>
              <p:spPr>
                <a:xfrm>
                  <a:off x="4770360" y="5552640"/>
                  <a:ext cx="82800" cy="5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9" name="AutoShape 562"/>
                <p:cNvSpPr/>
                <p:nvPr/>
              </p:nvSpPr>
              <p:spPr>
                <a:xfrm>
                  <a:off x="4479840" y="5543280"/>
                  <a:ext cx="401760" cy="7596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99dd01"/>
                    </a:gs>
                    <a:gs pos="100000">
                      <a:srgbClr val="569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220" name="Text Box 563"/>
              <p:cNvSpPr/>
              <p:nvPr/>
            </p:nvSpPr>
            <p:spPr>
              <a:xfrm>
                <a:off x="4579920" y="5654520"/>
                <a:ext cx="20484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pic>
        <p:nvPicPr>
          <p:cNvPr id="221" name="TextBox 2" descr=""/>
          <p:cNvPicPr/>
          <p:nvPr/>
        </p:nvPicPr>
        <p:blipFill>
          <a:blip r:embed="rId8"/>
          <a:stretch/>
        </p:blipFill>
        <p:spPr>
          <a:xfrm>
            <a:off x="609480" y="3876840"/>
            <a:ext cx="7925040" cy="645840"/>
          </a:xfrm>
          <a:prstGeom prst="rect">
            <a:avLst/>
          </a:prstGeom>
          <a:ln w="0">
            <a:noFill/>
          </a:ln>
        </p:spPr>
      </p:pic>
      <p:sp>
        <p:nvSpPr>
          <p:cNvPr id="222" name="TextBox 2"/>
          <p:cNvSpPr/>
          <p:nvPr/>
        </p:nvSpPr>
        <p:spPr>
          <a:xfrm>
            <a:off x="3632040" y="6593040"/>
            <a:ext cx="550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"/>
          <p:cNvGrpSpPr/>
          <p:nvPr/>
        </p:nvGrpSpPr>
        <p:grpSpPr>
          <a:xfrm>
            <a:off x="1427040" y="2639880"/>
            <a:ext cx="6289560" cy="789120"/>
            <a:chOff x="1427040" y="2639880"/>
            <a:chExt cx="6289560" cy="789120"/>
          </a:xfrm>
        </p:grpSpPr>
        <p:sp>
          <p:nvSpPr>
            <p:cNvPr id="224" name="AutoShape 142"/>
            <p:cNvSpPr/>
            <p:nvPr/>
          </p:nvSpPr>
          <p:spPr>
            <a:xfrm>
              <a:off x="2280960" y="2639880"/>
              <a:ext cx="5435640" cy="78912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32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32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1427040" y="2639880"/>
              <a:ext cx="790560" cy="789120"/>
              <a:chOff x="1427040" y="2639880"/>
              <a:chExt cx="790560" cy="789120"/>
            </a:xfrm>
          </p:grpSpPr>
          <p:grpSp>
            <p:nvGrpSpPr>
              <p:cNvPr id="226" name=""/>
              <p:cNvGrpSpPr/>
              <p:nvPr/>
            </p:nvGrpSpPr>
            <p:grpSpPr>
              <a:xfrm>
                <a:off x="1427040" y="2639880"/>
                <a:ext cx="790560" cy="789120"/>
                <a:chOff x="1427040" y="2639880"/>
                <a:chExt cx="790560" cy="789120"/>
              </a:xfrm>
            </p:grpSpPr>
            <p:sp>
              <p:nvSpPr>
                <p:cNvPr id="227" name="AutoShape 145"/>
                <p:cNvSpPr/>
                <p:nvPr/>
              </p:nvSpPr>
              <p:spPr>
                <a:xfrm>
                  <a:off x="1427040" y="2639880"/>
                  <a:ext cx="790560" cy="78912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28" name="AutoShape 146"/>
                <p:cNvSpPr/>
                <p:nvPr/>
              </p:nvSpPr>
              <p:spPr>
                <a:xfrm>
                  <a:off x="1466640" y="2682720"/>
                  <a:ext cx="709560" cy="70956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437600"/>
                    </a:gs>
                    <a:gs pos="100000">
                      <a:srgbClr val="00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pic>
              <p:nvPicPr>
                <p:cNvPr id="229" name="Picture 147" descr="바코드"/>
                <p:cNvPicPr/>
                <p:nvPr/>
              </p:nvPicPr>
              <p:blipFill>
                <a:blip r:embed="rId1"/>
                <a:srcRect l="16802" t="9783" r="20325" b="5978"/>
                <a:stretch/>
              </p:blipFill>
              <p:spPr>
                <a:xfrm>
                  <a:off x="2028600" y="2738160"/>
                  <a:ext cx="82800" cy="5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0" name="AutoShape 148"/>
                <p:cNvSpPr/>
                <p:nvPr/>
              </p:nvSpPr>
              <p:spPr>
                <a:xfrm>
                  <a:off x="1487520" y="2703240"/>
                  <a:ext cx="668160" cy="12708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99dd01"/>
                    </a:gs>
                    <a:gs pos="100000">
                      <a:srgbClr val="569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231" name="Text Box 149"/>
              <p:cNvSpPr/>
              <p:nvPr/>
            </p:nvSpPr>
            <p:spPr>
              <a:xfrm>
                <a:off x="1633320" y="2803320"/>
                <a:ext cx="339840" cy="53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1</a:t>
                </a:r>
                <a:endParaRPr b="0" lang="en-US" sz="44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pic>
        <p:nvPicPr>
          <p:cNvPr id="232" name="TextBox 2" descr=""/>
          <p:cNvPicPr/>
          <p:nvPr/>
        </p:nvPicPr>
        <p:blipFill>
          <a:blip r:embed="rId2"/>
          <a:stretch/>
        </p:blipFill>
        <p:spPr>
          <a:xfrm>
            <a:off x="609480" y="3876840"/>
            <a:ext cx="7925040" cy="645840"/>
          </a:xfrm>
          <a:prstGeom prst="rect">
            <a:avLst/>
          </a:prstGeom>
          <a:ln w="0">
            <a:noFill/>
          </a:ln>
        </p:spPr>
      </p:pic>
      <p:sp>
        <p:nvSpPr>
          <p:cNvPr id="233" name="TextBox 2"/>
          <p:cNvSpPr/>
          <p:nvPr/>
        </p:nvSpPr>
        <p:spPr>
          <a:xfrm>
            <a:off x="3632040" y="6593040"/>
            <a:ext cx="550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4"/>
          <p:cNvSpPr/>
          <p:nvPr/>
        </p:nvSpPr>
        <p:spPr>
          <a:xfrm>
            <a:off x="250920" y="44280"/>
            <a:ext cx="6431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HY견고딕"/>
                <a:ea typeface="HY견고딕"/>
              </a:rPr>
              <a:t>내용을 입력하세요</a:t>
            </a:r>
            <a:endParaRPr b="0" lang="en-US" sz="26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235" name="TextBox 2" descr=""/>
          <p:cNvPicPr/>
          <p:nvPr/>
        </p:nvPicPr>
        <p:blipFill>
          <a:blip r:embed="rId1"/>
          <a:stretch/>
        </p:blipFill>
        <p:spPr>
          <a:xfrm>
            <a:off x="609480" y="3876840"/>
            <a:ext cx="7925040" cy="645840"/>
          </a:xfrm>
          <a:prstGeom prst="rect">
            <a:avLst/>
          </a:prstGeom>
          <a:ln w="0">
            <a:noFill/>
          </a:ln>
        </p:spPr>
      </p:pic>
      <p:sp>
        <p:nvSpPr>
          <p:cNvPr id="236" name="TextBox 2"/>
          <p:cNvSpPr/>
          <p:nvPr/>
        </p:nvSpPr>
        <p:spPr>
          <a:xfrm>
            <a:off x="3632040" y="6593040"/>
            <a:ext cx="550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감사합니다"/>
          <p:cNvPicPr/>
          <p:nvPr/>
        </p:nvPicPr>
        <p:blipFill>
          <a:blip r:embed="rId1"/>
          <a:srcRect l="2527" t="0" r="1444" b="7105"/>
          <a:stretch/>
        </p:blipFill>
        <p:spPr>
          <a:xfrm>
            <a:off x="2050920" y="1989000"/>
            <a:ext cx="5075280" cy="998640"/>
          </a:xfrm>
          <a:prstGeom prst="rect">
            <a:avLst/>
          </a:prstGeom>
          <a:ln w="0">
            <a:noFill/>
          </a:ln>
        </p:spPr>
      </p:pic>
      <p:pic>
        <p:nvPicPr>
          <p:cNvPr id="238" name="TextBox 2" descr=""/>
          <p:cNvPicPr/>
          <p:nvPr/>
        </p:nvPicPr>
        <p:blipFill>
          <a:blip r:embed="rId2"/>
          <a:stretch/>
        </p:blipFill>
        <p:spPr>
          <a:xfrm>
            <a:off x="609480" y="3876840"/>
            <a:ext cx="7925040" cy="645840"/>
          </a:xfrm>
          <a:prstGeom prst="rect">
            <a:avLst/>
          </a:prstGeom>
          <a:ln w="0">
            <a:noFill/>
          </a:ln>
        </p:spPr>
      </p:pic>
      <p:sp>
        <p:nvSpPr>
          <p:cNvPr id="239" name="TextBox 2"/>
          <p:cNvSpPr/>
          <p:nvPr/>
        </p:nvSpPr>
        <p:spPr>
          <a:xfrm>
            <a:off x="3632040" y="6593040"/>
            <a:ext cx="550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09:37:11Z</dcterms:created>
  <dc:creator>霐旍瀽鞚胳勾旃挫槫</dc:creator>
  <dc:description/>
  <cp:keywords/>
  <dc:language>en-US</dc:language>
  <cp:lastModifiedBy>未知用户</cp:lastModifiedBy>
  <cp:lastPrinted>1899-12-30T00:00:00Z</cp:lastPrinted>
  <dcterms:modified xsi:type="dcterms:W3CDTF">2015-11-23T01:45:43Z</dcterms:modified>
  <cp:revision>19</cp:revision>
  <dc:subject/>
  <dc:title>鞀澕鞚措摐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089</vt:lpwstr>
  </property>
</Properties>
</file>