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6C2-729C-48F5-9244-45D41A2C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300-04CA-4210-89BE-EEE47DC2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A38-4A78-4CC6-9638-C98238BB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618-5F7B-456E-A2A0-441B98E3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E8B-907B-40FE-A992-27E5A9FC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36F-F155-434A-A501-1109248C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BE3-CFF3-456C-B8C3-95C5C48A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26C-D8A7-4984-AB08-65CA18BE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1D40-BDB7-47E3-85FF-2A7E9756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D97-3940-4FE0-8675-3BB3B770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3C6-F1C8-4EDC-84FF-48014432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E4C-F784-42BD-A90B-F7F1CFE0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3F3C-CB9F-461B-A2C7-B29D19F63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校车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42920" y="549360"/>
            <a:ext cx="7129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诚信伴我成长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71640" y="3429000"/>
            <a:ext cx="5372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——</a:t>
            </a: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二中队主题活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9" descr="朦胧梅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艺术字 5"/>
          <p:cNvSpPr txBox="1"/>
          <p:nvPr/>
        </p:nvSpPr>
        <p:spPr>
          <a:xfrm>
            <a:off x="684360" y="549360"/>
            <a:ext cx="5903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《诚信拍手歌》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700280"/>
            <a:ext cx="9505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你拍一，我拍一，诚信道德是第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你拍二，我拍二，诚信小孩人人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你拍三，我拍三，诚信教育记心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你拍四，我拍四，诚信做事要求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你拍五，我拍五，诚信脚步不落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你拍六，我拍六，诚信丰碑心中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你拍七，我拍七，诚信引导新时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684360" y="1125360"/>
            <a:ext cx="10260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  <a:ea typeface="华文新魏"/>
              </a:rPr>
              <a:t>《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小学生守则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  <a:ea typeface="华文新魏"/>
              </a:rPr>
              <a:t>》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第十条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诚实、勇敢、不说谎话</a:t>
            </a:r>
            <a:r>
              <a:rPr b="1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4" descr="柠檬"/>
          <p:cNvPicPr/>
          <p:nvPr/>
        </p:nvPicPr>
        <p:blipFill>
          <a:blip r:embed="rId1"/>
          <a:stretch/>
        </p:blipFill>
        <p:spPr>
          <a:xfrm>
            <a:off x="-619200" y="-466560"/>
            <a:ext cx="9763200" cy="732456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5"/>
          <p:cNvSpPr/>
          <p:nvPr/>
        </p:nvSpPr>
        <p:spPr>
          <a:xfrm>
            <a:off x="1116000" y="378936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252360" y="260280"/>
            <a:ext cx="90010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事例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王和小杰是好朋友，他们曾经许诺，不管谁遇到困难，一定要互相帮助。这天小王想抄小杰的作业，小杰没同意，他生气地说：“这点忙都不帮，真不讲信用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  <a:ea typeface="黑体"/>
              </a:rPr>
              <a:t>讨论：你对这件事怎么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9280" y="18900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事例</a:t>
            </a:r>
            <a:r>
              <a:rPr b="1" lang="en-US" sz="4800" spc="-1" strike="noStrike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娟的爸爸参加了援藏医疗队。最近，她妈妈得了重病住进了医院。爸爸来信问到家里的情况，王娟不知道该不该把妈妈生病的事如实地告诉爸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黑体"/>
                <a:ea typeface="黑体"/>
              </a:rPr>
              <a:t>讨论：她应该怎么办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李佳说：“小晶要我帮她学电脑，可我已答应与小芳一块儿去练琴，所以我没答应小晶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小宁与小森约好星期天下午两点去军属王大爷家帮助整理卫生，可他看电视入了迷，不想去了。妈妈批评他，他说：“见了小森编个理由就行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王晓与张红约好星期六上午去科技馆学电脑。可星期五晚上她感冒了，高烧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39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度，第二天不能去科技馆了，它就让妈妈给张红打了个电话，说明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小明不想做作业，就叫好朋友张林也不要完成作业，张林果然不完成作业，小明说：“张林真讲信用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5364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判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791320"/>
            <a:ext cx="15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诚信出版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62485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主编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梅 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307920" y="5759280"/>
            <a:ext cx="2763720" cy="565920"/>
            <a:chOff x="6307920" y="5759280"/>
            <a:chExt cx="2763720" cy="565920"/>
          </a:xfrm>
        </p:grpSpPr>
        <p:sp>
          <p:nvSpPr>
            <p:cNvPr id="72" name=""/>
            <p:cNvSpPr/>
            <p:nvPr/>
          </p:nvSpPr>
          <p:spPr>
            <a:xfrm>
              <a:off x="6374880" y="5759280"/>
              <a:ext cx="269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SB 978—7—220—06939—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07920" y="5987880"/>
              <a:ext cx="267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——————————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—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573240" y="6248520"/>
            <a:ext cx="10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定价：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.5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5400000">
            <a:off x="6784200" y="1666080"/>
            <a:ext cx="365760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言必行，行必果。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"/>
          <p:cNvSpPr txBox="1"/>
          <p:nvPr/>
        </p:nvSpPr>
        <p:spPr>
          <a:xfrm rot="5460000">
            <a:off x="-1771920" y="3473280"/>
            <a:ext cx="457056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一言既出，驷马难追。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692360" y="333360"/>
            <a:ext cx="597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真心话大胆说出来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84464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列举出班上有哪些诚信的同学，说说他们的事迹。在我们的周围又有哪些不诚信的行为，具体表现在哪些方面？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5280" y="1989000"/>
            <a:ext cx="81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假如你的同学、老师、父母、警察、司机、医生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·····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正直、诚实，结果会怎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54936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</a:rPr>
              <a:t>不信请看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·····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68360" y="4005360"/>
            <a:ext cx="6553080" cy="2490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平安离不开诚信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219320" y="2819520"/>
            <a:ext cx="6651360" cy="1276200"/>
            <a:chOff x="1219320" y="2819520"/>
            <a:chExt cx="6651360" cy="1276200"/>
          </a:xfrm>
        </p:grpSpPr>
        <p:sp>
          <p:nvSpPr>
            <p:cNvPr id="85" name=""/>
            <p:cNvSpPr/>
            <p:nvPr/>
          </p:nvSpPr>
          <p:spPr>
            <a:xfrm>
              <a:off x="1219320" y="2819520"/>
              <a:ext cx="6651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19320" y="2819520"/>
              <a:ext cx="665136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8360" y="333360"/>
            <a:ext cx="7343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生命离不开诚信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4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90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530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ffff99"/>
                </a:solidFill>
                <a:latin typeface="Times New Roman"/>
              </a:rPr>
              <a:t>妈妈品行不好，教孩子撒谎，占别人的小便宜。使孩子走向犯罪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44370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765000"/>
            <a:ext cx="7934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1989000"/>
            <a:ext cx="453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8000" y="436572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Times New Roman"/>
              </a:rPr>
              <a:t>教育离不开诚信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Arial"/>
                <a:ea typeface="楷体_GB2312"/>
              </a:rPr>
              <a:t>讨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817272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华文彩云"/>
              </a:rPr>
              <a:t>什么是诚信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2781360"/>
            <a:ext cx="8642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ffff99"/>
                </a:solidFill>
                <a:latin typeface="黑体"/>
                <a:ea typeface="黑体"/>
              </a:rPr>
              <a:t>、如老师不认真上课，对学生经常失信，你会喜欢他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ff99"/>
                </a:solidFill>
                <a:latin typeface="黑体"/>
                <a:ea typeface="黑体"/>
              </a:rPr>
              <a:t>、作为学生上课不认真听讲，不完成作业，结果会怎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新魏"/>
              </a:rPr>
              <a:t>那么我们该怎样做才能坚守诚信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3124080"/>
            <a:ext cx="833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2060640"/>
            <a:ext cx="871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我们的诚信可以这样建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:(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供参考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在校按小学生守则做到每一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对父母孝顺体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对同学互助友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对每一个人都礼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不轻言承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诺则一诺千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不做损人的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不开过火玩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不与人比吃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只比学习进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404640"/>
            <a:ext cx="7777080" cy="136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9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现在就定计划培养自己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成为一个诚信的人吧</a:t>
            </a: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!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9720000" cy="715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黑体"/>
                <a:ea typeface="黑体"/>
              </a:rPr>
              <a:t>      </a:t>
            </a:r>
            <a:r>
              <a:rPr b="1" lang="zh-CN" sz="5400" spc="-1" strike="noStrike">
                <a:solidFill>
                  <a:srgbClr val="ff00ff"/>
                </a:solidFill>
                <a:latin typeface="华文行楷"/>
                <a:ea typeface="华文行楷"/>
              </a:rPr>
              <a:t>诚实守信诗一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同学们，要知道，诚实守信很重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弄虚作假咱不要，犯了错误快改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平等公平去竞争，争做文明小学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承诺一定讲原则，害人害已不去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培养诚实好品质，不断进步创新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791320"/>
            <a:ext cx="15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诚信出版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62485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主编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梅 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07920" y="5759280"/>
            <a:ext cx="2763720" cy="565920"/>
            <a:chOff x="6307920" y="5759280"/>
            <a:chExt cx="2763720" cy="565920"/>
          </a:xfrm>
        </p:grpSpPr>
        <p:sp>
          <p:nvSpPr>
            <p:cNvPr id="107" name=""/>
            <p:cNvSpPr/>
            <p:nvPr/>
          </p:nvSpPr>
          <p:spPr>
            <a:xfrm>
              <a:off x="6374880" y="5759280"/>
              <a:ext cx="269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SB 978—7—220—06939—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07920" y="5987880"/>
              <a:ext cx="267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——————————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—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573240" y="6248520"/>
            <a:ext cx="10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定价：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.5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9640" y="620640"/>
            <a:ext cx="7920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8898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记住：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诚信由你我做起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诚信就在你我身边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87280" y="76464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诚     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459640" cy="17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诚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忠诚老实、实事求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信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言而有信、信守承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692360" y="1125360"/>
            <a:ext cx="6337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宋体"/>
              </a:rPr>
              <a:t>阅读故事，感悟诚信</a:t>
            </a:r>
            <a:endParaRPr b="0" lang="en-US" sz="4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651640" y="2781360"/>
            <a:ext cx="25207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3177720"/>
            <a:ext cx="8640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5400" y="0"/>
            <a:ext cx="171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狼来了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923760"/>
            <a:ext cx="9536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前，有个放羊娃，每天都去山上放羊。 一天，他觉得十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聊，就想了个捉弄大家寻开心的主意。他向着山下正在种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农夫们大声喊：“狼来了！狼来了！救命啊！”农夫们听到喊声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忙拿着锄头和镰刀往山上跑，他们边跑边喊：“不要怕，孩子，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们来帮你打恶狼！” 农夫们气喘吁吁地赶到山上一看，连狼的影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没有！放羊娃哈哈大笑：“真有意思，你们上当了！”农夫们生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走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天，放羊娃故伎重演，善良的农夫们又冲上来帮他打狼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还是没有见到狼的影子。 放羊娃笑得直不起腰：“哈哈！你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上当了！哈哈！” 大伙儿对放羊娃一而再再而三地说谎十分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，从此再也不相信他的话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了几天，狼真的来了，一下子闯进了羊群。放羊娃害怕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了，拼命地向农夫们喊：“狼来了！狼来了！快救命呀！狼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了！” 农夫们听到他的喊声，以为他又在说谎，大家都不理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，没有人去帮他，结果放羊娃的许多羊都被狼咬死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16000" y="23911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说谎是一种不好的行为，它即不尊重别人，也会失去别人对自己的信任。我们应该培养诚恳待人的良好品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26016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曾子是孔子的得意门生。一天他妻子要上集市买东西，儿子曾参哭闹着不让去，曾妻为摆脱儿子的纠缠，便哄骗他说：“你在家好好玩，你爹回家让他杀猪给你煮肉吃。”等曾妻赶集回来一看，家里那只黑猪已变成一堆白肉。“怎么把猪杀了？”曾子说：“你既然已答应孩子了，就应该算数。今天你在孩子面前言而无信，明天孩子就会像你那样去哄骗别人。一口猪杀了是小事，教育孩子从小知道做人的根本，可是关系他一辈子的大事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我认为曾子不仅是个诚信的人，而且是一个很伟大的父亲。从古至今，为人诚实的人，都能得到别人的尊重和信任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189000"/>
            <a:ext cx="58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曾子杀猪取信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81520" y="188280"/>
            <a:ext cx="238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我不能失信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》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33933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一次，宋庆龄一家要去伯伯家，宋庆龄也非常想去，因为伯伯养了几只可爱的鸽子，还答应送一只给宋庆龄。可真当全家要出门时，宋庆龄突然想起下午还要教同学小珍折花篮，于是就毫不迟疑地决定留下来等小珍。家人劝说宋庆龄可以向小珍说明情况改天再教，可宋庆龄怎么也不答应。她说，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答应了别人的事，一定要做到，不能失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1195560"/>
            <a:ext cx="86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</a:rPr>
              <a:t>听了这些诚信的故事，同学们从中都获得什么启示？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4:49:31Z</dcterms:created>
  <dc:creator>荷城三小</dc:creator>
  <dc:description/>
  <dc:language>en-US</dc:language>
  <cp:lastModifiedBy>MC SYSTEM</cp:lastModifiedBy>
  <dcterms:modified xsi:type="dcterms:W3CDTF">2012-10-27T13:55:02Z</dcterms:modified>
  <cp:revision>133</cp:revision>
  <dc:subject/>
  <dc:title>幻灯片 1</dc:title>
</cp:coreProperties>
</file>