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8FB-A532-49A2-81A7-27F1A235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238-1F2E-4B17-BB1D-D0A4E665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8C9-3CAF-467C-80A7-E5720506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F8A-484D-41D8-8B74-52AE1E78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AA57-CEF3-49F3-9A83-17ADD877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21E6-C817-401F-A060-6EA2F76E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6C1A-B9FA-4158-80F6-07C007D9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1E61-B411-4AC4-B195-D49FD013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76E5-5E24-458C-87BB-6BCA7FD1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DFC2-33DA-408D-B9DC-53CB5165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A51D-6C27-461C-9551-6F40EE5F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016-B444-45A3-8708-03DD710F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736C-5979-4021-8446-57077ABA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BB75-D2E9-40C7-8C27-71F7D1B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7BB3-EE1B-42CE-92EB-C19254AE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CEFC-A970-44F5-869C-3CDFCF88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0799-FAED-44E9-874F-2D6DB587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B357-C71B-494E-96AB-1A278614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94C0-5AB5-423A-BAD4-99544B39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1459-792B-49D3-A633-15AF0C2F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EEBD-9963-4D80-A7AD-B5626C7C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E928-C795-463E-B74A-9C0286D9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A51-CD0A-4963-B689-F697A60D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66FD-F9AB-49AD-A481-21C9036F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4125-9536-4259-8869-BF11A914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CD09-D0B5-4C1B-BD16-09A768AE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81C5-B011-47C6-BF50-6BCA4B0E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185B-470D-4A7A-8919-4913B36A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86E3-BB86-46DC-A1BC-5C9AAE44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D5D4D-4530-49D3-9209-E12DF008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78480-7E1C-4CFA-B514-9B33512F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B8C3-1D57-4FA0-A0C3-10B6F55B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6447F-94CB-4EFC-8A0A-BC6CF873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AC4-43DC-45BF-AF51-012C6512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C45B2-0969-4830-A3EE-8993D9ED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72AE2-28A0-4919-BD30-F917E75B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AC1F0-CBCA-4990-8ABB-F2310D83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D73FD-8427-4BE9-9667-5C9ECA92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A12B-3A22-4586-9E32-D0110AAE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BD47A-D283-4DDE-9115-1EEF295E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BDC78-7144-45A8-9A9E-4F7FB159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999B3-D580-4FBD-8208-1BAB8831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C4A7-F674-4E6A-BEAD-D5B6AB74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DA6-AA8C-48D7-98EF-5E21315B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029-859E-485C-8817-7A180ACE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8DF-848E-4BE7-8D0F-A94CB863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884-B32D-46E6-AB47-E8E5337B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C91-D0AF-4054-8BAD-73B4FBB6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mputer_kuan_262885_10[1]"/>
          <p:cNvPicPr/>
          <p:nvPr/>
        </p:nvPicPr>
        <p:blipFill>
          <a:blip r:embed="rId2"/>
          <a:srcRect l="3950" t="0" r="5029" b="0"/>
          <a:stretch/>
        </p:blipFill>
        <p:spPr>
          <a:xfrm>
            <a:off x="1440" y="60480"/>
            <a:ext cx="9107640" cy="639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6151-8687-4531-9F08-A6D50AFCBE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omputer_kuan_263056_9[1]"/>
          <p:cNvPicPr/>
          <p:nvPr/>
        </p:nvPicPr>
        <p:blipFill>
          <a:blip r:embed="rId2"/>
          <a:stretch/>
        </p:blipFill>
        <p:spPr>
          <a:xfrm>
            <a:off x="-27000" y="0"/>
            <a:ext cx="9209160" cy="676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4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366D-9595-43A1-BEB9-F787C9DEDA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omputer_kuan_262951_9[1]"/>
          <p:cNvPicPr/>
          <p:nvPr/>
        </p:nvPicPr>
        <p:blipFill>
          <a:blip r:embed="rId2"/>
          <a:stretch/>
        </p:blipFill>
        <p:spPr>
          <a:xfrm>
            <a:off x="34920" y="1440"/>
            <a:ext cx="9109080" cy="6812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CB7C-C840-457B-827B-47A162CFE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omputer_kuan_262934_11[1]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0F41-6D2B-4493-A180-86FDF2F622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"/>
          <p:cNvSpPr/>
          <p:nvPr/>
        </p:nvSpPr>
        <p:spPr>
          <a:xfrm>
            <a:off x="108000" y="63770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46836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21:03:06Z</dcterms:created>
  <dc:creator>张媚</dc:creator>
  <dc:description/>
  <dc:language>en-US</dc:language>
  <cp:lastModifiedBy>lenovo</cp:lastModifiedBy>
  <cp:lastPrinted>1899-12-30T00:00:00Z</cp:lastPrinted>
  <dcterms:modified xsi:type="dcterms:W3CDTF">2015-11-02T03:44:1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