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wmf" ContentType="image/x-wmf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28A-26C8-4992-9AE8-E274B8CE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E41-B17C-47A5-A3B4-FDACBE64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BB7-EE67-4BE7-9866-AA01E8E4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CBC-1D1C-45C0-952B-CB5AAEB2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ADE1-8BED-4EC4-9477-DB8A2B53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D338-C08F-4C6C-830E-0909BF0B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AF5F-0CF0-475B-BDED-BBA9F5B4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F84E-F4C3-4CF8-B586-D451C492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779B-5671-4AF0-903F-E477CE81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003E-4F61-4021-B99E-0B5BB053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AA0A-77DB-427F-B32A-AF192413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554-4F2C-4EDF-8AF5-1121A82F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9DAA-7C52-4178-BE6D-C02E1851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9593-2AF7-41DB-8731-FEE9B653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2E46-B2CF-4D33-A5B2-87D3BF4D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2999-CD6E-4633-A888-3B39B9B5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F2A3-33C5-4C69-BA42-C1B11FE0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0F9-86B2-4B14-8557-79BADCE3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D53-C9E8-4949-B615-253143F3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457-9323-4495-BA7C-9B9283AA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201-7C3A-4D08-9F44-FF0034F7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9D7-1D57-4D50-8519-72F3A101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20E-EBD1-4109-A7EF-44F8CE95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319-3BA7-49FB-A9FE-7CBAF75D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635E-6665-4F15-8802-0D81CC58D1A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C46A-ADC0-4297-ABC2-F22C961FF2C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3.gi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87640" y="4508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一班家长会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47640" y="2492280"/>
            <a:ext cx="64090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好习惯，细节做起</a:t>
            </a:r>
            <a:endParaRPr b="1" lang="en-US" sz="1800" spc="1" strike="noStrike"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"/>
          <p:cNvSpPr txBox="1"/>
          <p:nvPr/>
        </p:nvSpPr>
        <p:spPr>
          <a:xfrm rot="19783200">
            <a:off x="178920" y="475920"/>
            <a:ext cx="245772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黑体"/>
              </a:rPr>
              <a:t>活动主题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0" y="6129360"/>
            <a:ext cx="9142920" cy="727560"/>
            <a:chOff x="0" y="6129360"/>
            <a:chExt cx="9142920" cy="727560"/>
          </a:xfrm>
        </p:grpSpPr>
        <p:grpSp>
          <p:nvGrpSpPr>
            <p:cNvPr id="103" name="Group 40"/>
            <p:cNvGrpSpPr/>
            <p:nvPr/>
          </p:nvGrpSpPr>
          <p:grpSpPr>
            <a:xfrm>
              <a:off x="5873760" y="6129360"/>
              <a:ext cx="3269160" cy="727560"/>
              <a:chOff x="5873760" y="6129360"/>
              <a:chExt cx="3269160" cy="727560"/>
            </a:xfrm>
          </p:grpSpPr>
          <p:sp>
            <p:nvSpPr>
              <p:cNvPr id="104" name="Freeform 41"/>
              <p:cNvSpPr/>
              <p:nvPr/>
            </p:nvSpPr>
            <p:spPr>
              <a:xfrm>
                <a:off x="8091000" y="6144840"/>
                <a:ext cx="10519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744336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>
                <a:off x="6612840" y="614484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>
                <a:off x="587376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45"/>
            <p:cNvGrpSpPr/>
            <p:nvPr/>
          </p:nvGrpSpPr>
          <p:grpSpPr>
            <a:xfrm>
              <a:off x="2585880" y="6129360"/>
              <a:ext cx="3269160" cy="727560"/>
              <a:chOff x="2585880" y="6129360"/>
              <a:chExt cx="3269160" cy="727560"/>
            </a:xfrm>
          </p:grpSpPr>
          <p:sp>
            <p:nvSpPr>
              <p:cNvPr id="109" name="Freeform 46"/>
              <p:cNvSpPr/>
              <p:nvPr/>
            </p:nvSpPr>
            <p:spPr>
              <a:xfrm>
                <a:off x="4803120" y="6144840"/>
                <a:ext cx="10519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7"/>
              <p:cNvSpPr/>
              <p:nvPr/>
            </p:nvSpPr>
            <p:spPr>
              <a:xfrm>
                <a:off x="415548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3324960" y="614484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9"/>
              <p:cNvSpPr/>
              <p:nvPr/>
            </p:nvSpPr>
            <p:spPr>
              <a:xfrm>
                <a:off x="258588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0"/>
            <p:cNvGrpSpPr/>
            <p:nvPr/>
          </p:nvGrpSpPr>
          <p:grpSpPr>
            <a:xfrm>
              <a:off x="610560" y="6129360"/>
              <a:ext cx="3269160" cy="727560"/>
              <a:chOff x="610560" y="6129360"/>
              <a:chExt cx="3269160" cy="727560"/>
            </a:xfrm>
          </p:grpSpPr>
          <p:sp>
            <p:nvSpPr>
              <p:cNvPr id="114" name="Freeform 51"/>
              <p:cNvSpPr/>
              <p:nvPr/>
            </p:nvSpPr>
            <p:spPr>
              <a:xfrm>
                <a:off x="2827800" y="6144840"/>
                <a:ext cx="10519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2"/>
              <p:cNvSpPr/>
              <p:nvPr/>
            </p:nvSpPr>
            <p:spPr>
              <a:xfrm>
                <a:off x="218016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3"/>
              <p:cNvSpPr/>
              <p:nvPr/>
            </p:nvSpPr>
            <p:spPr>
              <a:xfrm>
                <a:off x="1349640" y="614484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4"/>
              <p:cNvSpPr/>
              <p:nvPr/>
            </p:nvSpPr>
            <p:spPr>
              <a:xfrm>
                <a:off x="610560" y="6129360"/>
                <a:ext cx="105264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5"/>
            <p:cNvGrpSpPr/>
            <p:nvPr/>
          </p:nvGrpSpPr>
          <p:grpSpPr>
            <a:xfrm>
              <a:off x="0" y="6129360"/>
              <a:ext cx="2585520" cy="727560"/>
              <a:chOff x="0" y="6129360"/>
              <a:chExt cx="2585520" cy="727560"/>
            </a:xfrm>
          </p:grpSpPr>
          <p:sp>
            <p:nvSpPr>
              <p:cNvPr id="119" name="Freeform 56"/>
              <p:cNvSpPr/>
              <p:nvPr/>
            </p:nvSpPr>
            <p:spPr>
              <a:xfrm>
                <a:off x="1753560" y="6144840"/>
                <a:ext cx="83196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7"/>
              <p:cNvSpPr/>
              <p:nvPr/>
            </p:nvSpPr>
            <p:spPr>
              <a:xfrm>
                <a:off x="124128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8"/>
              <p:cNvSpPr/>
              <p:nvPr/>
            </p:nvSpPr>
            <p:spPr>
              <a:xfrm>
                <a:off x="584280" y="614484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9"/>
              <p:cNvSpPr/>
              <p:nvPr/>
            </p:nvSpPr>
            <p:spPr>
              <a:xfrm>
                <a:off x="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60"/>
            <p:cNvGrpSpPr/>
            <p:nvPr/>
          </p:nvGrpSpPr>
          <p:grpSpPr>
            <a:xfrm>
              <a:off x="2864880" y="6129360"/>
              <a:ext cx="2585160" cy="727560"/>
              <a:chOff x="2864880" y="6129360"/>
              <a:chExt cx="2585160" cy="727560"/>
            </a:xfrm>
          </p:grpSpPr>
          <p:sp>
            <p:nvSpPr>
              <p:cNvPr id="124" name="Freeform 61"/>
              <p:cNvSpPr/>
              <p:nvPr/>
            </p:nvSpPr>
            <p:spPr>
              <a:xfrm>
                <a:off x="4618080" y="6144840"/>
                <a:ext cx="83196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2"/>
              <p:cNvSpPr/>
              <p:nvPr/>
            </p:nvSpPr>
            <p:spPr>
              <a:xfrm>
                <a:off x="410616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3"/>
              <p:cNvSpPr/>
              <p:nvPr/>
            </p:nvSpPr>
            <p:spPr>
              <a:xfrm>
                <a:off x="3449160" y="614484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4"/>
              <p:cNvSpPr/>
              <p:nvPr/>
            </p:nvSpPr>
            <p:spPr>
              <a:xfrm>
                <a:off x="286488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5"/>
            <p:cNvGrpSpPr/>
            <p:nvPr/>
          </p:nvGrpSpPr>
          <p:grpSpPr>
            <a:xfrm>
              <a:off x="4803120" y="6129360"/>
              <a:ext cx="2585160" cy="727560"/>
              <a:chOff x="4803120" y="6129360"/>
              <a:chExt cx="2585160" cy="727560"/>
            </a:xfrm>
          </p:grpSpPr>
          <p:sp>
            <p:nvSpPr>
              <p:cNvPr id="129" name="Freeform 66"/>
              <p:cNvSpPr/>
              <p:nvPr/>
            </p:nvSpPr>
            <p:spPr>
              <a:xfrm>
                <a:off x="6556320" y="6144840"/>
                <a:ext cx="83196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7"/>
              <p:cNvSpPr/>
              <p:nvPr/>
            </p:nvSpPr>
            <p:spPr>
              <a:xfrm>
                <a:off x="604440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8"/>
              <p:cNvSpPr/>
              <p:nvPr/>
            </p:nvSpPr>
            <p:spPr>
              <a:xfrm>
                <a:off x="5387400" y="614484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9"/>
              <p:cNvSpPr/>
              <p:nvPr/>
            </p:nvSpPr>
            <p:spPr>
              <a:xfrm>
                <a:off x="480312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70"/>
            <p:cNvGrpSpPr/>
            <p:nvPr/>
          </p:nvGrpSpPr>
          <p:grpSpPr>
            <a:xfrm>
              <a:off x="6466680" y="6129360"/>
              <a:ext cx="2585160" cy="727560"/>
              <a:chOff x="6466680" y="6129360"/>
              <a:chExt cx="2585160" cy="727560"/>
            </a:xfrm>
          </p:grpSpPr>
          <p:sp>
            <p:nvSpPr>
              <p:cNvPr id="134" name="Freeform 71"/>
              <p:cNvSpPr/>
              <p:nvPr/>
            </p:nvSpPr>
            <p:spPr>
              <a:xfrm>
                <a:off x="8219880" y="6144840"/>
                <a:ext cx="83196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2"/>
              <p:cNvSpPr/>
              <p:nvPr/>
            </p:nvSpPr>
            <p:spPr>
              <a:xfrm>
                <a:off x="770796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3"/>
              <p:cNvSpPr/>
              <p:nvPr/>
            </p:nvSpPr>
            <p:spPr>
              <a:xfrm>
                <a:off x="7050960" y="614484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4"/>
              <p:cNvSpPr/>
              <p:nvPr/>
            </p:nvSpPr>
            <p:spPr>
              <a:xfrm>
                <a:off x="6466680" y="6129360"/>
                <a:ext cx="832320" cy="712080"/>
              </a:xfrm>
              <a:prstGeom prst="pie">
                <a:avLst/>
              </a:pr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699"/>
          <p:cNvGrpSpPr/>
          <p:nvPr/>
        </p:nvGrpSpPr>
        <p:grpSpPr>
          <a:xfrm>
            <a:off x="4714200" y="5789880"/>
            <a:ext cx="507960" cy="1405800"/>
            <a:chOff x="4714200" y="5789880"/>
            <a:chExt cx="507960" cy="1405800"/>
          </a:xfrm>
        </p:grpSpPr>
        <p:pic>
          <p:nvPicPr>
            <p:cNvPr id="139" name="Picture 700" descr="MCj04456520000[1]"/>
            <p:cNvPicPr/>
            <p:nvPr/>
          </p:nvPicPr>
          <p:blipFill>
            <a:blip r:embed="rId2"/>
            <a:stretch/>
          </p:blipFill>
          <p:spPr>
            <a:xfrm rot="21224400">
              <a:off x="4749840" y="580752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701"/>
            <p:cNvSpPr/>
            <p:nvPr/>
          </p:nvSpPr>
          <p:spPr>
            <a:xfrm rot="21224400">
              <a:off x="4825800" y="649944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699"/>
          <p:cNvGrpSpPr/>
          <p:nvPr/>
        </p:nvGrpSpPr>
        <p:grpSpPr>
          <a:xfrm>
            <a:off x="3993480" y="5467680"/>
            <a:ext cx="507960" cy="1405800"/>
            <a:chOff x="3993480" y="5467680"/>
            <a:chExt cx="507960" cy="1405800"/>
          </a:xfrm>
        </p:grpSpPr>
        <p:pic>
          <p:nvPicPr>
            <p:cNvPr id="142" name="Picture 700" descr="MCj04456520000[1]"/>
            <p:cNvPicPr/>
            <p:nvPr/>
          </p:nvPicPr>
          <p:blipFill>
            <a:blip r:embed="rId3"/>
            <a:stretch/>
          </p:blipFill>
          <p:spPr>
            <a:xfrm rot="21224400">
              <a:off x="4029120" y="548532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701"/>
            <p:cNvSpPr/>
            <p:nvPr/>
          </p:nvSpPr>
          <p:spPr>
            <a:xfrm rot="21224400">
              <a:off x="4105080" y="617724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699"/>
          <p:cNvGrpSpPr/>
          <p:nvPr/>
        </p:nvGrpSpPr>
        <p:grpSpPr>
          <a:xfrm>
            <a:off x="6803280" y="5467680"/>
            <a:ext cx="507960" cy="1405800"/>
            <a:chOff x="6803280" y="5467680"/>
            <a:chExt cx="507960" cy="1405800"/>
          </a:xfrm>
        </p:grpSpPr>
        <p:pic>
          <p:nvPicPr>
            <p:cNvPr id="145" name="Picture 700" descr="MCj04456520000[1]"/>
            <p:cNvPicPr/>
            <p:nvPr/>
          </p:nvPicPr>
          <p:blipFill>
            <a:blip r:embed="rId4"/>
            <a:stretch/>
          </p:blipFill>
          <p:spPr>
            <a:xfrm rot="21224400">
              <a:off x="6838920" y="548532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701"/>
            <p:cNvSpPr/>
            <p:nvPr/>
          </p:nvSpPr>
          <p:spPr>
            <a:xfrm rot="21224400">
              <a:off x="6914880" y="617724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99"/>
          <p:cNvGrpSpPr/>
          <p:nvPr/>
        </p:nvGrpSpPr>
        <p:grpSpPr>
          <a:xfrm>
            <a:off x="1834200" y="5467680"/>
            <a:ext cx="507960" cy="1405800"/>
            <a:chOff x="1834200" y="5467680"/>
            <a:chExt cx="507960" cy="1405800"/>
          </a:xfrm>
        </p:grpSpPr>
        <p:pic>
          <p:nvPicPr>
            <p:cNvPr id="148" name="Picture 700" descr="MCj04456520000[1]"/>
            <p:cNvPicPr/>
            <p:nvPr/>
          </p:nvPicPr>
          <p:blipFill>
            <a:blip r:embed="rId5"/>
            <a:stretch/>
          </p:blipFill>
          <p:spPr>
            <a:xfrm rot="21224400">
              <a:off x="1869840" y="548532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701"/>
            <p:cNvSpPr/>
            <p:nvPr/>
          </p:nvSpPr>
          <p:spPr>
            <a:xfrm rot="21224400">
              <a:off x="1945800" y="617724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699"/>
          <p:cNvGrpSpPr/>
          <p:nvPr/>
        </p:nvGrpSpPr>
        <p:grpSpPr>
          <a:xfrm>
            <a:off x="5793480" y="5285160"/>
            <a:ext cx="507960" cy="1405800"/>
            <a:chOff x="5793480" y="5285160"/>
            <a:chExt cx="507960" cy="1405800"/>
          </a:xfrm>
        </p:grpSpPr>
        <p:pic>
          <p:nvPicPr>
            <p:cNvPr id="151" name="Picture 700" descr="MCj04456520000[1]"/>
            <p:cNvPicPr/>
            <p:nvPr/>
          </p:nvPicPr>
          <p:blipFill>
            <a:blip r:embed="rId6"/>
            <a:stretch/>
          </p:blipFill>
          <p:spPr>
            <a:xfrm rot="21224400">
              <a:off x="5829120" y="530280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701"/>
            <p:cNvSpPr/>
            <p:nvPr/>
          </p:nvSpPr>
          <p:spPr>
            <a:xfrm rot="21224400">
              <a:off x="5905080" y="599472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699"/>
          <p:cNvGrpSpPr/>
          <p:nvPr/>
        </p:nvGrpSpPr>
        <p:grpSpPr>
          <a:xfrm>
            <a:off x="2842560" y="5467680"/>
            <a:ext cx="507960" cy="1405800"/>
            <a:chOff x="2842560" y="5467680"/>
            <a:chExt cx="507960" cy="1405800"/>
          </a:xfrm>
        </p:grpSpPr>
        <p:pic>
          <p:nvPicPr>
            <p:cNvPr id="154" name="Picture 700" descr="MCj04456520000[1]"/>
            <p:cNvPicPr/>
            <p:nvPr/>
          </p:nvPicPr>
          <p:blipFill>
            <a:blip r:embed="rId7"/>
            <a:stretch/>
          </p:blipFill>
          <p:spPr>
            <a:xfrm rot="21224400">
              <a:off x="2878200" y="548532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701"/>
            <p:cNvSpPr/>
            <p:nvPr/>
          </p:nvSpPr>
          <p:spPr>
            <a:xfrm rot="21224400">
              <a:off x="2954160" y="617724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699"/>
          <p:cNvGrpSpPr/>
          <p:nvPr/>
        </p:nvGrpSpPr>
        <p:grpSpPr>
          <a:xfrm>
            <a:off x="7666920" y="5285160"/>
            <a:ext cx="507960" cy="1405800"/>
            <a:chOff x="7666920" y="5285160"/>
            <a:chExt cx="507960" cy="1405800"/>
          </a:xfrm>
        </p:grpSpPr>
        <p:pic>
          <p:nvPicPr>
            <p:cNvPr id="157" name="Picture 700" descr="MCj04456520000[1]"/>
            <p:cNvPicPr/>
            <p:nvPr/>
          </p:nvPicPr>
          <p:blipFill>
            <a:blip r:embed="rId8"/>
            <a:stretch/>
          </p:blipFill>
          <p:spPr>
            <a:xfrm rot="21224400">
              <a:off x="7702560" y="530280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701"/>
            <p:cNvSpPr/>
            <p:nvPr/>
          </p:nvSpPr>
          <p:spPr>
            <a:xfrm rot="21224400">
              <a:off x="7778520" y="599472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99"/>
          <p:cNvGrpSpPr/>
          <p:nvPr/>
        </p:nvGrpSpPr>
        <p:grpSpPr>
          <a:xfrm>
            <a:off x="537480" y="5285160"/>
            <a:ext cx="507960" cy="1405800"/>
            <a:chOff x="537480" y="5285160"/>
            <a:chExt cx="507960" cy="1405800"/>
          </a:xfrm>
        </p:grpSpPr>
        <p:pic>
          <p:nvPicPr>
            <p:cNvPr id="160" name="Picture 700" descr="MCj04456520000[1]"/>
            <p:cNvPicPr/>
            <p:nvPr/>
          </p:nvPicPr>
          <p:blipFill>
            <a:blip r:embed="rId9"/>
            <a:stretch/>
          </p:blipFill>
          <p:spPr>
            <a:xfrm rot="21224400">
              <a:off x="573120" y="5302800"/>
              <a:ext cx="3585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701"/>
            <p:cNvSpPr/>
            <p:nvPr/>
          </p:nvSpPr>
          <p:spPr>
            <a:xfrm rot="21224400">
              <a:off x="649080" y="5994720"/>
              <a:ext cx="360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768"/>
          <p:cNvGrpSpPr/>
          <p:nvPr/>
        </p:nvGrpSpPr>
        <p:grpSpPr>
          <a:xfrm>
            <a:off x="2530440" y="44280"/>
            <a:ext cx="1584000" cy="927000"/>
            <a:chOff x="2530440" y="44280"/>
            <a:chExt cx="1584000" cy="927000"/>
          </a:xfrm>
        </p:grpSpPr>
        <p:sp>
          <p:nvSpPr>
            <p:cNvPr id="163" name="Cloud"/>
            <p:cNvSpPr/>
            <p:nvPr/>
          </p:nvSpPr>
          <p:spPr>
            <a:xfrm>
              <a:off x="2663640" y="367920"/>
              <a:ext cx="896760" cy="4276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Cloud"/>
            <p:cNvSpPr/>
            <p:nvPr/>
          </p:nvSpPr>
          <p:spPr>
            <a:xfrm>
              <a:off x="2530440" y="41688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Cloud"/>
            <p:cNvSpPr/>
            <p:nvPr/>
          </p:nvSpPr>
          <p:spPr>
            <a:xfrm>
              <a:off x="3217320" y="45864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loud"/>
            <p:cNvSpPr/>
            <p:nvPr/>
          </p:nvSpPr>
          <p:spPr>
            <a:xfrm>
              <a:off x="2579040" y="217080"/>
              <a:ext cx="700920" cy="4276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loud"/>
            <p:cNvSpPr/>
            <p:nvPr/>
          </p:nvSpPr>
          <p:spPr>
            <a:xfrm>
              <a:off x="2579040" y="44280"/>
              <a:ext cx="539640" cy="638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loud"/>
            <p:cNvSpPr/>
            <p:nvPr/>
          </p:nvSpPr>
          <p:spPr>
            <a:xfrm>
              <a:off x="2677680" y="542520"/>
              <a:ext cx="897120" cy="4287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57"/>
          <p:cNvGrpSpPr/>
          <p:nvPr/>
        </p:nvGrpSpPr>
        <p:grpSpPr>
          <a:xfrm>
            <a:off x="5057640" y="-27000"/>
            <a:ext cx="1800000" cy="1457280"/>
            <a:chOff x="5057640" y="-27000"/>
            <a:chExt cx="1800000" cy="1457280"/>
          </a:xfrm>
        </p:grpSpPr>
        <p:sp>
          <p:nvSpPr>
            <p:cNvPr id="170" name="Cloud"/>
            <p:cNvSpPr/>
            <p:nvPr/>
          </p:nvSpPr>
          <p:spPr>
            <a:xfrm>
              <a:off x="5541840" y="465120"/>
              <a:ext cx="1315800" cy="7351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Cloud"/>
            <p:cNvSpPr/>
            <p:nvPr/>
          </p:nvSpPr>
          <p:spPr>
            <a:xfrm>
              <a:off x="5057640" y="550800"/>
              <a:ext cx="1315800" cy="736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Cloud"/>
            <p:cNvSpPr/>
            <p:nvPr/>
          </p:nvSpPr>
          <p:spPr>
            <a:xfrm>
              <a:off x="5541840" y="693720"/>
              <a:ext cx="1315800" cy="73656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Cloud"/>
            <p:cNvSpPr/>
            <p:nvPr/>
          </p:nvSpPr>
          <p:spPr>
            <a:xfrm>
              <a:off x="5418000" y="206280"/>
              <a:ext cx="1028520" cy="7351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Cloud"/>
            <p:cNvSpPr/>
            <p:nvPr/>
          </p:nvSpPr>
          <p:spPr>
            <a:xfrm>
              <a:off x="5705280" y="-27000"/>
              <a:ext cx="576360" cy="880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756" descr="1189846809_0"/>
          <p:cNvPicPr/>
          <p:nvPr/>
        </p:nvPicPr>
        <p:blipFill>
          <a:blip r:embed="rId10"/>
          <a:stretch/>
        </p:blipFill>
        <p:spPr>
          <a:xfrm flipH="1">
            <a:off x="-741600" y="714240"/>
            <a:ext cx="664920" cy="58104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782"/>
          <p:cNvSpPr/>
          <p:nvPr/>
        </p:nvSpPr>
        <p:spPr>
          <a:xfrm>
            <a:off x="6948360" y="-1251000"/>
            <a:ext cx="3184560" cy="3835440"/>
          </a:xfrm>
          <a:prstGeom prst="sun">
            <a:avLst>
              <a:gd name="adj" fmla="val 39074"/>
            </a:avLst>
          </a:prstGeom>
          <a:blipFill rotWithShape="0">
            <a:blip r:embed="rId11">
              <a:alphaModFix amt="6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6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0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9 0.0698 C 0.075 0.1237 0.13889 0.17787 0.19271 0.16381 C 0.24653 0.14974 0.27639 -0.00312 0.33403 -0.01328 C 0.39236 -0.02317 0.47795 0.09714 0.54063 0.10365 C 0.60365 0.11042 0.62084 0.01589 0.71181 0.02579 C 0.80261 0.03542 0.9441 0.09792 1.08629 0.16094 E">
                                      <p:cBhvr>
                                        <p:cTn id="22" dur="15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4" dur="33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6" dur="1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5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0380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0920" y="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播下一个行动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收获一种习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播下一种习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收获一种性格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播下一种性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收获一种命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184640" y="0"/>
            <a:ext cx="4959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733920" y="0"/>
            <a:ext cx="5410080" cy="2286000"/>
          </a:xfrm>
          <a:prstGeom prst="wedgeEllipseCallout">
            <a:avLst>
              <a:gd name="adj1" fmla="val -60652"/>
              <a:gd name="adj2" fmla="val 37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隶书"/>
              </a:rPr>
              <a:t>培养习惯宛如登山，攀登成功，你的人生就达到圆满境界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2000" y="2349360"/>
            <a:ext cx="2971800" cy="4267440"/>
          </a:xfrm>
          <a:prstGeom prst="verticalScroll">
            <a:avLst>
              <a:gd name="adj" fmla="val 73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创造美好人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隶书"/>
              </a:rPr>
              <a:t>养成良好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4040" y="169920"/>
            <a:ext cx="44672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学习习惯测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学过的功课，是不是加以复习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不是预习要学的功课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上课的时候，注意力是否集中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否喜欢回答老师的问题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上自习课的时候是否自觉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不懂的功课，是否向别人请教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不是按时完成作业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否喜欢参加讨论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59280" y="476280"/>
            <a:ext cx="5870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你觉得能做到的是那一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早晨自觉起床，不用父母催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自己整理好自己的床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出门前整理好自己的服饰和所带物品，不丢三落四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出门时和父母礼貌地打招呼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路上文明行车，遵守交通规则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到校门口自觉下车，遇到老师主动打招呼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进入教室用手推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迟到喊报告，下课后主动找老师说明理由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上课时目光注视老师，不随意插话，打断老师思路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同学发言时注意倾听，有不同意见时听完再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作业本一贯保持干净、平整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作业书写规范、清楚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独立完成作业，实事求是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语言文明，不讲脏话、粗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损害了别人时主动道歉，接受别人帮助时及时说谢谢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看到教室、校园有垃圾主动捡起来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上下楼梯靠右行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进老师办公室先敲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放学后不拥不挤，有秩序出行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看到父母回家主动上前接过父母手中的提包、衣物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332000" y="2205000"/>
            <a:ext cx="9349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ffff00">
                      <a:alpha val="80000"/>
                    </a:srgbClr>
                  </a:outerShdw>
                </a:effectLst>
                <a:latin typeface="黑体"/>
              </a:rPr>
              <a:t>大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ffff0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ffff00">
                      <a:alpha val="80000"/>
                    </a:srgbClr>
                  </a:outerShdw>
                </a:effectLst>
                <a:latin typeface="黑体"/>
              </a:rPr>
              <a:t>家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ffff0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ffff00">
                      <a:alpha val="80000"/>
                    </a:srgbClr>
                  </a:outerShdw>
                </a:effectLst>
                <a:latin typeface="黑体"/>
              </a:rPr>
              <a:t>讨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ffff0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ffff00">
                      <a:alpha val="80000"/>
                    </a:srgbClr>
                  </a:outerShdw>
                </a:effectLst>
                <a:latin typeface="黑体"/>
              </a:rPr>
              <a:t>论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ffff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jasie\Pictures\毕加猪\6c2a5e2578d99436d50742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353440" cy="373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行为养成习惯，习惯形成性格，性格决定命运，可见，良好的习惯的养成至关重要！我们要从细节入手。努力吧！孩子们，你们一定会成功的。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16000" y="5084640"/>
            <a:ext cx="2735280" cy="6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《齐读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活动目标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5" descr="C:\Users\jasie\Desktop\图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627280" y="620640"/>
            <a:ext cx="27432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家长会目标：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2421000"/>
            <a:ext cx="669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我们要懂得习惯对一个人的成长发展具有重要作用，好的习惯可以使人一步步成长，坏的习惯会让人渐渐走向失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习惯决定着自己的命运，只有注重抓住生活中的细节，养成良好的行为习惯，才能成就自己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403280" y="549360"/>
            <a:ext cx="397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f0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听故事，悟事理。 </a:t>
            </a:r>
            <a:endParaRPr b="1" lang="en-US" sz="1800" spc="1" strike="noStrike">
              <a:ln w="12600">
                <a:solidFill>
                  <a:srgbClr val="ffcf0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323100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家招聘高级管理人才的公司，对一群应聘者进行复试。尽管应聘者都很自信地回答了考官们的简单提问，可结果却都未被录用，只得怏怏离去。这时，有一位应聘者，走进房门后，看到了地毯上有一个纸团。地毯很干净，那个纸团显得很不协调。这位应聘者弯腰捡起了纸团，准备将它扔进纸篓里。这时考官发话了：“您好，朋友，请看看您捡起的纸团吧！”这位应聘者迟疑地打开纸团，只见上面写着：“欢迎您到我们公司任职。”几年以后，这位捡纸团的应聘者成了这家著名大公司的总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请同学们想一想，为什么这位捡纸团的应聘者被公司选中且日后又能成为公司的总裁？说说你的看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105520" y="3730680"/>
            <a:ext cx="4038480" cy="3127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9640" y="2071080"/>
            <a:ext cx="76327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e4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学习没有计划，做作业拖拉，不能按时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上课不认真听讲，东张西望，做小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不能独立完成作业，考试作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遇到难题就放弃，不动脑筋积极思考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93960" y="987480"/>
            <a:ext cx="10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、讨论交流：这样做对吗</a:t>
            </a:r>
            <a:r>
              <a:rPr b="0" lang="zh-CN" sz="3600" spc="-1" strike="noStrike">
                <a:solidFill>
                  <a:srgbClr val="990099"/>
                </a:solidFill>
                <a:latin typeface="黑体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rot="319800">
            <a:off x="539640" y="1268280"/>
            <a:ext cx="7345440" cy="4608720"/>
          </a:xfrm>
          <a:prstGeom prst="rect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0596200">
            <a:off x="801000" y="69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.number one."/>
                <a:ea typeface="华文彩云"/>
              </a:rPr>
              <a:t>温馨提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69000">
            <a:off x="971640" y="1915920"/>
            <a:ext cx="6646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习惯是一个人的资本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你有了好习惯，你一辈子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都有用不完的利息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你有了坏习惯，你一辈子有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.number one."/>
                <a:ea typeface="方正水柱简体"/>
              </a:rPr>
              <a:t>偿还不了的债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445560" y="97704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、交流想法：这样做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288972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a.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上课专心致致地听讲，积极举手、思考提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b.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下课上完厕所，及时回到教室，不在外面游荡，准备下节课的课前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c.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按时完成作业，晚上能把白天学过的东西复习一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d.</a:t>
            </a:r>
            <a:r>
              <a:rPr b="1" lang="zh-CN" sz="3200" spc="-1" strike="noStrike">
                <a:solidFill>
                  <a:srgbClr val="006699"/>
                </a:solidFill>
                <a:latin typeface="Tahoma"/>
              </a:rPr>
              <a:t>放假在家不贪心看电视，多读优秀的课外书，并注意摘录和写读后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4"/>
          <p:cNvPicPr/>
          <p:nvPr/>
        </p:nvPicPr>
        <p:blipFill>
          <a:blip r:embed="rId1"/>
          <a:stretch/>
        </p:blipFill>
        <p:spPr>
          <a:xfrm>
            <a:off x="990720" y="2286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Users\jasie\Pictures\毕加猪\bb0bd50fbca6efdd36d122df.jpg"/>
          <p:cNvPicPr/>
          <p:nvPr/>
        </p:nvPicPr>
        <p:blipFill>
          <a:blip r:embed="rId2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93" name="Rectangle 2"/>
          <p:cNvSpPr/>
          <p:nvPr/>
        </p:nvSpPr>
        <p:spPr>
          <a:xfrm>
            <a:off x="515880" y="1449360"/>
            <a:ext cx="7943760" cy="18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Verdana"/>
                <a:ea typeface="隶书"/>
              </a:rPr>
              <a:t>好习惯与坏习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162080" y="3166920"/>
            <a:ext cx="6146640" cy="148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Verdana"/>
                <a:ea typeface="隶书"/>
              </a:rPr>
              <a:t>对我们的影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333360"/>
            <a:ext cx="3384720" cy="122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28720" y="622440"/>
            <a:ext cx="2663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讨论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4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想管住自己为什么管不住呢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长记性，总是重复在同一个错误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原谅自己，在没有办法改变的时候就放弃了，然后给自己找各种各样的理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意志薄弱，下决心要控制自己，可是总是在最后的关头又坚持不住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9640" y="26028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想一想：</a:t>
            </a:r>
            <a:endParaRPr b="1" lang="en-US" sz="1800" spc="1" strike="noStrike">
              <a:ln w="1260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26920" y="3573360"/>
            <a:ext cx="3024360" cy="2016360"/>
          </a:xfrm>
          <a:custGeom>
            <a:avLst/>
            <a:gdLst>
              <a:gd name="textAreaLeft" fmla="*/ 0 w 3024360"/>
              <a:gd name="textAreaRight" fmla="*/ 3024720 w 3024360"/>
              <a:gd name="textAreaTop" fmla="*/ 261360 h 2016360"/>
              <a:gd name="textAreaBottom" fmla="*/ 17550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98720" y="836640"/>
            <a:ext cx="8153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得住自己，你是习惯的主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不住自己，你是习惯的奴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做主人，还是做奴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全在于自己的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6000" y="4221000"/>
            <a:ext cx="24480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切记！齐读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3860640"/>
            <a:ext cx="0" cy="2997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2:18:49Z</dcterms:created>
  <dc:creator>微软用户</dc:creator>
  <dc:description/>
  <dc:language>en-US</dc:language>
  <cp:lastModifiedBy>未知用户</cp:lastModifiedBy>
  <dcterms:modified xsi:type="dcterms:W3CDTF">2015-11-23T00:49:51Z</dcterms:modified>
  <cp:revision>40</cp:revision>
  <dc:subject/>
  <dc:title>幻灯片 1</dc:title>
</cp:coreProperties>
</file>