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1BE-BD77-4001-8221-BA47BFC4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D07-6FBC-44BA-A6E8-431F26A7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EAE-11D0-484D-AF81-88DFE379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C15-45A3-4C6C-A847-0979D50A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C152-B8C1-4C04-9319-3058BEA9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0EF9-41DD-425B-A805-FF282C1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EDD-ED68-43BF-98FB-C0A1D23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5B9F-1507-425E-842B-F4FCA6F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41E7-D6E5-473A-97E1-FCFD562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79B-40AA-4919-9757-6929DFB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C28-14A4-473F-B3FB-38FBD54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619-D947-4766-B0F6-97FF068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1C8-718A-4B94-A517-0BA9F50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6BC9-BF18-4CF5-93FB-9D63C7D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AFC-5EAD-4C85-8DAC-7A1B87F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D04-A3FF-410F-87B8-95AA3E7F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119-E1C3-4BB6-B805-4B02E9A0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6A-2A7F-4745-B926-9C0AFAA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643-14AF-4254-8836-07283D36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A62-59DF-445C-839F-657F4A3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0E6-8C56-435D-9D55-A4493FA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FB2-B36D-480A-8F1B-AB034A2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9D7-C189-46C0-9711-44DC7FD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6DE-5A9A-44F5-8580-DDBBFF24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E57-290E-43AE-909D-8ED2BF16E7FD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5F8A-EDCA-4EBC-883E-8353F6DBB17E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3600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Tahoma"/>
              </a:rPr>
              <a:t>消防基础知识讲座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96720" y="5516640"/>
            <a:ext cx="30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00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三、灭火方法及其灭火原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隔离灭火法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要发生燃烧必须具备可燃物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把着火的物质与周围的可燃物隔离开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或把可燃物从燃烧区移开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燃烧则因缺乏可燃物而停止、常采用如下几种方法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搬走起火物旁的可燃物品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移至安全地点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关闭阀门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阻止可燃性气体、液体流入燃烧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导走或排放生产装置、容器内的尚未燃烧的可燃性物料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中止可燃性粉体升运工作或通风吸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拆除与火源相毗连的易燃建筑结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设法堵截流散的着火液体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打火道或用水幕造成隔火地带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窒息灭火法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要发生燃烧必须有足够的氧量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设法阻止空气流入燃烧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或者用灭火剂冲淡空气中氧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燃烧得不到充足的氧气而熄灭、具体施用方法如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 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石棉毯、湿麻袋等捂盖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 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砂土埋灭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用水蒸气、二氧化碳、氮气等惰性气体灌注着火的容器或封闭着火的空间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堵塞孔洞或关闭门窗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以封闭着火的空间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必要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可用大量水淹没燃烧物等、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冷却灭火法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发生燃烧必须有一定能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温度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的点火源这个条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将灭火剂喷射到燃烧物上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通过吸热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其温度降低到燃点以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从而使火熄灭、起冷却作用的主要灭火剂是水、二氧化碳和泡沫灭火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抑制灭火法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它是根据燃烧的连锁反应理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将灭火剂喷向燃烧物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抑制火焰灭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使燃烧过程产生的游离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自由基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消失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从而导致燃烧停止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四、火场逃生与疏散常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火灾袭来要时迅速疏散逃生，不能贪恋财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楼内失火可向着火层以下疏散，逃生时不要乘普通电梯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必须穿过烟雾逃生时，应尽量用浸湿的衣物披裹身体，捂住口鼻，身体贴近地面，沿墙向远离烟火的太平门、安全出口的方向疏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如房内备有防毒面具，逃生时一定要将其戴在头上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身上着火，可就地打滚，或用厚重衣服覆盖压灭火苗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当楼梯被烈火、浓烟封闭时，可通过窗户、阳台，逃往相邻建筑物或未着火的房间。如果烟味很浓，房门已经烫手，说明大火已封门，此时切忌逃生，而应将门缝塞严，泼水降温，呼救求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六、报警方法与注意事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火警电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1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不要慌张，说话要清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报告火场的详细地址、燃烧物质、讲    明所用电话号码和报警人姓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得到消防队明确回答后，方可挂断电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到主要路口迎接消防车并带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</a:rPr>
              <a:t>火灾及防火概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“火”能造福人类，是我们生活中不可缺少的物质。火的应用促进了人类文明的发展，直到今天，我们还有千方百计地以不同方式用火来为我们服务。然而，同世界上一切事物一样，火也有脱缰之时，火灾不仅对人类无益，而且非常有害，甚至带来极大灾难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七、灭火器的种类及选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灭火器按其使用的灭火剂种类可分为：清水灭火器、酸碱灭火器、化学泡沫灭火器、干粉灭火器、卤代烷灭火器、二氧化碳灭火器。目前在公共场所较为常用的是干粉灭火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干粉灭火器通常可分为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型和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型两种，前者用于扑救固体、液体、气体和电气火灾，后者不能扑救固体火灾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灭火器上有一压力表，指针指向绿色或黄色为压力充足，指向红色为失压，需重新进行加压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此外，卤代烷灭火器具有高效、久贮不变质等优点，但由于其对大气臭氧层有严重破坏作用，在非必须使用场所，一律不准配置卤代烷灭火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常用灭火器均为直接启动储存式，使用时去掉保险销，将喷嘴对准火焰根部，按下灭火器的把柄，喷出的灭火剂即可将火扑灭。但泡沫灭火器、酸碱灭火器较为特殊，二者均为倒置式启动，使用时应先将灭火器倒置，剧烈振动数次，然后打开开关，对准火焰根部进行灭火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cc"/>
                </a:solidFill>
                <a:latin typeface="Tahoma"/>
              </a:rPr>
              <a:t>谢谢大家</a:t>
            </a:r>
            <a:r>
              <a:rPr b="0" lang="zh-CN" sz="8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火灾的种类有很多，有森林草原火灾、石油化工火灾、建筑火灾等。我们重点讲的是建筑火灾。所谓建筑火灾是指烧毁建筑物及其容纳物品，造成生命财产损失的灾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建筑火灾对人类有害，为避免、减少火灾发生，我们就必须研究它的发生、发展规律，总结火灾教训，进行防火设计，采取防火技术，防患于未然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ahoma"/>
              </a:rPr>
              <a:t>消防基础知识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一、起火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有焰燃烧过程的发生和发展，必须具备以下四个必要条件，即：可燃物、氧化剂、温度（引火源）和未受抑制的链式反应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可燃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凡是能与空气中的氧或其他氧化剂起化学反应的物质称可燃物。按其物理状态，可分为气体可燃物、液体可燃物、固体可燃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氧化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能帮助和支持可燃物燃烧的物质，即能与可燃物发生氧化反应的物质称为氧化剂。燃烧过程中氧化剂主要是氧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温度（引火源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引火源是指供给可燃物与氧或助燃剂发生燃烧反应的能量来源。常见是热能，还有就是化学能、电能、机械能等转变的热能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链式反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大多数的有焰燃烧都存在链式反应。当某种可燃物受热时，它不仅会汽化，而且该可燃物的分子会发生热裂解作用。即它们在燃烧前会裂解成为更简单的分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二、预防措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严格遵守防火管理规定，做到人人有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同时必须具备对防火问题有充分的认识，保持高度的警惕性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要根据烟火的运行规律采取相应的对策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对能够产生燃点或导致产生温度的物体、地点要重点防范，重点检查，落实责任，措施到位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保持走火通道畅通，保持灭火设备处于有效状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要认真贯彻“预防为主、防消结合”的方针，抓好平时培训，立足火灾初期的自救，并保证本单位消防设施完好，切不可自作主张随意更改，关闭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有关设施，使这些设施在火灾时无法使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火灾时要及时拨通“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19”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，早报案，争取消防队早来灭火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6:01:28Z</dcterms:created>
  <dc:creator>林友福</dc:creator>
  <dc:description/>
  <dc:language>en-US</dc:language>
  <cp:lastModifiedBy>微软中国</cp:lastModifiedBy>
  <dcterms:modified xsi:type="dcterms:W3CDTF">2009-10-26T06:21:26Z</dcterms:modified>
  <cp:revision>18</cp:revision>
  <dc:subject/>
  <dc:title>消防知识讲座</dc:title>
</cp:coreProperties>
</file>