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F836-0B9E-4195-9658-E48DC3A48079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37E8-DA46-4498-9FBB-5AB49D0B337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01605480" y="0"/>
            <a:ext cx="3240" cy="3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0" y="-360"/>
            <a:ext cx="4633653600" cy="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2120" bIns="-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也许吧，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又不能当饭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每次在寝室里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的时候，室友总是很不屑，偶尔会说：又在乱做什么东西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可我更加讨厌他们永远的喋喋不休，像开机关枪一样机械式得连续问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的问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或者天天泡在游戏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或者一心考研，什么都不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我只是不知道他们怎么可以有那么多的废话可以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可我有些时候宁愿保持沉默，也许这被别人称为不合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我觉得我只是找不到我的群而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宁愿每天看很多的排版，看很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，至少这样我不会觉得厌烦，偶尔觉得泡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里，时光也会过得飞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很多时候，觉得自己总是想得太多，说得太少，对别人的确是有抱怨，也懒得说出来，免伤和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所以开始想要做一个系列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，不是为了证明些什么，只是想得有点多，偶尔有表达的需求，却没有述说的对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已经迷茫了两年，如今想要好好想想，静静思考，关于这个略显迷茫的人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顺便告别一下这充满艰辛失败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日凌晨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i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4F0-719A-4A9C-9951-2E52F95C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9A6-1085-4262-8953-F8A8C613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9F6-CE70-4204-B076-213A32E2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D84-2DF3-4924-8E31-BDE77E2D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B3D-4C05-4381-A9B3-360431EB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FB1-0FC3-4754-ABE7-764416F3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6E3-BBCC-474F-95BC-D3B8F9DD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EB0-8ED1-4A0E-B45C-3572AADD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CF7-16B9-4595-BF04-1CC64158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1FD-753A-497C-93CE-CF7C7666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419-97A6-4FE7-89B1-EDCFCF8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1D6-621B-4804-87E5-012580C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A870-899A-4B2E-A331-9E23D6430D2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5623-2DEB-4866-A230-EE5600151B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700360" y="19875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在招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"/>
          <p:cNvSpPr/>
          <p:nvPr/>
        </p:nvSpPr>
        <p:spPr>
          <a:xfrm>
            <a:off x="1973880" y="2139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宣传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4995360" y="18162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759280" y="339840"/>
            <a:ext cx="144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哪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948360" y="2066760"/>
            <a:ext cx="93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stral"/>
              </a:rPr>
              <a:t>By </a:t>
            </a:r>
            <a:r>
              <a:rPr b="0" lang="zh-CN" sz="1400" spc="-1" strike="noStrike">
                <a:solidFill>
                  <a:srgbClr val="ffffff"/>
                </a:solidFill>
                <a:latin typeface="Mistral"/>
                <a:ea typeface="宋体"/>
              </a:rPr>
              <a:t>张孝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7"/>
          <p:cNvSpPr/>
          <p:nvPr/>
        </p:nvSpPr>
        <p:spPr>
          <a:xfrm>
            <a:off x="6804000" y="2057400"/>
            <a:ext cx="0" cy="80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209120" y="250020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127160" y="-8369280"/>
            <a:ext cx="14677920" cy="12546000"/>
            <a:chOff x="1127160" y="-8369280"/>
            <a:chExt cx="14677920" cy="12546000"/>
          </a:xfrm>
        </p:grpSpPr>
        <p:grpSp>
          <p:nvGrpSpPr>
            <p:cNvPr id="101" name=""/>
            <p:cNvGrpSpPr/>
            <p:nvPr/>
          </p:nvGrpSpPr>
          <p:grpSpPr>
            <a:xfrm>
              <a:off x="1127160" y="-8369280"/>
              <a:ext cx="14677920" cy="10944720"/>
              <a:chOff x="1127160" y="-8369280"/>
              <a:chExt cx="14677920" cy="10944720"/>
            </a:xfrm>
          </p:grpSpPr>
          <p:sp>
            <p:nvSpPr>
              <p:cNvPr id="102" name="直接连接符 22"/>
              <p:cNvSpPr/>
              <p:nvPr/>
            </p:nvSpPr>
            <p:spPr>
              <a:xfrm flipH="1" flipV="1">
                <a:off x="8028360" y="-2754360"/>
                <a:ext cx="643320" cy="4263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02480" y="442800"/>
                <a:ext cx="2139840" cy="2132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" name=""/>
              <p:cNvGrpSpPr/>
              <p:nvPr/>
            </p:nvGrpSpPr>
            <p:grpSpPr>
              <a:xfrm>
                <a:off x="1127160" y="-8369280"/>
                <a:ext cx="14677920" cy="7311600"/>
                <a:chOff x="1127160" y="-8369280"/>
                <a:chExt cx="14677920" cy="731160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1127160" y="-8369280"/>
                  <a:ext cx="14677920" cy="6033240"/>
                  <a:chOff x="1127160" y="-8369280"/>
                  <a:chExt cx="14677920" cy="6033240"/>
                </a:xfrm>
              </p:grpSpPr>
              <p:pic>
                <p:nvPicPr>
                  <p:cNvPr id="106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-7230240"/>
                    <a:ext cx="79560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7" name="直接连接符 29"/>
                  <p:cNvSpPr/>
                  <p:nvPr/>
                </p:nvSpPr>
                <p:spPr>
                  <a:xfrm flipH="1">
                    <a:off x="8111160" y="-6655320"/>
                    <a:ext cx="5760360" cy="359928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8" name="Pictur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43600" y="-8369280"/>
                    <a:ext cx="266148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09" name="直接连接符 26"/>
                <p:cNvSpPr/>
                <p:nvPr/>
              </p:nvSpPr>
              <p:spPr>
                <a:xfrm>
                  <a:off x="8183520" y="-2898000"/>
                  <a:ext cx="3528000" cy="1100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0" name="Picture 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063520" y="-2537280"/>
                  <a:ext cx="1479960" cy="147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1" name="直接连接符 31"/>
            <p:cNvSpPr/>
            <p:nvPr/>
          </p:nvSpPr>
          <p:spPr>
            <a:xfrm flipV="1">
              <a:off x="2788200" y="-2754360"/>
              <a:ext cx="4813920" cy="503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" descr=""/>
            <p:cNvPicPr/>
            <p:nvPr/>
          </p:nvPicPr>
          <p:blipFill>
            <a:blip r:embed="rId5"/>
            <a:stretch/>
          </p:blipFill>
          <p:spPr>
            <a:xfrm>
              <a:off x="1188360" y="968040"/>
              <a:ext cx="3200040" cy="3208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75979E-006 L -0.36285 0.90719 E">
                                      <p:cBhvr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36285 0.9069 L -0.42587 0.9069 E">
                                      <p:cBhvr>
                                        <p:cTn id="12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直接连接符 18"/>
          <p:cNvSpPr/>
          <p:nvPr/>
        </p:nvSpPr>
        <p:spPr>
          <a:xfrm flipH="1" flipV="1">
            <a:off x="4379400" y="2297160"/>
            <a:ext cx="257400" cy="1706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210200" y="3576600"/>
            <a:ext cx="855360" cy="852480"/>
          </a:xfrm>
          <a:prstGeom prst="rect">
            <a:avLst/>
          </a:prstGeom>
          <a:ln w="0">
            <a:noFill/>
          </a:ln>
        </p:spPr>
      </p:pic>
      <p:sp>
        <p:nvSpPr>
          <p:cNvPr id="115" name="直接连接符 25"/>
          <p:cNvSpPr/>
          <p:nvPr/>
        </p:nvSpPr>
        <p:spPr>
          <a:xfrm flipH="1">
            <a:off x="4412880" y="736560"/>
            <a:ext cx="2303640" cy="1440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6426360" y="50760"/>
            <a:ext cx="1063440" cy="1065240"/>
          </a:xfrm>
          <a:prstGeom prst="rect">
            <a:avLst/>
          </a:prstGeom>
          <a:ln w="0">
            <a:noFill/>
          </a:ln>
        </p:spPr>
      </p:pic>
      <p:sp>
        <p:nvSpPr>
          <p:cNvPr id="117" name="直接连接符 22"/>
          <p:cNvSpPr/>
          <p:nvPr/>
        </p:nvSpPr>
        <p:spPr>
          <a:xfrm>
            <a:off x="4441680" y="2239920"/>
            <a:ext cx="1411560" cy="439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594400" y="2384280"/>
            <a:ext cx="590400" cy="590760"/>
          </a:xfrm>
          <a:prstGeom prst="rect">
            <a:avLst/>
          </a:prstGeom>
          <a:ln w="0">
            <a:noFill/>
          </a:ln>
        </p:spPr>
      </p:pic>
      <p:sp>
        <p:nvSpPr>
          <p:cNvPr id="119" name="直接连接符 16"/>
          <p:cNvSpPr/>
          <p:nvPr/>
        </p:nvSpPr>
        <p:spPr>
          <a:xfrm flipV="1">
            <a:off x="2284560" y="2297160"/>
            <a:ext cx="1925640" cy="20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4"/>
          <a:stretch/>
        </p:blipFill>
        <p:spPr>
          <a:xfrm>
            <a:off x="1644480" y="3786120"/>
            <a:ext cx="1279800" cy="1284480"/>
          </a:xfrm>
          <a:prstGeom prst="rect">
            <a:avLst/>
          </a:prstGeom>
          <a:ln w="0">
            <a:noFill/>
          </a:ln>
        </p:spPr>
      </p:pic>
      <p:sp>
        <p:nvSpPr>
          <p:cNvPr id="121" name="直接连接符 31"/>
          <p:cNvSpPr/>
          <p:nvPr/>
        </p:nvSpPr>
        <p:spPr>
          <a:xfrm>
            <a:off x="2197080" y="1038240"/>
            <a:ext cx="2276640" cy="122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29"/>
          <p:cNvSpPr/>
          <p:nvPr/>
        </p:nvSpPr>
        <p:spPr>
          <a:xfrm flipV="1">
            <a:off x="4303800" y="1081080"/>
            <a:ext cx="154080" cy="1303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5"/>
          <a:stretch/>
        </p:blipFill>
        <p:spPr>
          <a:xfrm>
            <a:off x="4135320" y="5065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6"/>
          <a:stretch/>
        </p:blipFill>
        <p:spPr>
          <a:xfrm>
            <a:off x="1619280" y="539640"/>
            <a:ext cx="86508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7"/>
          <a:stretch/>
        </p:blipFill>
        <p:spPr>
          <a:xfrm>
            <a:off x="4059360" y="1889280"/>
            <a:ext cx="577800" cy="574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8"/>
          <a:stretch/>
        </p:blipFill>
        <p:spPr>
          <a:xfrm>
            <a:off x="3419640" y="1311120"/>
            <a:ext cx="23396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4239E-006 L -0.28437 0.31676 E">
                                      <p:cBhvr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01297E-006 L -0.02014 0.25286 E">
                                      <p:cBhvr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9738E-006 L -0.16753 -0.09108 E">
                                      <p:cBhvr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79407E-006 L 0.24427 0.22723 E">
                                      <p:cBhvr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76906E-006 L 0.21875 -0.431 E">
                                      <p:cBhvr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35597E-006 L -0.03073 -0.30627 E">
                                      <p:cBhvr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00957E-006 L 0.02361 0.07008 E">
                                      <p:cBhvr>
                                        <p:cTn id="194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00" dur="250" fill="hold"/>
                                        <p:tgtEl>
                                          <p:spTgt spid="12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-5581800" y="7216920"/>
            <a:ext cx="47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果你会画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7827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们欢迎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609360" y="1203480"/>
            <a:ext cx="459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612720" y="-290052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如果你写字漂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88720" y="-17845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我们同样欢迎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7326 -0.81204 E">
                                      <p:cBhvr>
                                        <p:cTn id="210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326 -0.81204 L 0.99218 -0.24506 E">
                                      <p:cBhvr>
                                        <p:cTn id="212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07 -0.07222 L 0.00504 -0.97531 E">
                                      <p:cBhvr>
                                        <p:cTn id="216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0.9753 L -0.43594 -1.03827 E">
                                      <p:cBhvr>
                                        <p:cTn id="218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701 0.07901 C 0.25573 0.45988 0.29461 0.84012 0.35451 1.00679 C 0.41441 1.17346 0.53159 1.06327 0.57639 1.07901 C 0.62118 1.09475 0.61545 1.09753 0.62326 1.10124 E">
                                      <p:cBhvr>
                                        <p:cTn id="222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327 1.10123 C 0.6316 1.10308 0.64046 1.10123 0.64827 1.10679 C 0.65365 1.11049 0.66198 1.15185 0.66389 1.16234 C 0.66129 1.19969 0.65955 1.23703 0.65452 1.27345 C 0.6533 1.28271 0.65278 1.29197 0.65139 1.30123 C 0.64966 1.31265 0.64514 1.33457 0.64514 1.33487 C 0.63941 1.40524 0.64705 1.34969 0.63577 1.39012 C 0.63438 1.39537 0.6349 1.40278 0.63264 1.40679 C 0.62726 1.41636 0.61389 1.42901 0.61389 1.42932 C 0.61181 1.43457 0.61042 1.44136 0.60764 1.44568 C 0.60191 1.45432 0.58889 1.4679 0.58889 1.46821 C 0.57518 1.50432 0.57796 1.51543 0.58577 1.5679 C 0.58768 1.57994 0.5974 1.5929 0.60139 1.60123 C 0.60382 1.60648 0.60434 1.6145 0.60764 1.6179 C 0.61233 1.62253 0.61806 1.6216 0.62327 1.62345 C 0.62639 1.62901 0.629 1.6358 0.63264 1.64012 C 0.63542 1.64352 0.63907 1.64321 0.64202 1.64568 C 0.64532 1.64876 0.64827 1.65278 0.65139 1.65679 C 0.65556 1.66203 0.65921 1.66944 0.66389 1.67345 C 0.66389 1.67376 0.68733 1.68734 0.69202 1.69012 C 0.69514 1.69197 0.70139 1.69568 0.70139 1.69598 C 0.7125 1.71543 0.72032 1.72778 0.73577 1.73457 C 0.75556 1.76975 0.76546 1.7679 0.79514 1.7679 E">
                                      <p:cBhvr>
                                        <p:cTn id="22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31 0.06419 C -0.17518 0.09876 -0.15018 0.07098 -0.20243 0.09197 C -0.27587 0.1216 -0.18889 0.09938 -0.25556 0.11419 C -0.28577 0.13209 -0.31789 0.13765 -0.34931 0.14753 C -0.38143 0.20463 -0.33421 0.12407 -0.37118 0.1753 C -0.37691 0.18333 -0.38039 0.19691 -0.38681 0.20308 C -0.39445 0.21018 -0.40417 0.2074 -0.41181 0.21419 C -0.42223 0.22345 -0.43195 0.23518 -0.44306 0.24197 C -0.47726 0.26234 -0.42553 0.22993 -0.46181 0.25864 C -0.46789 0.26327 -0.48056 0.26975 -0.48056 0.26975 C -0.4974 0.29938 -0.50226 0.30524 -0.51493 0.33642 C -0.52674 0.36543 -0.53316 0.38734 -0.54931 0.40864 C -0.55417 0.43456 -0.55678 0.45339 -0.56493 0.4753 C -0.56389 0.48456 -0.56129 0.49382 -0.56181 0.50277 C -0.56233 0.51481 -0.5665 0.52469 -0.56806 0.53642 C -0.57014 0.55123 -0.56598 0.57685 -0.57431 0.58086 C -0.57848 0.58271 -0.58264 0.58426 -0.58681 0.58611 C -0.58785 0.59166 -0.58768 0.59876 -0.58993 0.60308 C -0.59219 0.60679 -0.59792 0.60339 -0.59931 0.60864 C -0.60365 0.62561 -0.60226 0.64598 -0.60556 0.66419 C -0.60764 0.675 -0.60625 0.69074 -0.61181 0.69753 C -0.62483 0.71296 -0.63073 0.71697 -0.63993 0.73642 C -0.64237 0.74166 -0.64358 0.74845 -0.64618 0.75308 C -0.64879 0.75771 -0.65261 0.75987 -0.65556 0.76388 C -0.65903 0.76882 -0.66129 0.77623 -0.66493 0.78086 C -0.67171 0.7895 -0.67987 0.79475 -0.68681 0.80308 C -0.69775 0.8324 -0.68681 0.81111 -0.70556 0.8253 C -0.70973 0.82808 -0.72518 0.85061 -0.72743 0.85277 C -0.73855 0.86543 -0.75487 0.8753 -0.76806 0.8753 E">
                                      <p:cBhvr>
                                        <p:cTn id="228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6806 0.87531 C -0.77223 0.87716 -0.77691 0.87716 -0.78056 0.88086 C -0.7941 0.89444 -0.78785 0.89815 -0.79306 0.91975 C -0.79462 0.92593 -0.79723 0.93086 -0.79931 0.93642 C -0.80174 1.02099 -0.80556 1.07654 -0.80243 1.15864 C -0.79896 1.40926 -0.8033 1.31049 -0.78993 1.45309 C -0.78855 1.4679 -0.79011 1.48364 -0.78681 1.49753 C -0.78438 1.50802 -0.76684 1.52963 -0.76181 1.53642 C -0.75851 1.56605 -0.75868 1.55463 -0.75868 1.56975 E">
                                      <p:cBhvr>
                                        <p:cTn id="230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-4392720" y="-376560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如果你文采斐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-480852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就来宣传部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5545080" y="16002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果你喜爱摄影，和我一样喜欢布列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80720" y="41112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就来宣传部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698 0.09197 C 0.42726 0.51605 0.66771 0.94012 0.67448 1.23642 C 0.68125 1.53271 0.30208 1.76419 0.22761 1.86975 E">
                                      <p:cBhvr>
                                        <p:cTn id="236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53 0.06729 C -0.01737 0.73426 -0.10226 1.40155 -0.21059 1.4784 C -0.31893 1.55525 -0.52049 0.68673 -0.58247 0.5284 E">
                                      <p:cBhvr>
                                        <p:cTn id="240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687 0.00987 L 1.60642 0.37407 E">
                                      <p:cBhvr>
                                        <p:cTn id="244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78 0.00679 L -1.7658 1.01482 E">
                                      <p:cBhvr>
                                        <p:cTn id="248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-6013440" y="0"/>
            <a:ext cx="27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如果你既不会画画、写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-275760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也不会摄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63165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但只要你有一颗强大的心脏，百折不挠的毅力和喜爱学习的大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017080" y="-146052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我们同样欢迎你，期待你的加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99 -0.07871 L 1.04792 0.32716 E">
                                      <p:cBhvr>
                                        <p:cTn id="254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4792 0.32716 L 0.19757 0.90833 E">
                                      <p:cBhvr>
                                        <p:cTn id="258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37 0.07346 C -0.26979 0.12932 -0.25017 0.02716 -0.27187 0.12346 C -0.28056 0.16234 -0.2842 0.20555 -0.29062 0.24568 C -0.29514 0.27315 -0.29392 0.29907 -0.30312 0.32346 C -0.30833 0.37006 -0.31545 0.41636 -0.32187 0.46234 C -0.31545 0.78673 -0.33003 0.67654 -0.3125 0.80123 C -0.31146 0.81975 -0.31128 0.83858 -0.30937 0.85679 C -0.30608 0.88858 -0.29618 0.9071 -0.2875 0.93457 C -0.27726 0.96728 -0.28681 0.94938 -0.26875 0.97346 C -0.26372 1.00031 -0.25816 1.00123 -0.24687 1.0179 C -0.22274 1.05339 -0.25139 1.01821 -0.22812 1.04568 C -0.2151 1.07994 -0.21337 1.11852 -0.20625 1.15679 C -0.20799 1.21358 -0.20451 1.37438 -0.21875 1.41234 C -0.21979 1.42531 -0.21927 1.43889 -0.22187 1.45123 C -0.2276 1.47809 -0.24861 1.51821 -0.2625 1.53457 C -0.26528 1.53796 -0.26892 1.53765 -0.27187 1.54012 C -0.2842 1.55092 -0.29253 1.57037 -0.30312 1.58457 C -0.35278 1.65062 -0.29601 1.57253 -0.32812 1.60679 C -0.36059 1.64136 -0.36823 1.65494 -0.39687 1.69568 C -0.4026 1.70401 -0.4066 1.71574 -0.4125 1.72346 C -0.44115 1.76173 -0.47222 1.79197 -0.50312 1.82346 C -0.51372 1.85185 -0.50382 1.83117 -0.52187 1.85123 C -0.54306 1.87469 -0.525 1.86358 -0.54687 1.87346 C -0.56198 1.90031 -0.57674 1.90525 -0.59687 1.91234 C -0.65278 1.96204 -0.73889 1.94568 -0.8 1.94568 E">
                                      <p:cBhvr>
                                        <p:cTn id="262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906 -0.19012 L -0.72448 -0.85524 E">
                                      <p:cBhvr>
                                        <p:cTn id="266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448 -0.85525 L -1.33489 -1.56913 E">
                                      <p:cBhvr>
                                        <p:cTn id="270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14012 C -0.43403 0.34012 -0.65312 0.54012 -0.78368 0.57901 C -0.91441 0.6179 -0.93055 0.31512 -0.9993 0.37346 C -1.06805 0.43179 -1.07274 0.83642 -1.19618 0.92901 C -1.31962 1.0216 -1.64931 0.92901 -1.73993 0.92901 E">
                                      <p:cBhvr>
                                        <p:cTn id="274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3461040" y="177948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小篆体"/>
                <a:ea typeface="方正小篆体"/>
              </a:rPr>
              <a:t>全剧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6686640" y="250344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de By </a:t>
            </a:r>
            <a:r>
              <a:rPr b="0" lang="zh-CN" sz="1800" spc="-1" strike="noStrike">
                <a:solidFill>
                  <a:srgbClr val="ffffff"/>
                </a:solidFill>
                <a:latin typeface="Mistral"/>
                <a:ea typeface="宋体"/>
              </a:rPr>
              <a:t>张孝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4"/>
          <p:cNvSpPr/>
          <p:nvPr/>
        </p:nvSpPr>
        <p:spPr>
          <a:xfrm>
            <a:off x="6443640" y="1924200"/>
            <a:ext cx="1440" cy="142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3"/>
          <p:cNvSpPr/>
          <p:nvPr/>
        </p:nvSpPr>
        <p:spPr>
          <a:xfrm>
            <a:off x="-3480480" y="47307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方正剑体简体"/>
                <a:ea typeface="方正剑体简体"/>
              </a:rPr>
              <a:t>书画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-6553080" y="418320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方正剑体简体"/>
                <a:ea typeface="方正剑体简体"/>
              </a:rPr>
              <a:t>记者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84360" y="20667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宣传部的组织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E89-202F-4302-9212-42D97A459072}" type="slidenum">
              <a:t>2</a:t>
            </a:fld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25 -0.16389 L 0.80712 -0.80802 E">
                                      <p:cBhvr>
                                        <p:cTn id="6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712 -0.80802 L 1 -1.17191 E">
                                      <p:cBhvr>
                                        <p:cTn id="10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0031 L 1.10607 -0.21975 E">
                                      <p:cBhvr>
                                        <p:cTn id="14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0608 -0.21976 L 1.46841 -0.4929 E">
                                      <p:cBhvr>
                                        <p:cTn id="18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76360" y="484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宣传部职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12762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管理系宣传部作为学生会的公关形象部门，是系学生会对外交流的重要窗口。主要负责对系学生会及其举办活动进行品牌包装，配合其他部门完成好各类活动的前中后期宣传工作。具体的工作内容涉及海报制作、新闻撰写、摄影采编和学生会分会网站的维护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任意多边形 10"/>
          <p:cNvSpPr/>
          <p:nvPr/>
        </p:nvSpPr>
        <p:spPr>
          <a:xfrm>
            <a:off x="290520" y="1647720"/>
            <a:ext cx="3417840" cy="41112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291840" h="411480">
                <a:moveTo>
                  <a:pt x="3291840" y="411480"/>
                </a:moveTo>
                <a:lnTo>
                  <a:pt x="2548890" y="1143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98748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书画组职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4360" y="1924200"/>
            <a:ext cx="579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制作宣传彩页、绘画并张贴海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为系各项活动事先准备板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3C1-5FAA-4283-8514-03E21790B0E0}" type="slidenum">
              <a:t>4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记者团职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第一时间对活动进行报道、照片收集，通过图片文字等方式让大家能够及时的掌握活动的具体信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7794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我们需要什么人才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直接连接符 2"/>
          <p:cNvSpPr/>
          <p:nvPr/>
        </p:nvSpPr>
        <p:spPr>
          <a:xfrm flipH="1">
            <a:off x="-1044720" y="2284560"/>
            <a:ext cx="575784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03280" y="247680"/>
            <a:ext cx="7893000" cy="4896000"/>
            <a:chOff x="503280" y="247680"/>
            <a:chExt cx="7893000" cy="4896000"/>
          </a:xfrm>
        </p:grpSpPr>
        <p:grpSp>
          <p:nvGrpSpPr>
            <p:cNvPr id="70" name=""/>
            <p:cNvGrpSpPr/>
            <p:nvPr/>
          </p:nvGrpSpPr>
          <p:grpSpPr>
            <a:xfrm>
              <a:off x="503280" y="391680"/>
              <a:ext cx="7499160" cy="4752000"/>
              <a:chOff x="503280" y="391680"/>
              <a:chExt cx="7499160" cy="4752000"/>
            </a:xfrm>
          </p:grpSpPr>
          <p:sp>
            <p:nvSpPr>
              <p:cNvPr id="71" name="直接连接符 14"/>
              <p:cNvSpPr/>
              <p:nvPr/>
            </p:nvSpPr>
            <p:spPr>
              <a:xfrm>
                <a:off x="1726920" y="1471680"/>
                <a:ext cx="5470920" cy="2952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椭圆 15"/>
              <p:cNvSpPr/>
              <p:nvPr/>
            </p:nvSpPr>
            <p:spPr>
              <a:xfrm>
                <a:off x="503280" y="391680"/>
                <a:ext cx="2015640" cy="2016000"/>
              </a:xfrm>
              <a:prstGeom prst="ellipse">
                <a:avLst/>
              </a:prstGeom>
              <a:solidFill>
                <a:srgbClr val="007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方正稚艺简体"/>
                    <a:ea typeface="方正稚艺简体"/>
                  </a:rPr>
                  <a:t>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方正稚艺简体"/>
                    <a:ea typeface="方正稚艺简体"/>
                  </a:rPr>
                  <a:t>Knowledg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558840" y="3704040"/>
                <a:ext cx="1443600" cy="143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" name="直接连接符 17"/>
            <p:cNvSpPr/>
            <p:nvPr/>
          </p:nvSpPr>
          <p:spPr>
            <a:xfrm flipV="1">
              <a:off x="7198200" y="1074960"/>
              <a:ext cx="370440" cy="313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2" descr=""/>
            <p:cNvPicPr/>
            <p:nvPr/>
          </p:nvPicPr>
          <p:blipFill>
            <a:blip r:embed="rId2"/>
            <a:stretch/>
          </p:blipFill>
          <p:spPr>
            <a:xfrm>
              <a:off x="6741000" y="247680"/>
              <a:ext cx="1655280" cy="165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3995640" y="555480"/>
            <a:ext cx="2660760" cy="2660760"/>
          </a:xfrm>
          <a:prstGeom prst="rect">
            <a:avLst/>
          </a:prstGeom>
          <a:ln w="0">
            <a:noFill/>
          </a:ln>
        </p:spPr>
      </p:pic>
      <p:sp>
        <p:nvSpPr>
          <p:cNvPr id="77" name="任意多边形 4"/>
          <p:cNvSpPr/>
          <p:nvPr/>
        </p:nvSpPr>
        <p:spPr>
          <a:xfrm>
            <a:off x="6332400" y="122400"/>
            <a:ext cx="2708280" cy="21744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708910" h="217170">
                <a:moveTo>
                  <a:pt x="0" y="217170"/>
                </a:moveTo>
                <a:lnTo>
                  <a:pt x="45720" y="0"/>
                </a:lnTo>
                <a:lnTo>
                  <a:pt x="2708910" y="2286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9.62369E-007 L -0.06164 -9.62369E-007 E">
                                      <p:cBhvr>
                                        <p:cTn id="37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05619E-006 L -0.06494 0.01112 E">
                                      <p:cBhvr>
                                        <p:cTn id="39" dur="3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-0.06164 -9.62369E-007 L -0.7783 0.45774 E">
                                      <p:cBhvr>
                                        <p:cTn id="44" dur="25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任意多边形 8"/>
          <p:cNvSpPr/>
          <p:nvPr/>
        </p:nvSpPr>
        <p:spPr>
          <a:xfrm>
            <a:off x="6446880" y="925560"/>
            <a:ext cx="2490840" cy="331920"/>
          </a:xfrm>
          <a:custGeom>
            <a:avLst/>
            <a:gdLst>
              <a:gd name="textAreaLeft" fmla="*/ 0 w 2490840"/>
              <a:gd name="textAreaRight" fmla="*/ 2491200 w 24908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491740" h="331470">
                <a:moveTo>
                  <a:pt x="0" y="331470"/>
                </a:moveTo>
                <a:lnTo>
                  <a:pt x="411480" y="0"/>
                </a:lnTo>
                <a:lnTo>
                  <a:pt x="2491740" y="1143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7"/>
          <p:cNvSpPr/>
          <p:nvPr/>
        </p:nvSpPr>
        <p:spPr>
          <a:xfrm>
            <a:off x="-1041480" y="1347840"/>
            <a:ext cx="3525840" cy="11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8029440" y="555480"/>
            <a:ext cx="14674680" cy="6034320"/>
            <a:chOff x="-8029440" y="555480"/>
            <a:chExt cx="14674680" cy="6034320"/>
          </a:xfrm>
        </p:grpSpPr>
        <p:pic>
          <p:nvPicPr>
            <p:cNvPr id="81" name="Picture 2" descr=""/>
            <p:cNvPicPr/>
            <p:nvPr/>
          </p:nvPicPr>
          <p:blipFill>
            <a:blip r:embed="rId1"/>
            <a:stretch/>
          </p:blipFill>
          <p:spPr>
            <a:xfrm>
              <a:off x="-8029440" y="1694160"/>
              <a:ext cx="79542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直接连接符 3"/>
            <p:cNvSpPr/>
            <p:nvPr/>
          </p:nvSpPr>
          <p:spPr>
            <a:xfrm flipH="1">
              <a:off x="-1046520" y="2269800"/>
              <a:ext cx="5758920" cy="360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2" descr=""/>
            <p:cNvPicPr/>
            <p:nvPr/>
          </p:nvPicPr>
          <p:blipFill>
            <a:blip r:embed="rId2"/>
            <a:stretch/>
          </p:blipFill>
          <p:spPr>
            <a:xfrm>
              <a:off x="3984480" y="555480"/>
              <a:ext cx="2660760" cy="266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1835280" y="1708200"/>
            <a:ext cx="1481040" cy="14796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7467480" y="34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说这个很重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他们又说没情商重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1766E-006 L -0.00052 -0.07687 E">
                                      <p:cBhvr>
                                        <p:cTn id="64" dur="2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0349E-007 L -0.0026 -0.08398 E">
                                      <p:cBhvr>
                                        <p:cTn id="66" dur="275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10364E-006 L 0.00052 -0.07125 E">
                                      <p:cBhvr>
                                        <p:cTn id="68" dur="275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2" presetSubtype="2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77778E-006 -0.07531 L -0.19635 -0.70123 E">
                                      <p:cBhvr>
                                        <p:cTn id="76" dur="25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24"/>
          <p:cNvSpPr/>
          <p:nvPr/>
        </p:nvSpPr>
        <p:spPr>
          <a:xfrm flipV="1">
            <a:off x="2787480" y="-2752560"/>
            <a:ext cx="4815000" cy="5037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-3421080" y="-6140520"/>
            <a:ext cx="14676480" cy="10944360"/>
            <a:chOff x="-3421080" y="-6140520"/>
            <a:chExt cx="14676480" cy="10944360"/>
          </a:xfrm>
        </p:grpSpPr>
        <p:sp>
          <p:nvSpPr>
            <p:cNvPr id="88" name="直接连接符 18"/>
            <p:cNvSpPr/>
            <p:nvPr/>
          </p:nvSpPr>
          <p:spPr>
            <a:xfrm flipH="1" flipV="1">
              <a:off x="3479400" y="-525600"/>
              <a:ext cx="643320" cy="4263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2" descr=""/>
            <p:cNvPicPr/>
            <p:nvPr/>
          </p:nvPicPr>
          <p:blipFill>
            <a:blip r:embed="rId1"/>
            <a:stretch/>
          </p:blipFill>
          <p:spPr>
            <a:xfrm>
              <a:off x="3053520" y="2671200"/>
              <a:ext cx="2139480" cy="213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-3421080" y="-6140520"/>
              <a:ext cx="14676480" cy="7311600"/>
              <a:chOff x="-3421080" y="-6140520"/>
              <a:chExt cx="14676480" cy="73116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-3421080" y="-6140520"/>
                <a:ext cx="14676480" cy="6033240"/>
                <a:chOff x="-3421080" y="-6140520"/>
                <a:chExt cx="14676480" cy="6033240"/>
              </a:xfrm>
            </p:grpSpPr>
            <p:pic>
              <p:nvPicPr>
                <p:cNvPr id="92" name="Pictur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421080" y="-5001480"/>
                  <a:ext cx="7955280" cy="489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直接连接符 13"/>
                <p:cNvSpPr/>
                <p:nvPr/>
              </p:nvSpPr>
              <p:spPr>
                <a:xfrm flipH="1">
                  <a:off x="3562200" y="-4426560"/>
                  <a:ext cx="5759640" cy="3599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4" name="Picture 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594280" y="-6140520"/>
                  <a:ext cx="2661120" cy="2660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5" name="直接连接符 10"/>
              <p:cNvSpPr/>
              <p:nvPr/>
            </p:nvSpPr>
            <p:spPr>
              <a:xfrm>
                <a:off x="3634560" y="-669240"/>
                <a:ext cx="3527640" cy="1100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6514560" y="-308520"/>
                <a:ext cx="1479960" cy="147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1187280" y="950760"/>
            <a:ext cx="3200400" cy="3210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15"/>
          <p:cNvSpPr/>
          <p:nvPr/>
        </p:nvSpPr>
        <p:spPr>
          <a:xfrm>
            <a:off x="6174000" y="4651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个爸爸叫李刚，那又怎么样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17"/>
          <p:cNvSpPr/>
          <p:nvPr/>
        </p:nvSpPr>
        <p:spPr>
          <a:xfrm>
            <a:off x="4297320" y="4754520"/>
            <a:ext cx="3452760" cy="228600"/>
          </a:xfrm>
          <a:custGeom>
            <a:avLst/>
            <a:gdLst>
              <a:gd name="textAreaLeft" fmla="*/ 0 w 3452760"/>
              <a:gd name="textAreaRight" fmla="*/ 3453120 w 3452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451860" h="228600">
                <a:moveTo>
                  <a:pt x="0" y="0"/>
                </a:moveTo>
                <a:lnTo>
                  <a:pt x="57150" y="228600"/>
                </a:lnTo>
                <a:lnTo>
                  <a:pt x="3451860" y="22860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7375E-007 L 0.11424 0.00772 E">
                                      <p:cBhvr>
                                        <p:cTn id="93" dur="2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2" presetSubtype="2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7375E-007 L 0.11424 0.00772 E">
                                      <p:cBhvr>
                                        <p:cTn id="101" dur="2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2" presetSubtype="2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02656E-007 L 0.10972 -0.00031 E">
                                      <p:cBhvr>
                                        <p:cTn id="106" dur="2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10972 -0.00031 L 0.49548 -0.43453 E">
                                      <p:cBhvr>
                                        <p:cTn id="108" dur="25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5:40:00Z</dcterms:created>
  <dc:creator>Dotpien</dc:creator>
  <dc:description/>
  <cp:keywords/>
  <dc:language>en-US</dc:language>
  <cp:lastModifiedBy>Windows 用户</cp:lastModifiedBy>
  <cp:lastPrinted>1899-12-30T00:00:00Z</cp:lastPrinted>
  <dcterms:modified xsi:type="dcterms:W3CDTF">2012-09-24T16:25:30Z</dcterms:modified>
  <cp:revision>6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