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673-DF81-414A-9EE1-E228CC65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983-FB8C-4007-9113-78943C9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B20-C157-4F23-8C32-187D731F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429-9342-43B3-B438-851EDAE3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0B2-328D-4102-9956-72873C5E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F38-14D1-4ED4-92BD-2D4884AE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08C-3448-4124-9EFF-CA03FDD6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A5C-A0D9-473C-8AC6-EE1FB789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34D-7178-47C8-AF99-673ECF17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01D-B92B-45C9-8FB8-38B0D01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C0B-DC04-4697-BACF-99DC333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FBD-58A7-488C-BE28-3361771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6CE-4F04-470E-83C4-E4D01CD76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304920"/>
            <a:ext cx="95252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8800" spc="-1" strike="noStrike">
                <a:solidFill>
                  <a:srgbClr val="333399"/>
                </a:solidFill>
                <a:latin typeface="黑体"/>
                <a:ea typeface="黑体"/>
              </a:rPr>
              <a:t>十年后的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1" lang="zh-CN" sz="8800" spc="-1" strike="noStrike">
                <a:solidFill>
                  <a:srgbClr val="008000"/>
                </a:solidFill>
                <a:latin typeface="黑体"/>
                <a:ea typeface="黑体"/>
              </a:rPr>
              <a:t>准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9360"/>
            <a:ext cx="35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会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14080" y="380880"/>
            <a:ext cx="338112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活像一把无情刻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改变了我们模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未曾绽放就要枯萎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有过梦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春如同奔流的江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去不回来不及道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只剩下麻木的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没有了当年的热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那满天飘零的花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最美的时刻凋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谁会记得这世界他曾经来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初的愿望实现了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到如今只好祭奠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任岁月风干理想再也找不回真的我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447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152280"/>
            <a:ext cx="9982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同学的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找到属于自己的梦想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为实现自己的梦想做好准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一旦有了梦想，就毫无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去坚持吧，尽管这过程很艰苦，但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信，世界上没有做不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，只有想不到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oys and girls , pl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lieve yourselve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276720"/>
            <a:ext cx="472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十年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的自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周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82280" cy="777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066680"/>
            <a:ext cx="6781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十八岁之前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个不知道自己想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什么的人。那时我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天就在浙江艺术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里跟着同学唱唱歌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跳跳舞。偶尔有导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来找我拍戏，我就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很兴奋的去拍，无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多小得角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沉默了许久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看着老师的眼睛，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然就很坚定的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我希望十年后的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成为最好的女演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同时可以发行一张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于自己的音乐专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86280" y="15228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《十年后的自己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10552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2960" y="609480"/>
            <a:ext cx="1185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梦 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14600" y="609480"/>
            <a:ext cx="22860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6095880"/>
            <a:ext cx="9907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57600" y="4952880"/>
            <a:ext cx="12193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48120" y="3428640"/>
            <a:ext cx="17524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1905120"/>
            <a:ext cx="205740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52280"/>
            <a:ext cx="435924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是一个红透半边天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明星，同时出了一张专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143000"/>
            <a:ext cx="48924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除了接拍各种名导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戏以外，一定还要有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整的音乐作品，可以拿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很多的唱片公司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819520"/>
            <a:ext cx="4647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在演艺事业上你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不断进行学习和思考，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在音乐方面一定要有很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作品开始录音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572000"/>
            <a:ext cx="5121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就必须接受各种培训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训练，包括音乐上和肢体上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562720"/>
            <a:ext cx="480060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时候就要开始作曲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词。在演戏方面就要接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一点的角色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82280" cy="777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86280" y="15228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《十年后的自己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6524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同学们，你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有没有想过十年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自己会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809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你也和我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如果你能及时的问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一句：“十年后我会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样？”你会发现，你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生就会在不知不觉中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生变化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时刻想这十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后的自己，你会朝着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己的梦想越走越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105520" cy="708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2960" y="609480"/>
            <a:ext cx="1185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梦 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624816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5943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在的你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14600" y="1066680"/>
            <a:ext cx="25146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716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114800" y="540972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105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4495320"/>
            <a:ext cx="1295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191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3581280"/>
            <a:ext cx="1752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27672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895480" y="2742840"/>
            <a:ext cx="22100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743200" y="1904760"/>
            <a:ext cx="228600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60020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7120" y="453960"/>
            <a:ext cx="127764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十年后的自己，你准备好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33520" y="609480"/>
            <a:ext cx="6933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的路，我坚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33720" y="2819520"/>
            <a:ext cx="6705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不抛弃，不放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54100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29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29" y="20200"/>
                </a:lnTo>
                <a:lnTo>
                  <a:pt x="33929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9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9" h="21600">
                <a:moveTo>
                  <a:pt x="10658" y="7301"/>
                </a:moveTo>
                <a:lnTo>
                  <a:pt x="11572" y="7301"/>
                </a:lnTo>
                <a:lnTo>
                  <a:pt x="11955" y="7667"/>
                </a:lnTo>
                <a:lnTo>
                  <a:pt x="21164" y="7667"/>
                </a:lnTo>
                <a:lnTo>
                  <a:pt x="21721" y="8224"/>
                </a:lnTo>
                <a:lnTo>
                  <a:pt x="21721" y="8772"/>
                </a:lnTo>
                <a:lnTo>
                  <a:pt x="23566" y="8772"/>
                </a:lnTo>
                <a:lnTo>
                  <a:pt x="23931" y="8224"/>
                </a:lnTo>
                <a:lnTo>
                  <a:pt x="24671" y="8224"/>
                </a:lnTo>
                <a:lnTo>
                  <a:pt x="24671" y="13376"/>
                </a:lnTo>
                <a:lnTo>
                  <a:pt x="23931" y="13376"/>
                </a:lnTo>
                <a:lnTo>
                  <a:pt x="23566" y="12828"/>
                </a:lnTo>
                <a:lnTo>
                  <a:pt x="21721" y="12828"/>
                </a:lnTo>
                <a:lnTo>
                  <a:pt x="21721" y="14107"/>
                </a:lnTo>
                <a:lnTo>
                  <a:pt x="12138" y="14107"/>
                </a:lnTo>
                <a:lnTo>
                  <a:pt x="12138" y="9877"/>
                </a:lnTo>
                <a:lnTo>
                  <a:pt x="11955" y="9877"/>
                </a:lnTo>
                <a:lnTo>
                  <a:pt x="11572" y="10243"/>
                </a:lnTo>
                <a:lnTo>
                  <a:pt x="10658" y="10243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68080" y="152280"/>
            <a:ext cx="35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我的路，我坚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不抛弃，不放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240" y="1447920"/>
            <a:ext cx="77122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每个人都有自己的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但总会遇到许多的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挫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甚至……被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总会有哭泣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但总会有人在你迷路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你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指南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只要你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一样可以走出一条属于自己的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3360" y="1523880"/>
            <a:ext cx="429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就算我手中的小提琴已经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相信只要我坚持我的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一样能奏出属于我的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每个人完成梦想的过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总会遇到各种各样的挫折与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但不要紧，这只是完成梦想的磨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请微笑着，一步一步往前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坚持我的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不抛弃，不放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79240" y="152388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光依然照射住你的前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就算世界只剩下我一个人独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一样能可以疯狂地演奏独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你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样可以化壳为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飞向属于你自己梦的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坚持到最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不管成功与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你一样能得到赞同的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你依然是最闪亮的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52880" y="30492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快乐女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『老女孩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刘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410080"/>
            <a:ext cx="3657600" cy="990720"/>
          </a:xfrm>
          <a:custGeom>
            <a:avLst/>
            <a:gdLst>
              <a:gd name="textAreaLeft" fmla="*/ 164880 w 3657600"/>
              <a:gd name="textAreaRight" fmla="*/ 3492720 w 3657600"/>
              <a:gd name="textAreaTop" fmla="*/ 164880 h 990720"/>
              <a:gd name="textAreaBottom" fmla="*/ 825840 h 990720"/>
            </a:gdLst>
            <a:ahLst/>
            <a:rect l="textAreaLeft" t="textAreaTop" r="textAreaRight" b="textAreaBottom"/>
            <a:pathLst>
              <a:path w="79723" h="21600">
                <a:moveTo>
                  <a:pt x="0" y="0"/>
                </a:moveTo>
                <a:lnTo>
                  <a:pt x="79723" y="0"/>
                </a:lnTo>
                <a:lnTo>
                  <a:pt x="79723" y="21600"/>
                </a:lnTo>
                <a:lnTo>
                  <a:pt x="0" y="21600"/>
                </a:lnTo>
                <a:close/>
              </a:path>
              <a:path fill="lightenLess" w="79723" h="21600">
                <a:moveTo>
                  <a:pt x="0" y="0"/>
                </a:moveTo>
                <a:lnTo>
                  <a:pt x="79723" y="0"/>
                </a:lnTo>
                <a:lnTo>
                  <a:pt x="76123" y="3600"/>
                </a:lnTo>
                <a:lnTo>
                  <a:pt x="3600" y="3600"/>
                </a:lnTo>
                <a:close/>
              </a:path>
              <a:path fill="darken" w="79723" h="21600">
                <a:moveTo>
                  <a:pt x="79723" y="0"/>
                </a:moveTo>
                <a:lnTo>
                  <a:pt x="79723" y="21600"/>
                </a:lnTo>
                <a:lnTo>
                  <a:pt x="76123" y="18000"/>
                </a:lnTo>
                <a:lnTo>
                  <a:pt x="76123" y="3600"/>
                </a:lnTo>
                <a:close/>
              </a:path>
              <a:path fill="darkenLess" w="79723" h="21600">
                <a:moveTo>
                  <a:pt x="79723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6123" y="18000"/>
                </a:lnTo>
                <a:close/>
              </a:path>
              <a:path fill="lighten" w="79723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刘忻的追梦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10-24T07:02:5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