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3BD-4B5A-45EE-9A0D-77AC7682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3A1-038B-4438-B894-1408626E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5D4-1731-41E9-B8FC-6746708C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C0E-E1A9-4AE0-88CF-AA4387D0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918-B8CE-4DC4-8B57-5E6BD78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B0D-DF57-4608-993D-8F02262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D2B-A372-44D2-91C0-C77217B8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886-486F-4EDE-9694-0035B1B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529-C6FC-44B8-A3E7-474C68C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563-24A0-417A-B147-64E7777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DE7-5B5E-4531-AE9D-0A51440E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8A3-5FB4-47D5-9BC4-3F04E1B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DD8C-AA3F-4C89-9744-459B8ACFED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3048120"/>
            <a:ext cx="8763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国的基本经济制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898560"/>
            <a:ext cx="899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第四课   生产与经济制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981080"/>
            <a:ext cx="609480" cy="7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国有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76552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9144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国有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社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全体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公有制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以国家所有的形式存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60948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经济是国民经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国民经济中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发挥社会主义制度的优越性，增强我国经济、国防实力和民族凝聚力，提高我国国际地位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257800"/>
            <a:ext cx="99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10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1844640"/>
            <a:ext cx="28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国国民经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支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它掌握着国家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济命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国民经济中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导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81080"/>
            <a:ext cx="609480" cy="7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国有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6552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9144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国有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社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全体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公有制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以国家所有的形式存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0948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经济是国民经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国民经济中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发挥社会主义制度的优越性，增强我国经济、国防实力和民族凝聚力，提高我国国际地位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5257800"/>
            <a:ext cx="99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10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1844640"/>
            <a:ext cx="28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主义制度的优越性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增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的经济实力、国防实力和民族凝聚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的国际地位，具有关键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228600"/>
            <a:ext cx="2089440" cy="642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导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5720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3960" y="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体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9880" y="228600"/>
            <a:ext cx="1003680" cy="642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控制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12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经济发展方向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济运行的总体态势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要稀缺资源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0080" y="3860640"/>
            <a:ext cx="6107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资源：石油、天然气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高科技新兴产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金融业  ；                  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基础设施产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宜于国家垄断的一些产业：航空、电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通讯、冶金、化工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基础设施产业：铁路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421000"/>
            <a:ext cx="79200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关系国民经济命脉的重要行业和关键领域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支配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89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个街道办的食品厂，原来不大景气．后来实行以劳动者的劳动联合和资本联合为主的股份合作制，企业职工既是劳动者又是投资者，企业的重大决策都要经过员工股东大会的批准，职工的收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540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3716280"/>
            <a:ext cx="88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与自己的劳动贡献挂钩，又与出资的数量挂钩．职工的生产积极性提高了，工厂办得红红火火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508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食品厂属于什么性质的企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877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举自己身边的集体所有制企业，说说它们的特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765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企业属于集体所有制的企业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628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体所有制企业规模一般不是很大，但是形式灵活，在广泛吸收社会资金，缓解就业压力，增加公共积累和国家税收方面发挥重要作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6193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2578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19520"/>
            <a:ext cx="838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981080"/>
            <a:ext cx="609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集体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57200"/>
            <a:ext cx="373356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143000"/>
            <a:ext cx="266724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含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部分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一种公有制经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它是我国农村的主要经济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57200"/>
            <a:ext cx="3733560" cy="5486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523880"/>
            <a:ext cx="2743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合作社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集体工业企业和商业企业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股分合作制企业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"/>
            <a:ext cx="373356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914400"/>
            <a:ext cx="28195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有利于实现共同富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可以广泛吸收社会分散资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缓解就业压力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增加公共积累和国家税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为社会主义新农村建设的典范，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江阴市华西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走的是一条发展集体经济、实现共同富裕的道路。目前，江苏华西集团公司下辖冶金、建材、纺织、旅游等多家分公司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实现销售收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7.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，村人均交税超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元，人均收入超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元。经济实力增强了，环境建设的投入就增多了，人民生活水平就提高了。现在华西村民拥有各自的别墅豪宅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辆轿车和优美舒适的人居环境，真是“车看华西处处美丽，船看华西工业腾飞，山看华西一身正气，步行华西健心壮体。”近年，他们又秉持共同富裕的宗旨，将周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村纳入华西，使大华西村总人口达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，面积达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方公里。展望新的征程，华西人正在朝着具有自身特色的社会主义新农村迈进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333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国有家生产手机的公司，从不同渠道广泛筹集资金，成为国家、集体、私人多方持股的新型企业，仅用１０年时间，就成为我国手机产销量最大的公司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2492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公司是什么性质的企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公司中的国家股和集体股属于什么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2565360"/>
            <a:ext cx="287280" cy="289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149720"/>
            <a:ext cx="287280" cy="289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21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这家公司是混合所有制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01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这家公司的国家股和集体股属于公有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2578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74880" y="1700280"/>
            <a:ext cx="609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混合所有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404640"/>
            <a:ext cx="424800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06064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所有制经济按照一定原则实行联合生产或经营的经济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2578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74880" y="1700280"/>
            <a:ext cx="609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混合所有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04640"/>
            <a:ext cx="424800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268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9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混合所有制中的国有成分、集体成分，都是公有制经济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要组成部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076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中可以反映我国主要有国有经济（铁路工人）、集体经济（农村集体土地种植）、个体经济（妻子开的小店）、私营经济（私人经营的酒店）、中外合资经济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资公司）等多种所有制经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材料：李强一家五口人，他在朋友开的酒店当厨师，母亲在老家耕田，妻子开了个小店，儿子是铁路工人，女儿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资厂当技术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从中大致可以反映我国有主要有哪些经济成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637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何增强公有制的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50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必须深化国有企业公司股份制改革，健全现代企业制度，优化国有经济布局和结构，增强国有经济活力、控制力、影响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494172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必须推进集体企业改革，发展多种形式的集体经济、合作经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637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主体地位的体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357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，公有资产在社会总资产中占优势。这是就全国而言，有的地方、有的产业可以有所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797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，国有经济控制国民经济命脉，对经济发展起主导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 rot="20920200">
            <a:off x="1219320" y="837720"/>
            <a:ext cx="5790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1447920" cy="148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20749200">
            <a:off x="3197880" y="4067280"/>
            <a:ext cx="335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阶段我国除公有制经济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有哪些非公有制成分？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10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4292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非公有制经济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645000"/>
            <a:ext cx="71280" cy="180000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体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429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私营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0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资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90792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对夫妇集资开了个小饭馆，夫妻两既当老板又当服务员．他们把农民卖不出去的小南瓜加工成食品．后来生意越来越火，他俩开起了连锁店，取名“小南瓜”，雇工经营，自己当老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07664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述材料中的小饭馆是什么所有制的经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941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南瓜”连锁店是什么所有制的经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580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两种所有制经济有什么不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4149720"/>
            <a:ext cx="482400" cy="358920"/>
          </a:xfrm>
          <a:custGeom>
            <a:avLst/>
            <a:gdLst>
              <a:gd name="textAreaLeft" fmla="*/ 198720 w 482400"/>
              <a:gd name="textAreaRight" fmla="*/ 283680 w 482400"/>
              <a:gd name="textAreaTop" fmla="*/ 147960 h 358920"/>
              <a:gd name="textAreaBottom" fmla="*/ 2109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5014800"/>
            <a:ext cx="482400" cy="358920"/>
          </a:xfrm>
          <a:custGeom>
            <a:avLst/>
            <a:gdLst>
              <a:gd name="textAreaLeft" fmla="*/ 198720 w 482400"/>
              <a:gd name="textAreaRight" fmla="*/ 283680 w 482400"/>
              <a:gd name="textAreaTop" fmla="*/ 147960 h 358920"/>
              <a:gd name="textAreaBottom" fmla="*/ 2109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5878440"/>
            <a:ext cx="482400" cy="358920"/>
          </a:xfrm>
          <a:custGeom>
            <a:avLst/>
            <a:gdLst>
              <a:gd name="textAreaLeft" fmla="*/ 198720 w 482400"/>
              <a:gd name="textAreaRight" fmla="*/ 283680 w 482400"/>
              <a:gd name="textAreaTop" fmla="*/ 147960 h 358920"/>
              <a:gd name="textAreaBottom" fmla="*/ 2109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20920200">
            <a:off x="1219320" y="837720"/>
            <a:ext cx="5790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1447920" cy="1486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20749200">
            <a:off x="3482280" y="4220640"/>
            <a:ext cx="41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个体经济给我们带来了哪些方便？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50920" y="115920"/>
          <a:ext cx="8497800" cy="6337440"/>
        </p:xfrm>
        <a:graphic>
          <a:graphicData uri="http://schemas.openxmlformats.org/drawingml/2006/table">
            <a:tbl>
              <a:tblPr/>
              <a:tblGrid>
                <a:gridCol w="1944720"/>
                <a:gridCol w="2160360"/>
                <a:gridCol w="2303640"/>
                <a:gridCol w="20890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体经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私营经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资经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含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195640" y="8618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由劳动者个人或家庭占有生产资料，从事个体劳动和经营。劳动成果直接归劳动者所有和支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8701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以生产资料私有和雇佣劳动为基础，以取得利润为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765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指外国投资者和港澳台投资者根据我国法律、法规在我国大陆设立的独资企业以及中外合资企业、中外合作经营企业中外商投资部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263700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以手工劳动为主，规模小、投资少、设备简单、经营灵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565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雇佣劳动为基础，规模较大，设备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较先进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，劳动生产率比较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1628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利于利用分散的资源、发展商品生产、促进商品流通、扩大社会服务、方便人民生活、增加就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3645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集中和利用一部分私人资金，为发展生产和满足人们需要服务；②可以吸收劳动者就业，增加劳动者的收入和国家的税收；③有利于提高国家的综合经济实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716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有利于引进境外的资金和先进技术，学习境外的先进管理经验；②有利于扩大就业，扩大出口，增加财政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445000"/>
            <a:ext cx="626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①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都是我国现阶段的非公有制经济，是社会主义市场经济的重要组成部分；②在扩大就业、方便人民生活、提高国家经济实力等方面气重要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86560" y="278136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规模大、技术水平高、管理方法先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10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必须坚持以公有制为主体，多种所有制经济共同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716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为什么要坚持我国的基本经济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522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，适合社会主义初级阶段生产力发展不平衡、多层次的状况，符合社会主义的本质要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，实践证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有利于促进生产力的发展，有利于增强综合国力，有利于提高人民生活水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292640"/>
            <a:ext cx="770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根本原因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由生产关系一定要适应生产力发展的客观规律决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具体原因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由我国的社会主义性质和社会主义初级阶段的国情决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06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必须坚持以公有制为主体，多种所有制经济共同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3716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如何坚持我国的基本经济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3657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须坚持和完善这一基本经济制度，毫不动摇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巩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发展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公有制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毫不动摇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鼓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支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非公有制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，形成各种所有制经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等竞争、相互促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新格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3359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5000" y="18414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4038480" y="228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274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体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4578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430240"/>
            <a:ext cx="65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国现阶段的非公有制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21400" y="499680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体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21640" y="5430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私营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319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混合所有制经济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3629880"/>
            <a:ext cx="59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何增强公有制的主体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1331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公有制的主体地位的体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622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经济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2560" y="5862600"/>
            <a:ext cx="29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资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4382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17032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293832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6931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67480" y="3671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体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9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坚持以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-502560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我国的基本经济制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公有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主体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多种所有制经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同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5002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995640" y="4365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4941000"/>
            <a:ext cx="25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体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5515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混合所有制经济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7973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经济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458136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5373720"/>
            <a:ext cx="75960" cy="106668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5228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6020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体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492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的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产资料公有制是社会主义的根本经济特征，是社会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济制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81080"/>
            <a:ext cx="609480" cy="7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国有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76552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9144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国有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社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全体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公有制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以国家所有的形式存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60948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经济是国民经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国民经济中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发挥社会主义制度的优越性，增强我国经济、国防实力和民族凝聚力，提高我国国际地位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20640"/>
            <a:ext cx="350532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5257800"/>
            <a:ext cx="99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84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社会全体劳动者共同占有生产资料（以国家所有的形式存在）的公有制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981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0"/>
                <a:ext cx="609588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7211160" y="0"/>
              <a:ext cx="13993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神舟“五号”载人飞船发射成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333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52280" y="380880"/>
              <a:ext cx="342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长江三峡大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35600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4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企业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度世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中的排名情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排名       公司名称                        主要业务       营业收入（亿美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7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石化                            炼油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316.36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4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石油天然气                 炼油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05.20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9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家电网                            电力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71.851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54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鸿海精密                            电子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5.951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7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工商银行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68.32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移动通信                     电信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59.131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2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人寿                            保险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37.112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5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银行       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7.502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建设银行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85.322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南方电网                     电力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9.662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5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电信                            电信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47.912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农业银行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44.752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9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记黄埔                            多元化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6.612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99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化集团                            贸易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1.09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宝钢集团                            金属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6.633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油公司                            炼油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7.963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42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铁路工程总公司          工程建筑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5.20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11:02Z</dcterms:created>
  <dc:creator>OEM</dc:creator>
  <dc:description/>
  <dc:language>en-US</dc:language>
  <cp:lastModifiedBy>user</cp:lastModifiedBy>
  <dcterms:modified xsi:type="dcterms:W3CDTF">2008-10-05T12:01:24Z</dcterms:modified>
  <cp:revision>6</cp:revision>
  <dc:subject/>
  <dc:title>幻灯片 1</dc:title>
</cp:coreProperties>
</file>