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gif" ContentType="image/gif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4BF-81F7-4238-9EF9-9C3FC883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A11-C9A6-4841-A787-5EA01E4A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111-6155-44B4-B6EE-60BD9753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A69-23E0-4367-A0BF-A5A6CB6E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D2CA-A4C0-4DBE-AC5D-F60853FB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C94A-6316-4817-8698-4A7BB305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ADD4-89B4-448C-BADF-4AF60BF4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9ED4-14E1-4898-B4CB-4AC2CE30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C130-0506-45FC-A095-6FF09A4B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82E4-B3F2-428A-915B-F2FD6268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0181-17D3-493A-9677-D18FBD81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B10-A1D7-40DE-8468-AA700797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D4DC-6456-480A-8576-74C26A15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FB96-EB2A-4911-83A0-15542C05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D1B2-1AE6-40D4-BAAB-52F09181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6C06-C7C4-43EC-AB53-E70DDD74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4831-7462-4BEE-AC47-F826D51C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8590A-48D4-46E4-B4EB-81C0BA3F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36E7-F3AE-4C49-B440-7710589F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22253-D3A3-40CE-A2C2-E0B14BD8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2559E-8C15-4D6C-BFE5-38450DFD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F9F7-B058-4D24-ACD8-40D12E81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F4B-43A1-4184-B9AB-A504A8FA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89B97-C8D7-4DF3-8558-DC58C595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CAA8-A70E-44EB-B6FE-6487756A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8C87-1114-44F8-9DB4-7B29B1E5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8D599-427A-43C1-934A-58A860F3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91D3-3538-439C-83CD-1BCFDCD0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7D35-28F5-4B31-A93E-A84053F1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380E-4813-4C1B-B316-501ECAEF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405-1CEA-429D-9B74-BC98D007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C2D-6DBD-4AE5-B4AF-7E2B2033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2B4-89CA-457F-912E-5712E727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1D6-7347-47FD-974B-587BA2F2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140-342E-424B-841B-D8358BBC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EF3-9199-4AAC-86E8-9597A5A4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5DB7-AA5A-4102-A03B-8862A1BCC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D56C-DB38-4026-93EB-15C228A9C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65D3-758F-416D-AF0E-3B9AA83DA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华文行楷"/>
              </a:rPr>
              <a:t>童 年 的 朋 友</a:t>
            </a:r>
            <a:br>
              <a:rPr sz="4800"/>
            </a:br>
            <a:br>
              <a:rPr sz="48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  <a:ea typeface="华文行楷"/>
              </a:rPr>
              <a:t>高尔基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22200" y="-16992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5912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765000"/>
            <a:ext cx="864216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华文行楷"/>
              </a:rPr>
              <a:t>童 年 的 朋 友</a:t>
            </a:r>
            <a:br>
              <a:rPr sz="4800"/>
            </a:b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  <a:ea typeface="华文行楷"/>
              </a:rPr>
              <a:t>高尔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637080" y="6599160"/>
            <a:ext cx="1584360" cy="45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101080" y="7029360"/>
            <a:ext cx="129528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根据刚才我们对外祖母外貌的归纳概括，相信此时此刻外祖母的形象已经浮现在你的脑海中了。小组合作，画一幅外祖母的肖像图，比一比哪个小组画得最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124000" y="692280"/>
            <a:ext cx="453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小组合作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556000" y="476280"/>
            <a:ext cx="42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再读课文，筛选信息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675640" cy="9070920"/>
        </p:xfrm>
        <a:graphic>
          <a:graphicData uri="http://schemas.openxmlformats.org/drawingml/2006/table">
            <a:tbl>
              <a:tblPr/>
              <a:tblGrid>
                <a:gridCol w="3887640"/>
                <a:gridCol w="47880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者对人物的描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物的外貌——“形”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你的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物的性格——“神”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黑体"/>
                          <a:ea typeface="黑体"/>
                        </a:rPr>
                        <a:t>语言描写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684360" y="4076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暖而柔和；用心地唱歌，像鲜花那样温柔、鲜艳、丰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35772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对话的内容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有三层意思：一是关于外祖母的头发。二是关于“我”睡觉的事。三是关于“我”打破牛奶瓶的事。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生活并不令人满意，但只要和“我”说话就显出轻松、平等、亲切、关爱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模仿课文写法，展开想象，把“你昨天怎么把牛奶瓶子打破了？你小点声说！”拓展成一段具体的祖孙对话。（同桌合作口头表演）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对话符合人物性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对话内容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以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56000" y="765000"/>
            <a:ext cx="39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展开想象，情景再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例一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你昨天怎么把牛奶瓶子打破了？你小点声说！” 外祖母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好祖母，什么都瞒不过你，千万别告诉母亲，不然她又要骂我 ！”我央求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你呀！真像一个野猴子，下次再这样，我就把你一个人关进黑屋子里！”外祖母瞪了我一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我知道了，下次再也不敢了。”我吐吐舌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132000" y="18900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话剧舞台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例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外祖母：你昨天怎么把牛奶瓶子打破了？你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小声点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我：外祖母，我，我，我……昨天在屋里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极 了，想出去但够不到铜把手，所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用牛奶瓶子砸了铜把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外祖母：你有没有受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我：没有，只是牛奶浸到了靴子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外祖母：那你换一双，我来帮你洗干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132000" y="26028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话剧舞台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8532720" cy="1428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900000" y="404640"/>
            <a:ext cx="7272360" cy="4159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2050920" y="1268280"/>
            <a:ext cx="5688000" cy="282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6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上课啦！</a:t>
            </a:r>
            <a:endParaRPr b="1" lang="en-US" sz="1800" spc="-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68360" y="2565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她今天样子很凶，但当我问起她的头发为什么这样长的时候，她还是用昨天那样温暖而柔和的腔调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7002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文中哪些地方体现了这种“朋友”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987640" y="692280"/>
            <a:ext cx="302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合 作 探 究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429264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将外祖母对不如意生活的抱怨和对我的温柔态度进行对比，突显出外祖母对我的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172360" y="6454800"/>
            <a:ext cx="9604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课文三次写了外祖母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眼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找出原句，有感情地朗读课文，并体会它所体现的外祖母性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84360" y="622440"/>
            <a:ext cx="4248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三读课文，深入探究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2775960"/>
            <a:ext cx="81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第一次，“她的嘴唇歪扭着，黑眼珠儿闪耀着气愤的光芒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次，“那黑得像黑樱桃的眼珠儿睁得圆圆的，闪出一种难以形容的愉快光芒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第三次，“但通过她的眼睛，从她内心却射出一种永不熄灭的、快乐的、温暖的光芒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2997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体现了外祖母对梳不开头发的气急心理，也折射出外祖母生活的不如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4724280"/>
            <a:ext cx="71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体现出外祖母的宽容和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6021360"/>
            <a:ext cx="75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体现出外祖母的坚毅和乐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8172360" y="6454800"/>
            <a:ext cx="9604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2843280" y="549360"/>
            <a:ext cx="331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“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慧眼”集锦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268280"/>
            <a:ext cx="83534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两弯细眉之下，她的眼神如月光一般柔美，又如清烟一般惆怅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他的眼睛在眉毛下面炯炯发光，仿佛是荆棘丛中的一团燃烧的火焰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3059280" y="620640"/>
            <a:ext cx="316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“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慧眼”集锦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9640" y="181728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人说：“眼睛是心灵的窗户。” 描写眼睛，可以展现人物的内心世界。本文正是通过多次的眼睛描写，为我们刻画了一个乐观、坚毅的外祖母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那么、你能写写你的某一位老师上课时的眼神吗？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字以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掌握本文中出现的生字生词和文学常识。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品读本文中对外祖母的精彩外貌描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体会主人公对外祖母的热爱和感激之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172360" y="6454800"/>
            <a:ext cx="9604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74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本文主要通过对外祖母的外貌、语言的描写，刻画了祖母乐观、坚毅的性格，表现了外祖母对“我”深厚的爱以及对“我”一生的重大影响，抒发了“我”对外祖母的热爱、感激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771640" y="404640"/>
            <a:ext cx="3391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主旨归纳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03280" y="1989000"/>
            <a:ext cx="6337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　　“她那对世界无私的爱丰富了我”，你能找到更多的有关无私之爱的名言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71640" y="620640"/>
            <a:ext cx="727236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作为一个人，对父母要尊敬，  对子女要慈爱，对穷人要慷慨，对一切人要有礼貌。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        ——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英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·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罗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希望被人爱的人， 首先要爱别人， 同时要使自己可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        ——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美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·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富兰克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3012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　　　真正的朋友，是在你开心的时候陪着你一起开心，在你难过的时候陪着你一起难过，在你成功时给你及时的忠告、在你失落时给你温暖的慰藉的人。生命若是一片海，友情就是那海上的帆，有了帆，海才不寂寞。愿我们永远拥有最朴素、最平凡、最纯洁、最高尚的友情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5616720" cy="4824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960520" y="18446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推荐书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《童年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771640" y="1989000"/>
            <a:ext cx="3265560" cy="19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76360" y="1700280"/>
            <a:ext cx="568800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检查预习</a:t>
            </a:r>
            <a:endParaRPr b="1" lang="en-US" sz="66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89154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àn      pū pū     gū nong         x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颤  动    噗 噗      咕 哝          两 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ōu         liǔ     chéng          zō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兜        发 绺      惩 罚      马  鬃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ián    zǔ zhòu        rùn         ji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弦      诅  咒         丰 润       两 颊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iù     zhòu           jié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嗅      皱  纹       敏 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764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字词过关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24000" y="1052640"/>
            <a:ext cx="47545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高尔基：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前苏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伟大的无产阶级作家，“无产阶级艺术最伟大的代表者”（列宁语。主要作品自传体三部曲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《童年》《在人间》《我的大学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，长篇小说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《母亲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、剧本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《小市民》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散文诗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《海燕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等等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4275360" cy="5516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35360" y="189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走进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作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052640"/>
            <a:ext cx="87138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　　高尔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岁丧父，童年寄居在外祖父家时，“外祖父家里，弥漫着人与人之间的仇恨之雾；大人都中了仇恨的毒，连小孩也热烈地参加一份”。在这样的家庭里生活，生活像“铅样沉重”。所幸的是，他的周围也有许多善良正直的人，给了高尔基力量和支持。其中首推外祖母。外祖母的形象是俄罗斯乃至世界文学史中最光辉、最有人性、最有诗意、最有艺术魅力的形象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172360" y="6454800"/>
            <a:ext cx="9604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692360" y="1700280"/>
            <a:ext cx="5543640" cy="25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合作探究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一、听课文录音，独立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祖母是一个怎样性格的人？（词语概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祖母和“我”的关系已经超越了一般的血缘关系，那么究竟是怎样的一种关系呢？（用文中的原话来概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问课文运用了哪些描写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2484360" y="620640"/>
            <a:ext cx="43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初读课文，合作探究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2556000" y="476280"/>
            <a:ext cx="42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再读课文，筛选信息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大声朗读课文，根据文中信息填写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916280"/>
          <a:ext cx="8496360" cy="4655880"/>
        </p:xfrm>
        <a:graphic>
          <a:graphicData uri="http://schemas.openxmlformats.org/drawingml/2006/table">
            <a:tbl>
              <a:tblPr/>
              <a:tblGrid>
                <a:gridCol w="5183280"/>
                <a:gridCol w="331308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者对人物的描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物外貌——“形”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你的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物性格——“神”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黑体"/>
                          <a:ea typeface="黑体"/>
                        </a:rPr>
                        <a:t>外貌描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头发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眼睛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脸  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嘴唇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鼻子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牙齿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身材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3072240" y="3213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多、密、长、黑、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4160" y="3573360"/>
            <a:ext cx="22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　　　　　　光芒（气愤、愉快、永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熄灭的、快乐的、温暖的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30400" y="4411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许多皱纹（但年轻、明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74400" y="4843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歪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6720" y="52038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松软、大、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65520" y="5635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坚固、雪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96440" y="6067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肥肥胖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3933720"/>
            <a:ext cx="201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健康  慈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乐观  坚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4:58:44Z</dcterms:created>
  <dc:creator>www.dearedu.com</dc:creator>
  <dc:description>www.dearedu.com</dc:description>
  <cp:keywords>www.dearedu.com</cp:keywords>
  <dc:language>en-US</dc:language>
  <cp:lastModifiedBy>微软中国</cp:lastModifiedBy>
  <dcterms:modified xsi:type="dcterms:W3CDTF">2015-11-06T03:18:49Z</dcterms:modified>
  <cp:revision>333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