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79A-6DD2-4A0E-8721-AE9479F8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23E-88A8-412F-AE46-1138181B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C52-7314-4EFF-8662-627288E5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E5A-A615-4EEB-96B6-B8FEEDF9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684C-7F7F-4ECB-B848-32BE5856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5667-548F-46B5-A8CC-A6CE3AF6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ACE5-DFC6-42A0-AB34-BD066E5C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5FFE-EABD-4DF7-B1A5-7F36F99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34B0-489E-4901-9B1D-C4E99900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8947-7FF9-4142-BD62-693F740F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A5CF-71B5-41B9-A065-6375236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CC4-F3E3-4C79-A263-F3A96FDF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0BFA-97D9-4325-9CDD-0DDA38B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A273-1B50-47D5-97B6-C8E5B77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90E0-0E58-4685-829E-E855E8AD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BFD9-A3A6-405B-843D-98F771F3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62C3-AE7F-49C3-A5E8-B1DAF834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2F6-0482-4902-A972-380A90A0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F0A-F462-462C-8510-19A5876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99E-C152-4594-A401-4D6F5022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AB3-52AF-4988-BE3A-9834EB40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FB1-F042-4B49-9189-C960813F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450-D6E8-4EDF-B855-5B2D2477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0DD-73FB-4346-8102-2E863F93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CDD-EB20-483C-A29A-13023DCF3D10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7527-504B-4F95-8389-C0761953016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2276640"/>
            <a:ext cx="7924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推广普通话　说好普通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1752480"/>
            <a:ext cx="739152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n”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l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例：过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读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nian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lian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n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你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们 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哪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里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念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263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边鼻音和前后鼻韵母的发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l”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行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李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拉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车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连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914400"/>
            <a:ext cx="792468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eng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en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城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市（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cheng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chen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937040"/>
            <a:ext cx="7772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n”</a:t>
            </a:r>
            <a:r>
              <a:rPr b="1" lang="zh-CN" sz="36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早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晨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陈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老师  乡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镇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身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778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ng”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成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功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乘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车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程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老师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政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府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生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1309680"/>
            <a:ext cx="723924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ng”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n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英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雄（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ying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yin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473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ng”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惊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奇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领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导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形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678200"/>
            <a:ext cx="63244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n”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进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步   森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林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新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事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1355760"/>
            <a:ext cx="72392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平翘舌的发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sh”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s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师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长（读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shi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si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05432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h”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沙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漠 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社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会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说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话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树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4998960"/>
            <a:ext cx="7010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”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洒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水     颜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色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所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长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速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1125360"/>
            <a:ext cx="723924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zh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z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支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持（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zhi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zi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382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zh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炸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弹     建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筑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照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03960" y="4602240"/>
            <a:ext cx="53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z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打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织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遭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1049400"/>
            <a:ext cx="69339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ch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c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楷体_GB2312"/>
                <a:ea typeface="楷体_GB2312"/>
              </a:rPr>
              <a:t>吃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饭（读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hi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i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33829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h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出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门    出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差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678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进    刚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198108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克服方言混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76130" t="51806" r="0" b="8525"/>
          <a:stretch/>
        </p:blipFill>
        <p:spPr>
          <a:xfrm>
            <a:off x="5562720" y="4836960"/>
            <a:ext cx="35812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249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（三）平翘舌音的记忆方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681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穿糖葫芦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记少不记多法</a:t>
            </a:r>
            <a:r>
              <a:rPr b="1" lang="zh-CN" sz="2800" spc="-1" strike="noStrike">
                <a:solidFill>
                  <a:srgbClr val="c3e68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5272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聆听模仿法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048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词、饲、嗣、伺、祠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438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司”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i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447920"/>
            <a:ext cx="2057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联想记忆法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趣味绕口令记忆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14300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自” ，字、资、紫、渍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只、直、制、纸、芝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35053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树上有个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树下有个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石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风吹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树哗哗响，树上掉下了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打着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石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碰坏了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371600"/>
            <a:ext cx="4800600" cy="12193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5685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什么是普通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044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仿宋_GB2312"/>
                <a:ea typeface="仿宋_GB2312"/>
              </a:rPr>
              <a:t>　　</a:t>
            </a:r>
            <a:r>
              <a:rPr b="1" lang="zh-CN" sz="36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“以北京语音为标准音，以北方话为基础方言，以典范的现代白话文著作为语法规范的现代汉民族共同语”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066680"/>
            <a:ext cx="7467480" cy="9144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143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推广普通话的重要性和必要性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2666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社会交往的需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114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两个文明建设的要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5627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每个公民的权利和义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57913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17172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1295280"/>
            <a:ext cx="5029200" cy="838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602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（二）重庆人说普通话应注意几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339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怎样说好普通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49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（一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转变观念，大胆地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447920"/>
            <a:ext cx="815328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e684"/>
                </a:solidFill>
                <a:latin typeface="Times New Roman"/>
                <a:ea typeface="楷体_GB2312"/>
              </a:rPr>
              <a:t>　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e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uo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e684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河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水（读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he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huo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喝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水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禾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苗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何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科长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荷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花  祝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盒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子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褐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色   丹顶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鹤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合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作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33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仿宋_GB2312"/>
              </a:rPr>
              <a:t>、地方话发音与普通话发音的区别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28800" y="1533600"/>
            <a:ext cx="64771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5400" spc="-1" strike="noStrike">
                <a:solidFill>
                  <a:srgbClr val="2a3d7a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2a3d7a"/>
                </a:solidFill>
                <a:latin typeface="宋体"/>
              </a:rPr>
              <a:t>u”</a:t>
            </a:r>
            <a:r>
              <a:rPr b="1" lang="zh-CN" sz="3600" spc="-1" strike="noStrike">
                <a:solidFill>
                  <a:srgbClr val="2a3d7a"/>
                </a:solidFill>
                <a:latin typeface="宋体"/>
              </a:rPr>
              <a:t>　与　“</a:t>
            </a:r>
            <a:r>
              <a:rPr b="1" lang="zh-CN" sz="3600" spc="-1" strike="noStrike">
                <a:solidFill>
                  <a:srgbClr val="2a3d7a"/>
                </a:solidFill>
                <a:latin typeface="宋体"/>
              </a:rPr>
              <a:t>Ü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：教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育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（读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yǜ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，不读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yu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跃跃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欲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试    地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461960"/>
            <a:ext cx="70102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ei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与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ui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类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型（读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lei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，不读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lui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）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劳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累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泪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  打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雷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石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磊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花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219320"/>
            <a:ext cx="8839080" cy="34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　</a:t>
            </a:r>
            <a:r>
              <a:rPr b="0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5b5249"/>
                </a:solidFill>
                <a:latin typeface="宋体"/>
              </a:rPr>
              <a:t>en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与　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5b5249"/>
                </a:solidFill>
                <a:latin typeface="宋体"/>
              </a:rPr>
              <a:t>un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例：矛</a:t>
            </a:r>
            <a:r>
              <a:rPr b="1" lang="zh-CN" sz="3600" spc="-1" strike="noStrike" u="sng">
                <a:solidFill>
                  <a:srgbClr val="ff5050"/>
                </a:solidFill>
                <a:uFillTx/>
                <a:latin typeface="楷体_GB2312"/>
                <a:ea typeface="楷体_GB2312"/>
              </a:rPr>
              <a:t>盾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（读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dun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den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吨   顿  蹲下  遁  敦促  土墩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1219320"/>
            <a:ext cx="8077320" cy="43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5050"/>
                </a:solidFill>
                <a:latin typeface="宋体"/>
              </a:rPr>
              <a:t>h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　与　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5050"/>
                </a:solidFill>
                <a:latin typeface="宋体"/>
              </a:rPr>
              <a:t>f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例：湖水 湖北（读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hu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fu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胡主任   户　呼　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2:32:46Z</dcterms:created>
  <dc:creator>0001</dc:creator>
  <dc:description/>
  <dc:language>en-US</dc:language>
  <cp:lastModifiedBy>雨林木风</cp:lastModifiedBy>
  <dcterms:modified xsi:type="dcterms:W3CDTF">2010-03-09T09:10:11Z</dcterms:modified>
  <cp:revision>14</cp:revision>
  <dc:subject/>
  <dc:title>PowerPoint 演示文稿</dc:title>
</cp:coreProperties>
</file>