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8782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762000" y="-1440"/>
            <a:ext cx="28782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920" y="75060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??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??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9408600"/>
            <a:ext cx="287820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762000" y="9408600"/>
            <a:ext cx="287820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zh-CN" sz="1000" spc="-1" strike="noStrike">
                <a:solidFill>
                  <a:srgbClr val="000000"/>
                </a:solidFill>
                <a:latin typeface="??"/>
                <a:ea typeface="??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8FC76DD-E02F-4639-8785-B9F2B0B949CE}" type="slidenum">
              <a:rPr b="0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FD074A-A6CE-49DE-A923-E199EA74C4B1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9A4FF34-62E7-413B-8E85-E54FECFE7FA4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52A3B3-957D-478B-AB7D-3FFCCBAF263E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73B0AA-9D88-4B6A-B44D-841FCE8DCE25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8B2D6A5-68DA-4E15-8CDE-61DCBE17AAC8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C05216-C882-44FA-AD35-BDD975DB02F1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794D31-62B1-48FD-A125-0B3463EF65F9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CAE911-4577-4CAA-A1CA-31D902D60B7D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3E0646-F635-40E9-BD45-2C66DA093FE7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11C956-224B-4828-8F4D-47AE28726CE6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D82E16-62D3-4025-A909-B5A0C428B42C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DF42A0C-44C4-444E-9954-08DAFECCD40B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CCF1B6-4E25-4EEF-9D2B-2C4518D8E8FB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F9B4141-BDE6-4F35-813A-2835369350C8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689C50-73DE-48F5-AFA5-1D873F9E2639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803EB1-480D-4FA0-801E-81A45B0A8E6F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0144F5-8EB0-4868-9C53-CFC69552521D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8D4B86-B136-4FC9-99C3-D8A030376D87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DDCF51-D0DC-4A02-B61B-64489B275445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CE2C36-5BE9-4102-AC3B-3C2C5961872A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AE8529-9B34-43B4-BA85-DA2FB791A756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C0C10D-838C-4653-B24A-699EE7E299D9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9EDC143-D6D2-483A-B919-7B4153E8ECF9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6734-AEF2-4B19-973D-9EA3A2A9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41E5-5C6A-49C6-B0FD-2490FA950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FE97-FD2A-4495-A55C-9B21DE30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8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2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516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8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2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CA76-4DFD-4F77-BFFC-1C7F5FAFA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0640" y="196560"/>
            <a:ext cx="71751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2F70-2B6A-4B14-B24C-CFE13AC00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8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2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516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8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2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DC44-715A-4DB5-95FD-1F6DB8B8E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0C59-DBF4-4F9A-9314-BDC184034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19D8-5E57-4E57-93A0-4A38EDA96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0640" y="196560"/>
            <a:ext cx="71751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4862-F55C-4BFA-8E4E-7E6F69FBA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9FA8-F8AB-4E63-BCED-03987DB3A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F2EE-3A44-4689-BD14-16AACE4DF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1931-0914-4300-AE77-860D55106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C Half Banner"/>
          <p:cNvSpPr/>
          <p:nvPr/>
        </p:nvSpPr>
        <p:spPr>
          <a:xfrm>
            <a:off x="0" y="6500880"/>
            <a:ext cx="9144000" cy="360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C Half Banner"/>
          <p:cNvSpPr/>
          <p:nvPr/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02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ero2IPO Financial Adviso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083440" y="6605280"/>
            <a:ext cx="1060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lstStyle>
            <a:lvl1pPr marL="216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[ </a:t>
            </a:r>
            <a:fld id="{F8A598A2-84D7-41D9-B63A-85F1FC79A13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89080" indent="-289080">
              <a:spcBef>
                <a:spcPts val="2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spcBef>
                <a:spcPts val="2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22120"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228600">
              <a:spcBef>
                <a:spcPts val="2500"/>
              </a:spcBef>
              <a:buClr>
                <a:srgbClr val="000000"/>
              </a:buClr>
              <a:buFont typeface="??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2" descr="清科标志－透明300dpi"/>
          <p:cNvPicPr/>
          <p:nvPr/>
        </p:nvPicPr>
        <p:blipFill>
          <a:blip r:embed="rId2"/>
          <a:stretch/>
        </p:blipFill>
        <p:spPr>
          <a:xfrm>
            <a:off x="7675560" y="271440"/>
            <a:ext cx="1233360" cy="449280"/>
          </a:xfrm>
          <a:prstGeom prst="rect">
            <a:avLst/>
          </a:prstGeom>
          <a:ln w="0">
            <a:noFill/>
          </a:ln>
        </p:spPr>
      </p:pic>
      <p:sp>
        <p:nvSpPr>
          <p:cNvPr id="7" name="Line 34"/>
          <p:cNvSpPr/>
          <p:nvPr/>
        </p:nvSpPr>
        <p:spPr>
          <a:xfrm>
            <a:off x="0" y="846000"/>
            <a:ext cx="9140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91800" bIns="-91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C Half Banner"/>
          <p:cNvSpPr/>
          <p:nvPr/>
        </p:nvSpPr>
        <p:spPr>
          <a:xfrm>
            <a:off x="0" y="3943440"/>
            <a:ext cx="9144000" cy="28782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0" y="0"/>
            <a:ext cx="9144000" cy="3949560"/>
          </a:xfrm>
          <a:prstGeom prst="rect">
            <a:avLst/>
          </a:prstGeom>
          <a:solidFill>
            <a:srgbClr val="02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89080" indent="-289080">
              <a:spcBef>
                <a:spcPts val="2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spcBef>
                <a:spcPts val="2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22120"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228600">
              <a:spcBef>
                <a:spcPts val="2500"/>
              </a:spcBef>
              <a:buClr>
                <a:srgbClr val="000000"/>
              </a:buClr>
              <a:buFont typeface="??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2803680" y="135360"/>
            <a:ext cx="505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1600" bIns="21600" anchor="ctr">
            <a:spAutoFit/>
          </a:bodyPr>
          <a:p>
            <a:pPr marL="173160" indent="-173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 Leading Integrated Service Provider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n Venture Capital and Private Equity Industry in China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清科标志－透明300dpi"/>
          <p:cNvPicPr/>
          <p:nvPr/>
        </p:nvPicPr>
        <p:blipFill>
          <a:blip r:embed="rId1"/>
          <a:stretch/>
        </p:blipFill>
        <p:spPr>
          <a:xfrm>
            <a:off x="7875720" y="144360"/>
            <a:ext cx="1139760" cy="414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0760" y="2782800"/>
            <a:ext cx="671976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商业计划书写作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06640"/>
            <a:ext cx="64008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83ca"/>
                </a:solidFill>
                <a:latin typeface="Arial"/>
                <a:ea typeface="宋体"/>
              </a:rPr>
              <a:t>清科集团  顾问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83ca"/>
                </a:solidFill>
                <a:latin typeface="Arial"/>
                <a:ea typeface="宋体"/>
              </a:rPr>
              <a:t>田兴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2571840" y="2390760"/>
            <a:ext cx="329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aaaaa"/>
                </a:solidFill>
                <a:latin typeface="Arial"/>
                <a:ea typeface="黑体"/>
              </a:rPr>
              <a:t>企业融资实务培训 二</a:t>
            </a:r>
            <a:r>
              <a:rPr b="0" lang="en-US" sz="2000" spc="-1" strike="noStrike">
                <a:solidFill>
                  <a:srgbClr val="aaaaaa"/>
                </a:solidFill>
                <a:latin typeface="Arial"/>
                <a:ea typeface="黑体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628DEFA-B79E-4E01-B87A-FCBC2070349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16000" y="1049400"/>
            <a:ext cx="6586560" cy="41209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073320" y="2095560"/>
            <a:ext cx="5807160" cy="41497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D0449FA2-AAAE-468D-A998-D0CF6E5C75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市场及行业分析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98560" y="1438200"/>
            <a:ext cx="55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背景介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场细分及细分市场规模和增长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市场定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客户分析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场背景不要过于冗长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明确的市场定位和目标客户群体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客观分析细分市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1282680" y="38894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1282680" y="21286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4418F5AB-F235-4E86-A811-86CBF516D3A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16000" y="1022400"/>
            <a:ext cx="5505480" cy="45482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2517840" y="2432160"/>
            <a:ext cx="6375240" cy="39970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4855D8AA-A555-49F3-857C-08F12A95729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竞争分析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98560" y="1438200"/>
            <a:ext cx="6810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竞争对手的定位及其市场状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键指标对比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主要竞争优势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竞争度对手充分了解，不可能没有竞争，否则是没有市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出自己的优势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量用数据与图表说话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1282680" y="3417840"/>
            <a:ext cx="6694560" cy="156708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1282680" y="18493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574E82EE-226D-4808-A765-D09749754E4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16000" y="1054080"/>
            <a:ext cx="6435720" cy="39258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854440" y="1619280"/>
            <a:ext cx="6095880" cy="46893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9A01A5D-7C98-4A51-948F-2A117E84CB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战略规划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98560" y="1438200"/>
            <a:ext cx="58453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现状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发展战略及阶段性目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动计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服务、市场推广、人员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逐步实现的发展战略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各项计划配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282680" y="34178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1282680" y="18493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0901321-A045-45D4-86E4-60F0300E5A3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16000" y="1047600"/>
            <a:ext cx="6573600" cy="39481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797200" y="1943280"/>
            <a:ext cx="6110280" cy="43210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3AAAD602-8A28-4BEF-8E2B-6F0CF87B896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财务及融资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898560" y="1438200"/>
            <a:ext cx="584532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历史财务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财务指标预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财务预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融资需求及资金用途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测合理、收支匹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吸引力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金需求合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1282680" y="39416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1282680" y="21286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3428FA13-4EDB-477B-AFE8-B9D20C06278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财务预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181240" y="19018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收入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470400" y="14050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服务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470400" y="20876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181240" y="357984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181240" y="289548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营业税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181240" y="457524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费用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181240" y="551016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所得税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181240" y="600696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利润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500720" y="127944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500720" y="1590840"/>
            <a:ext cx="644400" cy="1854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500720" y="19638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4500720" y="2273400"/>
            <a:ext cx="6444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403960" y="1154160"/>
            <a:ext cx="77148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403960" y="140508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消费形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3470400" y="2646360"/>
            <a:ext cx="96660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运营商分成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3470400" y="30830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材料成本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3470400" y="34574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直接人工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3470400" y="382896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分成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3470400" y="414180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营销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470400" y="451332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研发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3470400" y="4826160"/>
            <a:ext cx="772920" cy="2473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管理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3470400" y="519732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折旧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28"/>
          <p:cNvCxnSpPr>
            <a:stCxn id="198" idx="3"/>
            <a:endCxn id="210" idx="1"/>
          </p:cNvCxnSpPr>
          <p:nvPr/>
        </p:nvCxnSpPr>
        <p:spPr>
          <a:xfrm flipV="1">
            <a:off x="2954160" y="3206520"/>
            <a:ext cx="516960" cy="4989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18" name="AutoShape 29"/>
          <p:cNvCxnSpPr>
            <a:stCxn id="198" idx="3"/>
            <a:endCxn id="211" idx="1"/>
          </p:cNvCxnSpPr>
          <p:nvPr/>
        </p:nvCxnSpPr>
        <p:spPr>
          <a:xfrm flipV="1">
            <a:off x="2954160" y="3580920"/>
            <a:ext cx="516960" cy="1245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19" name="AutoShape 30"/>
          <p:cNvCxnSpPr>
            <a:stCxn id="198" idx="3"/>
            <a:endCxn id="212" idx="1"/>
          </p:cNvCxnSpPr>
          <p:nvPr/>
        </p:nvCxnSpPr>
        <p:spPr>
          <a:xfrm>
            <a:off x="2954160" y="3704760"/>
            <a:ext cx="516960" cy="250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0" name="AutoShape 31"/>
          <p:cNvCxnSpPr>
            <a:stCxn id="200" idx="3"/>
            <a:endCxn id="213" idx="1"/>
          </p:cNvCxnSpPr>
          <p:nvPr/>
        </p:nvCxnSpPr>
        <p:spPr>
          <a:xfrm flipV="1">
            <a:off x="2954160" y="4265280"/>
            <a:ext cx="516960" cy="4356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1" name="AutoShape 32"/>
          <p:cNvCxnSpPr>
            <a:stCxn id="200" idx="3"/>
            <a:endCxn id="214" idx="1"/>
          </p:cNvCxnSpPr>
          <p:nvPr/>
        </p:nvCxnSpPr>
        <p:spPr>
          <a:xfrm flipV="1">
            <a:off x="2954160" y="4638240"/>
            <a:ext cx="516960" cy="6264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2" name="AutoShape 33"/>
          <p:cNvCxnSpPr>
            <a:stCxn id="200" idx="3"/>
            <a:endCxn id="215" idx="1"/>
          </p:cNvCxnSpPr>
          <p:nvPr/>
        </p:nvCxnSpPr>
        <p:spPr>
          <a:xfrm>
            <a:off x="2954160" y="4700160"/>
            <a:ext cx="516960" cy="250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3" name="AutoShape 34"/>
          <p:cNvCxnSpPr>
            <a:stCxn id="200" idx="3"/>
            <a:endCxn id="216" idx="1"/>
          </p:cNvCxnSpPr>
          <p:nvPr/>
        </p:nvCxnSpPr>
        <p:spPr>
          <a:xfrm>
            <a:off x="2954160" y="4700160"/>
            <a:ext cx="516960" cy="6231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4" name="AutoShape 35"/>
          <p:cNvCxnSpPr>
            <a:stCxn id="195" idx="3"/>
            <a:endCxn id="196" idx="1"/>
          </p:cNvCxnSpPr>
          <p:nvPr/>
        </p:nvCxnSpPr>
        <p:spPr>
          <a:xfrm flipV="1">
            <a:off x="2954160" y="1528560"/>
            <a:ext cx="516960" cy="4989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5" name="AutoShape 36"/>
          <p:cNvCxnSpPr>
            <a:stCxn id="195" idx="3"/>
            <a:endCxn id="197" idx="1"/>
          </p:cNvCxnSpPr>
          <p:nvPr/>
        </p:nvCxnSpPr>
        <p:spPr>
          <a:xfrm>
            <a:off x="2954160" y="2027160"/>
            <a:ext cx="516960" cy="18504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6" name="AutoShape 37"/>
          <p:cNvCxnSpPr>
            <a:stCxn id="195" idx="3"/>
            <a:endCxn id="209" idx="1"/>
          </p:cNvCxnSpPr>
          <p:nvPr/>
        </p:nvCxnSpPr>
        <p:spPr>
          <a:xfrm>
            <a:off x="2954160" y="2027160"/>
            <a:ext cx="516960" cy="745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7" name="AutoShape 38"/>
          <p:cNvCxnSpPr>
            <a:stCxn id="196" idx="3"/>
            <a:endCxn id="203" idx="1"/>
          </p:cNvCxnSpPr>
          <p:nvPr/>
        </p:nvCxnSpPr>
        <p:spPr>
          <a:xfrm flipV="1">
            <a:off x="4242960" y="1372320"/>
            <a:ext cx="258120" cy="15660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8" name="AutoShape 39"/>
          <p:cNvCxnSpPr>
            <a:stCxn id="196" idx="3"/>
            <a:endCxn id="204" idx="1"/>
          </p:cNvCxnSpPr>
          <p:nvPr/>
        </p:nvCxnSpPr>
        <p:spPr>
          <a:xfrm>
            <a:off x="4242960" y="152892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9" name="AutoShape 40"/>
          <p:cNvCxnSpPr>
            <a:stCxn id="197" idx="3"/>
            <a:endCxn id="205" idx="1"/>
          </p:cNvCxnSpPr>
          <p:nvPr/>
        </p:nvCxnSpPr>
        <p:spPr>
          <a:xfrm flipV="1">
            <a:off x="4242960" y="2057040"/>
            <a:ext cx="258120" cy="15480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0" name="AutoShape 41"/>
          <p:cNvCxnSpPr>
            <a:stCxn id="197" idx="3"/>
            <a:endCxn id="206" idx="1"/>
          </p:cNvCxnSpPr>
          <p:nvPr/>
        </p:nvCxnSpPr>
        <p:spPr>
          <a:xfrm>
            <a:off x="4242960" y="221148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1" name="AutoShape 42"/>
          <p:cNvCxnSpPr>
            <a:stCxn id="203" idx="3"/>
            <a:endCxn id="207" idx="1"/>
          </p:cNvCxnSpPr>
          <p:nvPr/>
        </p:nvCxnSpPr>
        <p:spPr>
          <a:xfrm flipV="1">
            <a:off x="5144760" y="1247400"/>
            <a:ext cx="259560" cy="126000"/>
          </a:xfrm>
          <a:prstGeom prst="bentConnector3">
            <a:avLst>
              <a:gd name="adj1" fmla="val 49444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2" name="AutoShape 43"/>
          <p:cNvCxnSpPr>
            <a:stCxn id="203" idx="3"/>
            <a:endCxn id="208" idx="1"/>
          </p:cNvCxnSpPr>
          <p:nvPr/>
        </p:nvCxnSpPr>
        <p:spPr>
          <a:xfrm>
            <a:off x="5144760" y="1373040"/>
            <a:ext cx="259560" cy="124560"/>
          </a:xfrm>
          <a:prstGeom prst="bentConnector3">
            <a:avLst>
              <a:gd name="adj1" fmla="val 49444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33" name="Rectangle 44"/>
          <p:cNvSpPr/>
          <p:nvPr/>
        </p:nvSpPr>
        <p:spPr>
          <a:xfrm>
            <a:off x="2181240" y="50734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利息费用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6500880" y="103176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范围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6500880" y="127944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比例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7"/>
          <p:cNvCxnSpPr>
            <a:stCxn id="207" idx="3"/>
            <a:endCxn id="234" idx="1"/>
          </p:cNvCxnSpPr>
          <p:nvPr/>
        </p:nvCxnSpPr>
        <p:spPr>
          <a:xfrm flipV="1">
            <a:off x="6175440" y="1123560"/>
            <a:ext cx="326160" cy="124560"/>
          </a:xfrm>
          <a:prstGeom prst="bentConnector3">
            <a:avLst>
              <a:gd name="adj1" fmla="val 49944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7" name="AutoShape 48"/>
          <p:cNvCxnSpPr>
            <a:stCxn id="207" idx="3"/>
            <a:endCxn id="235" idx="1"/>
          </p:cNvCxnSpPr>
          <p:nvPr/>
        </p:nvCxnSpPr>
        <p:spPr>
          <a:xfrm>
            <a:off x="6175440" y="1247760"/>
            <a:ext cx="326160" cy="126000"/>
          </a:xfrm>
          <a:prstGeom prst="bentConnector3">
            <a:avLst>
              <a:gd name="adj1" fmla="val 49944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38" name="Rectangle 49"/>
          <p:cNvSpPr/>
          <p:nvPr/>
        </p:nvSpPr>
        <p:spPr>
          <a:xfrm>
            <a:off x="7562880" y="906480"/>
            <a:ext cx="772920" cy="43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展规划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AutoShape 50"/>
          <p:cNvCxnSpPr>
            <a:stCxn id="234" idx="3"/>
            <a:endCxn id="238" idx="1"/>
          </p:cNvCxnSpPr>
          <p:nvPr/>
        </p:nvCxnSpPr>
        <p:spPr>
          <a:xfrm>
            <a:off x="7272000" y="1123560"/>
            <a:ext cx="291240" cy="108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40" name="Rectangle 51"/>
          <p:cNvSpPr/>
          <p:nvPr/>
        </p:nvSpPr>
        <p:spPr>
          <a:xfrm>
            <a:off x="4500720" y="339408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4500720" y="36432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薪水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53"/>
          <p:cNvCxnSpPr>
            <a:stCxn id="211" idx="3"/>
            <a:endCxn id="240" idx="1"/>
          </p:cNvCxnSpPr>
          <p:nvPr/>
        </p:nvCxnSpPr>
        <p:spPr>
          <a:xfrm flipV="1">
            <a:off x="4242960" y="3487320"/>
            <a:ext cx="258120" cy="9432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43" name="AutoShape 54"/>
          <p:cNvCxnSpPr>
            <a:stCxn id="211" idx="3"/>
            <a:endCxn id="241" idx="1"/>
          </p:cNvCxnSpPr>
          <p:nvPr/>
        </p:nvCxnSpPr>
        <p:spPr>
          <a:xfrm>
            <a:off x="4242960" y="358128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44" name="Rectangle 55"/>
          <p:cNvSpPr/>
          <p:nvPr/>
        </p:nvSpPr>
        <p:spPr>
          <a:xfrm>
            <a:off x="5919840" y="39816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6"/>
          <p:cNvSpPr/>
          <p:nvPr/>
        </p:nvSpPr>
        <p:spPr>
          <a:xfrm>
            <a:off x="5919840" y="4230720"/>
            <a:ext cx="6444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开支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7"/>
          <p:cNvSpPr/>
          <p:nvPr/>
        </p:nvSpPr>
        <p:spPr>
          <a:xfrm>
            <a:off x="5919840" y="476244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5919840" y="501156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办公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4500720" y="5227560"/>
            <a:ext cx="644400" cy="1875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设备投资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60"/>
          <p:cNvCxnSpPr>
            <a:stCxn id="216" idx="3"/>
            <a:endCxn id="248" idx="1"/>
          </p:cNvCxnSpPr>
          <p:nvPr/>
        </p:nvCxnSpPr>
        <p:spPr>
          <a:xfrm flipV="1">
            <a:off x="4242960" y="5320440"/>
            <a:ext cx="258120" cy="252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0" name="AutoShape 61"/>
          <p:cNvCxnSpPr>
            <a:stCxn id="215" idx="3"/>
            <a:endCxn id="246" idx="1"/>
          </p:cNvCxnSpPr>
          <p:nvPr/>
        </p:nvCxnSpPr>
        <p:spPr>
          <a:xfrm flipV="1">
            <a:off x="4242960" y="4855320"/>
            <a:ext cx="1677240" cy="9468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1" name="AutoShape 62"/>
          <p:cNvCxnSpPr>
            <a:stCxn id="215" idx="3"/>
            <a:endCxn id="247" idx="1"/>
          </p:cNvCxnSpPr>
          <p:nvPr/>
        </p:nvCxnSpPr>
        <p:spPr>
          <a:xfrm>
            <a:off x="4242960" y="4950000"/>
            <a:ext cx="1677240" cy="15588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52" name="Rectangle 63"/>
          <p:cNvSpPr/>
          <p:nvPr/>
        </p:nvSpPr>
        <p:spPr>
          <a:xfrm>
            <a:off x="6757920" y="3394080"/>
            <a:ext cx="7732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员工规划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64"/>
          <p:cNvCxnSpPr>
            <a:stCxn id="240" idx="3"/>
            <a:endCxn id="252" idx="1"/>
          </p:cNvCxnSpPr>
          <p:nvPr/>
        </p:nvCxnSpPr>
        <p:spPr>
          <a:xfrm>
            <a:off x="5145120" y="3487320"/>
            <a:ext cx="1613520" cy="108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4" name="AutoShape 65"/>
          <p:cNvCxnSpPr>
            <a:stCxn id="246" idx="3"/>
            <a:endCxn id="252" idx="2"/>
          </p:cNvCxnSpPr>
          <p:nvPr/>
        </p:nvCxnSpPr>
        <p:spPr>
          <a:xfrm flipV="1">
            <a:off x="6564240" y="3579480"/>
            <a:ext cx="581400" cy="12765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5" name="AutoShape 66"/>
          <p:cNvCxnSpPr>
            <a:stCxn id="247" idx="3"/>
            <a:endCxn id="252" idx="2"/>
          </p:cNvCxnSpPr>
          <p:nvPr/>
        </p:nvCxnSpPr>
        <p:spPr>
          <a:xfrm flipV="1">
            <a:off x="6564240" y="3579480"/>
            <a:ext cx="581400" cy="152640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6" name="AutoShape 67"/>
          <p:cNvCxnSpPr>
            <a:stCxn id="252" idx="3"/>
            <a:endCxn id="238" idx="2"/>
          </p:cNvCxnSpPr>
          <p:nvPr/>
        </p:nvCxnSpPr>
        <p:spPr>
          <a:xfrm flipV="1">
            <a:off x="7531200" y="1341000"/>
            <a:ext cx="419760" cy="214704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7" name="AutoShape 68"/>
          <p:cNvCxnSpPr>
            <a:stCxn id="213" idx="3"/>
            <a:endCxn id="244" idx="1"/>
          </p:cNvCxnSpPr>
          <p:nvPr/>
        </p:nvCxnSpPr>
        <p:spPr>
          <a:xfrm flipV="1">
            <a:off x="4242960" y="4074480"/>
            <a:ext cx="1677240" cy="191160"/>
          </a:xfrm>
          <a:prstGeom prst="bentConnector3">
            <a:avLst>
              <a:gd name="adj1" fmla="val 4989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8" name="AutoShape 69"/>
          <p:cNvCxnSpPr>
            <a:stCxn id="213" idx="3"/>
            <a:endCxn id="245" idx="1"/>
          </p:cNvCxnSpPr>
          <p:nvPr/>
        </p:nvCxnSpPr>
        <p:spPr>
          <a:xfrm>
            <a:off x="4242960" y="4265280"/>
            <a:ext cx="1677240" cy="59400"/>
          </a:xfrm>
          <a:prstGeom prst="bentConnector3">
            <a:avLst>
              <a:gd name="adj1" fmla="val 4989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9" name="AutoShape 70"/>
          <p:cNvCxnSpPr>
            <a:stCxn id="245" idx="3"/>
            <a:endCxn id="238" idx="2"/>
          </p:cNvCxnSpPr>
          <p:nvPr/>
        </p:nvCxnSpPr>
        <p:spPr>
          <a:xfrm flipV="1">
            <a:off x="6564240" y="1341000"/>
            <a:ext cx="1386720" cy="298368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0" name="AutoShape 71"/>
          <p:cNvCxnSpPr>
            <a:stCxn id="244" idx="3"/>
            <a:endCxn id="252" idx="1"/>
          </p:cNvCxnSpPr>
          <p:nvPr/>
        </p:nvCxnSpPr>
        <p:spPr>
          <a:xfrm flipV="1">
            <a:off x="6564240" y="3487320"/>
            <a:ext cx="194400" cy="588240"/>
          </a:xfrm>
          <a:prstGeom prst="bentConnector3">
            <a:avLst>
              <a:gd name="adj1" fmla="val 49907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61" name="Rectangle 72"/>
          <p:cNvSpPr/>
          <p:nvPr/>
        </p:nvSpPr>
        <p:spPr>
          <a:xfrm>
            <a:off x="4438800" y="4389480"/>
            <a:ext cx="5158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3"/>
          <p:cNvSpPr/>
          <p:nvPr/>
        </p:nvSpPr>
        <p:spPr>
          <a:xfrm>
            <a:off x="4438800" y="4638600"/>
            <a:ext cx="515880" cy="1875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开支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74"/>
          <p:cNvCxnSpPr>
            <a:stCxn id="214" idx="3"/>
            <a:endCxn id="261" idx="1"/>
          </p:cNvCxnSpPr>
          <p:nvPr/>
        </p:nvCxnSpPr>
        <p:spPr>
          <a:xfrm flipV="1">
            <a:off x="4242960" y="4483080"/>
            <a:ext cx="196200" cy="155880"/>
          </a:xfrm>
          <a:prstGeom prst="bentConnector3">
            <a:avLst>
              <a:gd name="adj1" fmla="val 4963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4" name="AutoShape 75"/>
          <p:cNvCxnSpPr>
            <a:stCxn id="214" idx="3"/>
            <a:endCxn id="262" idx="1"/>
          </p:cNvCxnSpPr>
          <p:nvPr/>
        </p:nvCxnSpPr>
        <p:spPr>
          <a:xfrm>
            <a:off x="4242960" y="4638600"/>
            <a:ext cx="196200" cy="94320"/>
          </a:xfrm>
          <a:prstGeom prst="bentConnector3">
            <a:avLst>
              <a:gd name="adj1" fmla="val 4963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5" name="AutoShape 76"/>
          <p:cNvCxnSpPr>
            <a:stCxn id="261" idx="3"/>
            <a:endCxn id="252" idx="2"/>
          </p:cNvCxnSpPr>
          <p:nvPr/>
        </p:nvCxnSpPr>
        <p:spPr>
          <a:xfrm flipV="1">
            <a:off x="4954320" y="3579120"/>
            <a:ext cx="2191320" cy="9039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6" name="AutoShape 77"/>
          <p:cNvCxnSpPr>
            <a:stCxn id="262" idx="3"/>
            <a:endCxn id="238" idx="2"/>
          </p:cNvCxnSpPr>
          <p:nvPr/>
        </p:nvCxnSpPr>
        <p:spPr>
          <a:xfrm flipV="1">
            <a:off x="4954320" y="1340640"/>
            <a:ext cx="2996280" cy="33915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7" name="AutoShape 78"/>
          <p:cNvCxnSpPr>
            <a:stCxn id="248" idx="3"/>
            <a:endCxn id="238" idx="2"/>
          </p:cNvCxnSpPr>
          <p:nvPr/>
        </p:nvCxnSpPr>
        <p:spPr>
          <a:xfrm flipV="1">
            <a:off x="5145120" y="1340640"/>
            <a:ext cx="2805840" cy="398052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68" name="Rectangle 79"/>
          <p:cNvSpPr/>
          <p:nvPr/>
        </p:nvSpPr>
        <p:spPr>
          <a:xfrm>
            <a:off x="5275440" y="2959200"/>
            <a:ext cx="6426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材料数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0"/>
          <p:cNvSpPr/>
          <p:nvPr/>
        </p:nvSpPr>
        <p:spPr>
          <a:xfrm>
            <a:off x="5275440" y="3208320"/>
            <a:ext cx="6426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81"/>
          <p:cNvCxnSpPr>
            <a:stCxn id="210" idx="3"/>
            <a:endCxn id="268" idx="1"/>
          </p:cNvCxnSpPr>
          <p:nvPr/>
        </p:nvCxnSpPr>
        <p:spPr>
          <a:xfrm flipV="1">
            <a:off x="4242960" y="3052440"/>
            <a:ext cx="103284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71" name="AutoShape 82"/>
          <p:cNvCxnSpPr>
            <a:stCxn id="210" idx="3"/>
            <a:endCxn id="269" idx="1"/>
          </p:cNvCxnSpPr>
          <p:nvPr/>
        </p:nvCxnSpPr>
        <p:spPr>
          <a:xfrm>
            <a:off x="4242960" y="3206880"/>
            <a:ext cx="1032840" cy="9576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72" name="AutoShape 83"/>
          <p:cNvCxnSpPr>
            <a:stCxn id="268" idx="0"/>
            <a:endCxn id="204" idx="3"/>
          </p:cNvCxnSpPr>
          <p:nvPr/>
        </p:nvCxnSpPr>
        <p:spPr>
          <a:xfrm flipV="1" rot="16200000">
            <a:off x="4733280" y="2094840"/>
            <a:ext cx="1275480" cy="45324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73" name="Line 84"/>
          <p:cNvSpPr/>
          <p:nvPr/>
        </p:nvSpPr>
        <p:spPr>
          <a:xfrm>
            <a:off x="1601640" y="3954600"/>
            <a:ext cx="1482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5"/>
          <p:cNvSpPr/>
          <p:nvPr/>
        </p:nvSpPr>
        <p:spPr>
          <a:xfrm>
            <a:off x="1601640" y="5446800"/>
            <a:ext cx="1482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6"/>
          <p:cNvSpPr/>
          <p:nvPr/>
        </p:nvSpPr>
        <p:spPr>
          <a:xfrm>
            <a:off x="1538280" y="5011560"/>
            <a:ext cx="14810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7"/>
          <p:cNvGrpSpPr/>
          <p:nvPr/>
        </p:nvGrpSpPr>
        <p:grpSpPr>
          <a:xfrm>
            <a:off x="1538280" y="4513320"/>
            <a:ext cx="2900160" cy="622080"/>
            <a:chOff x="1538280" y="4513320"/>
            <a:chExt cx="2900160" cy="622080"/>
          </a:xfrm>
        </p:grpSpPr>
        <p:sp>
          <p:nvSpPr>
            <p:cNvPr id="277" name="Line 88"/>
            <p:cNvSpPr/>
            <p:nvPr/>
          </p:nvSpPr>
          <p:spPr>
            <a:xfrm>
              <a:off x="1538280" y="4513320"/>
              <a:ext cx="17632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9"/>
            <p:cNvSpPr/>
            <p:nvPr/>
          </p:nvSpPr>
          <p:spPr>
            <a:xfrm>
              <a:off x="3301560" y="4513320"/>
              <a:ext cx="0" cy="62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0"/>
            <p:cNvSpPr/>
            <p:nvPr/>
          </p:nvSpPr>
          <p:spPr>
            <a:xfrm>
              <a:off x="3301560" y="5135400"/>
              <a:ext cx="11368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91"/>
          <p:cNvSpPr/>
          <p:nvPr/>
        </p:nvSpPr>
        <p:spPr>
          <a:xfrm>
            <a:off x="1279440" y="3828960"/>
            <a:ext cx="64296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毛利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2"/>
          <p:cNvSpPr/>
          <p:nvPr/>
        </p:nvSpPr>
        <p:spPr>
          <a:xfrm>
            <a:off x="1279440" y="5322960"/>
            <a:ext cx="642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3"/>
          <p:cNvSpPr/>
          <p:nvPr/>
        </p:nvSpPr>
        <p:spPr>
          <a:xfrm>
            <a:off x="1279440" y="4886280"/>
            <a:ext cx="64296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I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4"/>
          <p:cNvSpPr/>
          <p:nvPr/>
        </p:nvSpPr>
        <p:spPr>
          <a:xfrm>
            <a:off x="1279440" y="4389480"/>
            <a:ext cx="642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ITD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5"/>
          <p:cNvSpPr/>
          <p:nvPr/>
        </p:nvSpPr>
        <p:spPr>
          <a:xfrm>
            <a:off x="2440080" y="2400480"/>
            <a:ext cx="32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6"/>
          <p:cNvSpPr/>
          <p:nvPr/>
        </p:nvSpPr>
        <p:spPr>
          <a:xfrm>
            <a:off x="2440080" y="3270240"/>
            <a:ext cx="322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7"/>
          <p:cNvSpPr/>
          <p:nvPr/>
        </p:nvSpPr>
        <p:spPr>
          <a:xfrm>
            <a:off x="2440080" y="4202280"/>
            <a:ext cx="322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8"/>
          <p:cNvSpPr/>
          <p:nvPr/>
        </p:nvSpPr>
        <p:spPr>
          <a:xfrm>
            <a:off x="2440080" y="4826160"/>
            <a:ext cx="32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9"/>
          <p:cNvSpPr/>
          <p:nvPr/>
        </p:nvSpPr>
        <p:spPr>
          <a:xfrm>
            <a:off x="2440080" y="5289480"/>
            <a:ext cx="322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0"/>
          <p:cNvSpPr/>
          <p:nvPr/>
        </p:nvSpPr>
        <p:spPr>
          <a:xfrm>
            <a:off x="2440080" y="5819760"/>
            <a:ext cx="32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1"/>
          <p:cNvSpPr/>
          <p:nvPr/>
        </p:nvSpPr>
        <p:spPr>
          <a:xfrm>
            <a:off x="2023920" y="1343160"/>
            <a:ext cx="1095480" cy="503712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CA1AB8B8-100B-4D8D-A401-450C704C66F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16000" y="1058760"/>
            <a:ext cx="6421320" cy="42912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2195640" y="1704960"/>
            <a:ext cx="6734160" cy="46148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D9DC1FB-5262-4434-829D-7B71D8D4FB3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商业计划书提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73160" y="1619280"/>
            <a:ext cx="357984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投资亮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与服务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商业模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市场及行业分析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竞争分析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战略规划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财务及融资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理团队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1389240" y="177480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389240" y="222264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1389240" y="265572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1389240" y="31035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1389240" y="360360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"/>
          <p:cNvSpPr/>
          <p:nvPr/>
        </p:nvSpPr>
        <p:spPr>
          <a:xfrm>
            <a:off x="1389240" y="405144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1389240" y="45021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5"/>
          <p:cNvSpPr/>
          <p:nvPr/>
        </p:nvSpPr>
        <p:spPr>
          <a:xfrm>
            <a:off x="1389240" y="495000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1389240" y="54165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5CA2430-16F3-4046-9FDC-2BF71241D88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216000" y="1030320"/>
            <a:ext cx="6510240" cy="45352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2584440" y="2982960"/>
            <a:ext cx="6335640" cy="33354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48007D12-9531-4CB6-AA2C-B99C8842736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管理团队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98560" y="1438200"/>
            <a:ext cx="58453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关键管理者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EO, CTO, CO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包括从业及教育背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合理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验、背景有说服力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拉一些名人挂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"/>
          <p:cNvSpPr/>
          <p:nvPr/>
        </p:nvSpPr>
        <p:spPr>
          <a:xfrm>
            <a:off x="1282680" y="34178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6"/>
          <p:cNvSpPr/>
          <p:nvPr/>
        </p:nvSpPr>
        <p:spPr>
          <a:xfrm>
            <a:off x="1282680" y="1673280"/>
            <a:ext cx="6694560" cy="10317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003DA5EC-B838-466A-99E9-27F9D104FEE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16000" y="1049400"/>
            <a:ext cx="6629400" cy="40654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2757600" y="2230560"/>
            <a:ext cx="6180120" cy="42037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8"/>
          <p:cNvSpPr txBox="1"/>
          <p:nvPr/>
        </p:nvSpPr>
        <p:spPr>
          <a:xfrm>
            <a:off x="2287440" y="230040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99cc"/>
                </a:soli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i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0099cc"/>
              </a:soli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FE584290-BE31-4703-88F0-9DCCECE6CF0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投资亮点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98560" y="1438200"/>
            <a:ext cx="55339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市场、商业模式、资源优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00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简洁，统领全文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不要夸张、空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1282680" y="15685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"/>
          <p:cNvSpPr/>
          <p:nvPr/>
        </p:nvSpPr>
        <p:spPr>
          <a:xfrm>
            <a:off x="1282680" y="3156120"/>
            <a:ext cx="6694560" cy="116964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B273DC9-40A4-4BBD-B0DE-57CF4EC64C9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20680" y="1046160"/>
            <a:ext cx="7058160" cy="39164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2093760" y="1887480"/>
            <a:ext cx="6805800" cy="45180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93FF8A3-743B-4B8C-9F5B-0CA3C52542F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公司简介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98560" y="1438200"/>
            <a:ext cx="55339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概况：成立时间、员工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使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股权结构及主要股东背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要历史事件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实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贴获奖证书、媒体报道等图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5"/>
          <p:cNvSpPr/>
          <p:nvPr/>
        </p:nvSpPr>
        <p:spPr>
          <a:xfrm>
            <a:off x="1282680" y="21272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1282680" y="36100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C43D9416-C14F-4F5B-B921-99D824B90AB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216000" y="1077840"/>
            <a:ext cx="6164280" cy="37339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3232080" y="2482920"/>
            <a:ext cx="5688000" cy="38289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DF6EEE91-783B-4E85-AFAD-46A003163FA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产品与服务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98560" y="1438200"/>
            <a:ext cx="55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什么问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基本原理、服务流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特性、知识产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要客户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过多介绍技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少用专业术语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1282680" y="35402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1282680" y="1868400"/>
            <a:ext cx="6694560" cy="13953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79DFBCD-084C-4769-A878-94223A937E9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16000" y="1047600"/>
            <a:ext cx="6256080" cy="38451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2633760" y="2519280"/>
            <a:ext cx="6278400" cy="38037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BAC1E9DF-D14A-473E-82E3-DB5829A9658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模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98560" y="1438200"/>
            <a:ext cx="55339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业务流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配方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何产生收入，至少有想象空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1282680" y="33307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1282680" y="181440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02:04:58Z</dcterms:created>
  <dc:creator>michael s. adelman</dc:creator>
  <dc:description>Blank presentation using AC standard text.  Andersen Consulting Firmwide Templates v7.0.</dc:description>
  <dc:language>en-US</dc:language>
  <cp:lastModifiedBy>微软用户</cp:lastModifiedBy>
  <cp:lastPrinted>1999-04-27T16:42:08Z</cp:lastPrinted>
  <dcterms:modified xsi:type="dcterms:W3CDTF">2009-08-21T06:15:26Z</dcterms:modified>
  <cp:revision>1200</cp:revision>
  <dc:subject/>
  <dc:title>No Slide Title</dc:title>
</cp:coreProperties>
</file>