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990-963D-4D54-BE00-118C2B5C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48F-B1CB-4E6E-98DD-FA72E6E2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F42-7C19-4C67-BFCF-CF483582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6724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3156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0328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6724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3156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3BA-A0D2-4992-881B-D0DA6E79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BE6F-07E7-47DF-8D84-39DFB8A7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356F-9798-4FF5-8C8C-4C6F935C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AED9-3C3D-4DA6-9320-43F35035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2EA1-2C58-47F1-9692-397328F8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8BB8-CCEB-4785-8A82-06583013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16160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C61C-91F1-4F25-AA2D-C4C4E9B5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8E03-7F66-4469-B8E8-C45B176C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A23-CAF8-4DCB-BC85-A7EA1F65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2F6F-A0B1-4550-9826-48AA8DCF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519E-0B20-469B-B860-2088681E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2710-6179-4290-B09C-CD504ADD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F04B-BFF3-42D1-9540-1623A5C2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6724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3156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40328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6724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73156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40F6-BAF6-4236-8F3F-853C1DE2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81783-7B81-48F3-B42A-BA18E501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BB04-E5E0-413C-8780-D6BF94E9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707B-C01C-4E04-A557-644CE272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C890-A4A8-428E-9246-4EF80F5F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0219-2729-46BC-B960-BF77812D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894-B991-48A5-8526-7A4433BF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6160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C375-6633-402C-808D-A1CB1738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57AFC-7487-4BC2-A00B-2F21A28C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00B6F-19B5-4378-A189-E2F75720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3563-F3D4-4D95-8AA7-AF29F5F2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02C1-C4F5-4FD8-B6B1-B47E9CB5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D8B6-77CE-4A34-B8FA-1B866CD2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6724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3156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0328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6724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3156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1C92-E9CE-4609-BB1D-CBF21687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0F1B5-38D0-4195-BBB2-9211F136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5152-0BDF-4CDB-A855-F1BDBD11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E8D25-9417-4326-947E-8980C7C0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F19-C086-4633-9E0F-5374019B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932DB-D41E-4389-89EC-49C21A7C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9A973-2944-4217-AE07-EA7017C1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160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E25ED-B7C3-4537-B201-A1F589E1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73EB9-0C79-4232-8247-451A3AF6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5D7D3-84AF-46C1-AFB3-6D464534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B96EB-F064-4277-8AAA-3BE31BB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82D79-5838-4380-B1CF-96B6575B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D2F45-38DF-44D4-A6D2-E534B319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6724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73156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40328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6724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73156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FB49E-2771-4D68-950A-ABB33E41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69E-A0B3-47F9-8F58-03EC1B55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6160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8F3-9A98-4B9E-A611-F4407A38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628-A698-4C2B-9D5D-EF62F7AD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A29-3AB1-497D-8BE6-CAC03B9D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A7C-3680-4855-AA2E-EA69743C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5242-9B3C-4EEB-B8C5-8B43C54EF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2DCE-E786-458A-BA07-537C60A352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C322-89D0-4076-9098-753CE1EB2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B73D-9E4D-4368-93EB-19CB5EBF5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6360" y="117360"/>
            <a:ext cx="9117000" cy="6696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3480" y="259920"/>
            <a:ext cx="77025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那一天，我闭目在经殿的香雾中，蓦然听见你颂经中的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</a:rPr>
              <a:t>真言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那一月，我摇动所有的经筒，不为超度，只为触摸你的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</a:rPr>
              <a:t>指尖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那一年；磕长头匍匐在山路，不为觐见，只为贴着你的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</a:rPr>
              <a:t>温暖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那一世，转山转水转佛塔，为修来世，只为途中与你相见</a:t>
            </a:r>
            <a:r>
              <a:rPr b="0" lang="zh-CN" sz="40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那一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六世达赖 仓央嘉错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00280" y="2133720"/>
            <a:ext cx="809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第二关：找到适合自己的方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学习不会像转动飞轮那样简单，需要智慧和毅力，你需要找到适合自己的一套方法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10920" y="220500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听说过五步学习法吗？你不妨试试—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步，课前自学，对于不理解的地方做好标记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步，课堂领悟，掌握基本原理的来龙去脉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步，课后回顾，加深课堂理解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步，检验巩固，做到脱离课本，独立思考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五步，经常总结，能够用自己的语言表述所学的知识并加以运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4866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这也是学习的基本过程，问问自己，有没有做到？千万不要小看这几个步骤，也不要怕麻烦，这是无数成功学子的经验之谈。要知道，一旦你坚持这样做了，你就是已经在转动“飞轮”，接下来的学习就会变得高效而轻松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0920" y="24210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什么是学习？简单一句话，就是养成习惯。找到令自己满意的方法，并且坚持下去，成为习惯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样你就过了第二关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10920" y="2205000"/>
            <a:ext cx="806436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第三关：你需要不断调整自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个人都有自己的梦想，在梦想中描绘着自己将来的生活。开始时，我们会满腔热情。然而“事情永远不会百分之百地像我们预计的那样”，总会遇到种种问题，你一旦屈服、妥协，刚刚“旋转的飞轮”就会慢慢停止转动，直到有一天，你无奈地发现梦想和现实是那么的遥远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天，都有很多架飞机从我们头顶飞过，飞机上的乘客也坚信他们会到达自己的目的地。然而，你知道吗？在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5﹪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飞行时间里，飞机都是偏离航道飞行的，也就是说，没有人控制，飞机几乎一起飞就偏离了航道。区别就在于飞机是由飞行员负责方向的。飞行员有预定的目标，他清楚飞机会被气流吹得偏离航道，所以他监控着飞机的飞行方向，不时地进行调整，最终到达他的目的地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640" y="2276280"/>
            <a:ext cx="84153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也是这样，你所要做的不过是不断地调整自己——向着自己预定的方向努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确，优秀是一种习惯，但是，首先，你必须习惯于优秀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1699920"/>
            <a:ext cx="82710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关：是什么阻碍着我们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惰性，是缺乏勇气，还是不够自信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关：找到适合自己的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课前自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堂领悟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             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课后回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检验巩固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经常总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关：你需要不断调整自己  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0000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6000" y="3286080"/>
            <a:ext cx="676908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ALL IS WE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关于语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☺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坚持有计划地阅读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惟有高品位高质量的阅读（阅读经典，涉猎理性著作）方能夯实语言基础，提升语言功力，体悟人生真情，开拓心胸视野，养成深邃思想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习惯要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坚持计划阅读，思考让文字从脑子里过一遍，作读书笔记，诵读记忆名篇名段名句，在作文时勾引起阅读的记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508360" y="5084640"/>
            <a:ext cx="3166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主题班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00000" y="1699920"/>
            <a:ext cx="7772760" cy="14623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>
                <a:alpha val="78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9280" y="261720"/>
            <a:ext cx="8417160" cy="66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☺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坚持有效地训练：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课后思考练习题不能轻视；字音病句成语等语言基础积累训练常抓不懈；诗与文的阅读训练要全身心卷入并要始终激活思维，注重反思；对测试训练中呈现的问题要注意梳理归纳并能形成省悟的文字；作文训练事关语文学业大局轻视不得，马虎不得，练一次要能有一次收获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习惯要求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学会自主安排，独立完成，定时定量，掌握方法，注重反思，积极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探究思维过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-72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卓越在一些特别的习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4560" y="1125000"/>
            <a:ext cx="8569440" cy="60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坚持自主学习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以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问题与弱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安排时间与内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以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阅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作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念，严谨训练，突破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坚持阅读笔记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坚持高效训练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坚持动笔思考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坚持翻工具书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新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代汉语词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语词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古代汉语常用字字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古代汉语辞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坚持高效地上好早读课（精神饱满，内容实在，记忆高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吃苦之心追求卓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050920" y="1197000"/>
            <a:ext cx="5329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可奈年光似水声，迢迢去不停（晏殊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读书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做题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修补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整理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笔记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问的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追求卓越，创造辉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青春或许可以挥霍，但父母的血汗不能挥霍，肩头的责任不能挥霍，老师的劳动不能挥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个没有理想的人是痛苦的，一个没有心愿的人生活是昏暗的，一个没有目标的人梦是没有光彩的，一个好逸恶劳的人是享受不到真正的快乐的，一个没有恒心的人是不会有番作为的，一个只想不做的人是不会成功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55920"/>
            <a:ext cx="8278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祝同学们学得愉快，学有所成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一定熟悉这样的现象：骑自行车的时候，刚开始是不是很费力气？而一旦骑起来以后，就会感到轻松多了。汽车在发动的时候很慢，而后速度会越来越快……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91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就是“飞轮效应”。为了使静止的飞轮转动起来，一开始我们必须使很大的力气，一圈一圈反复地推，每转一圈都很费力，但是每一圈的努力都不会白费，飞轮会转动得越来越快。达到某一临界点后，你无须再费更大的力气，飞轮依旧会快速转动，而且不停地转动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12360" y="2017800"/>
            <a:ext cx="828036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每个人都想出色，都想让自己发展得更快些，但却往往输在起点上。正如“飞轮效应”一样，一开始我们必须付出数倍的努力，而你一旦开始，就会有一定的惯性推动着你去行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希腊哲学家亚里士多德说“优秀是一种习惯”，而要想让优秀成为一种习惯。你需要通过下面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三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仿宋_GB2312"/>
                <a:ea typeface="黑体"/>
              </a:rPr>
              <a:t>第一关：是什么阻碍着我们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飞轮一开始转动是很困难的，那么是什么阻碍着？看看下面的故事吧，或许能给我们一些启示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仿宋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仿宋_GB2312"/>
              </a:rPr>
              <a:t>有个懒惰的年轻人，四处寻访能够克服凡事提不起劲的原因，最后终于找到一位大师。大师听完年轻人的来意后，便带着他来到一个火车头旁边。大师将一个木块卡住火车头的轮子，然后让年轻人启动火车。蒸汽火车头马力已全部开启了，可是火车头就是不动。接着，大师拿起了木块，火车头立即动了起来，缓缓加速前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000" y="201780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仿宋_GB2312"/>
              </a:rPr>
              <a:t>大师笑着对年轻人说：“就这个小小的木块，让这个时速可达一百公里以上的火车头寸步难行。年轻人，你内心的火车头被什么样的小木块阻挡住了呢？除了你自己之外，没有任何人能帮你拿掉你的惰性，当然也包括我在内。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追求优秀，成功就会追求你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</a:rPr>
              <a:t>让优秀成为一种习惯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247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轻人听了大师的话，内心大受震撼。从此以后，他不断地行动，决不让自己停顿下来，不仅克服了自己的惰性，更创造了无比惊人的庞大的事业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呀，又是什么挡住了我们追求卓越的道路？是惰性，是缺乏勇气，还是不够自信？你把挡住自己的小木块拿掉了吗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是这样，那么，恭喜你，你已通过了第一关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00:36:02Z</dcterms:created>
  <dc:creator>萝卜家园</dc:creator>
  <dc:description/>
  <dc:language>en-US</dc:language>
  <cp:lastModifiedBy>萝卜家园</cp:lastModifiedBy>
  <cp:lastPrinted>1899-12-30T00:00:00Z</cp:lastPrinted>
  <dcterms:modified xsi:type="dcterms:W3CDTF">2008-07-25T01:36:05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