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DDDF3-5E14-425F-9837-E0066BECC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E1AA-2CA1-4E11-A6EE-7E66BD9F3E2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A62044-347D-40F4-8BFB-0BB15116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39AF9F-183D-40FA-AA06-20BB02A5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0ABC3B-7CCE-4D9D-AB0F-E339F763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820EE1-1E98-404C-88F9-A12E1735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4880C0-BEB5-4444-A82B-EF81972D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6749CA-C441-44FE-8990-29081D43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653ECB-C4DF-4B59-B791-E6CFEDF6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3F3279-7C95-42AA-BE1B-AB133D1E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38E209-FD8E-4968-B467-5F1C5440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DF0C55-152E-4D12-AD47-43C1364C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1346-8D42-4B51-BB5F-9B2A30A7BBA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6F2D35-1806-42B0-8F4F-41157795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E09796-3510-4563-8C95-76173D89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551EBC-D045-4531-950F-951CAE25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1686AA-783C-4C5A-8AB3-9BF0A50A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1DEF8-8715-44BA-BD90-9D4052A0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A3E9DE-DE21-4C6A-A419-1117DDA2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1D1F2-D5AC-4839-9660-E4323780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553EBF-56B6-4FF8-98F4-93BB7A7B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78E6DD-15E2-4C7F-A862-F3098971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1AEEF-CECC-4862-A763-021A7E3D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847B-8A0C-4E88-B092-98AD67A744E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D7CA5-2361-49C2-80BC-C55BF6A0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393F6-587B-4403-B71C-899FF968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3A15DA-57E4-42EC-8F99-AEB547D9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A6EE1D-976C-4BCB-B1B7-4743363F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519915-5DA2-43C2-AE96-AA88B69F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3387C1-8231-42A7-8326-2D0FD932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194A4-55AC-4355-A5CA-3C655993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DFCEEE-B0E2-4BA3-BB4F-409203EE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7804E-2D2E-414B-9831-A9EA7C6B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76703-DF41-460A-8D11-96B2F51A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5FC4D-D52C-472F-AAA8-0FEC33CD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B67B9-5A34-473F-8F11-3E66F0C8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37DD7-9678-4E62-8554-F6AB13AA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963CAE-40A6-4C1A-B5C0-3AF31A51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EE578A-7FE6-4427-B59A-D1DDC369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DCF560-01BB-481A-B94D-3973F7D2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432B61-E410-4A52-8069-F778918A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74F602-F007-4F72-BF75-2AC9C8C8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20372A-1223-442C-97D2-BCA563F3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4BA8EC-BB0A-4620-9AC9-4B06607A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1E9FEB-9583-4788-B5FE-A0CC1EFC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915849-6A0C-4DD1-9D93-A6A7CEB8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5E56D3-D8AC-4912-B3AA-17580EE5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ACE2FD-5F21-4B96-BD10-41A9FB0E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FC2736-CD95-4C9F-BEDB-207C4183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98FF90-E880-4BD7-8CEB-9C719836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2AA92-BA2C-4F1E-8519-37BD81BD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96CE8B-B6FC-4C38-B0C5-32FDBED2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7FBD1B-A66A-4F52-8E79-0D9965A1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7390BF-DDE0-4DD7-907B-B5B1F16E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73969D-D219-4EEB-B307-5F96DD79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5046E8-3138-4603-A02A-2B83087F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D97605-93A2-4003-8E96-EB01BB9F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64EEE5-FDA8-4B0F-9826-88B2AD54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E75DFD-4FCC-45B2-925F-D6AFE603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C30918-787D-4FAF-9795-875776D2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23C36-ED7D-4535-9F21-E7EF0E3E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B7FDD-8533-4FA6-BEB5-3270B945E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EAE5F-EF4E-4619-B1FE-A78947F9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52A66-023A-4E52-BD54-34BFE45C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B4695-D99A-43CB-BDE6-B13555A6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46126-A3CC-4644-84A8-2EBC9590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245F8-029A-4D72-8033-10C15D6A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AC0D-79BB-4CFD-8C04-9C11D7EBE1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F5C07-358F-49C2-A532-656D84DA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41273-EB2E-42DB-AB55-1DDC300E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FB4D0-65DA-401F-940E-0D19E468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DB5D2-BD69-4809-9EEC-25AFD0D7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0AFE7-5317-45C9-BCC0-6C48E8FE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437B2-51CE-4562-B081-3FD08B84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7CC84-52D8-4D5A-A40B-0609B068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0FFF41-09CB-4172-9EC7-9B8E0FD0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63DB3E-3C8C-4D12-BA62-200935BD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6AD882-C282-4039-B61D-357FA447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3198-2712-4C56-A3AC-9B5FB55322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A27FD7-E101-44C4-8B4E-0D14BF42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6B06BA-E304-465F-88A9-BEBFAB1D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27DF04-679C-407B-A6B5-E6895AC0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8C00DF-1AAA-44B5-9D06-AD33F85D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614D9B-9B73-4DF6-98BE-FE78AD90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4AB69C-85A1-4099-B63E-65CE5EC7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067E16-3072-4405-9AFE-03DA60F5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F46303-3DE8-414A-BC01-419F9166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1B0136-B862-4011-88CB-4EEA431B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121943-F32A-4D56-9581-B2326E14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8748-70BE-43EC-9D9A-B5756044361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9C350F-AB89-42B6-818F-F8277FDD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AB6E02-C90E-47C6-8145-26AD10F7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254BF0-A266-420A-B69E-BF79E522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6298FB-CBE9-4584-97E5-7F5D76F9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FCD9BD-3429-4F24-A73D-A3157C04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F8CEE8-580C-4165-B973-90884149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34AA95-4E40-4720-A966-17D3E381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C242A2-8BB7-4775-A7E5-B13586C2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C174B3-F12A-4DE0-B40C-26F3AB2E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4C5D5F-43FE-46FD-86EA-41E71864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8B00-7282-4C37-9F72-3E0E3B5A92A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108547-3306-46F7-AE5E-8D8ECE3E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D189C7-FAC6-401B-875A-A98A750E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A009DD-C499-4DFA-A47E-01039047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D7F358-7D0D-4642-BAFB-12CBB86D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920B34-395B-4272-A5F5-878AED4A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E36ABE-CCC9-4F93-9B9D-9A478440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EFC9E8-FC2E-4721-B95F-65E6B456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330ADB-56DF-4AAC-885A-C1246FB3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0091FD-864E-4797-A560-69F63924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42C511-F70C-492D-8A74-884CC46E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BB71-A206-4411-847E-F08D32EFD76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6376DA-5FFF-4523-B311-84A592EB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06B90D-30D8-47E2-BC95-89514997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D1B55B-202E-435B-ABC1-7C6554C4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549622-13C2-4456-B945-3D892A10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B61189-F761-4B47-84D4-74E90FB5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A0CC4B-0BF2-4D4B-A172-A0FBEFD2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96BADB-4D8D-4B9D-AA2B-E12F4EC6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06D400-C3B5-422E-81E9-5B8372D6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FCAF33-A3E9-4289-8C4B-D47FC794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193AA6-33E3-4161-B2E7-A196F5CD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77FE4-6397-4F76-B3B7-F2F9764EA85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A5E386-E9D7-4471-9C22-A51B2091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D0B63E-399C-49C9-AE10-40DD29F5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749E2F-6AD3-4AEF-9DC6-F617C81E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56CB1F-7064-48B1-BD20-EF8069F1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D0920B-5E04-4A52-9889-59E8B627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44CDBC-D822-477A-9701-7A60083F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3E4337-73D8-4C5D-8322-8316923A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127EF4-2127-4303-B2AE-89A7253B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2205D3-0FE2-45C9-B76F-A91870F7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C2861E-1521-43E0-9F8A-B04497BB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F069-23C2-496D-AE08-1C277F1BDF8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B809FA-44C3-4F7E-B76C-6E2AEB2B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E1F6FB-40B1-4AB2-8D09-B0AB67C6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381C83-1F7F-4A70-BCED-E4F6C6AD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362D93-80BF-4651-ADD5-C451EDBE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F30130-C2FE-4E42-B8B8-72B0F492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06FDC0-5708-46B4-9DCD-E5D34D8D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1B496A-E517-4EBC-93AB-AFD6E524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769CBF-C40A-47E9-9A77-55804458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A98D22-EDFB-42E0-87B5-4AEA45F6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0DAAF8-2B86-4276-91CB-79DDFB01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57640" y="6286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86D1-B535-4224-99A4-2E2E78C02AA6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2B19-EE6A-43B6-B034-3FAD5EC6D8C3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FAB5-AF34-4718-99BA-17AA3D399674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09EC-C2BF-4752-BE9B-87D9B82ED15B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0C8B-4A65-4499-A33F-05312748FF43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6D1A-D48A-4536-BBB1-25E86C818446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7"/>
          </p:nvPr>
        </p:nvSpPr>
        <p:spPr>
          <a:xfrm>
            <a:off x="6428880" y="6350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2FBB-85FE-4D8C-A84C-00BDA5D9E516}" type="slidenum">
              <a:rPr b="0" i="1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2830-EE42-4F00-9DED-C42B46F6D550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F9D0-AA75-4A65-9397-706FE4F4C04B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597D-DC98-4778-A9B2-B5178D22D6EB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1516-2604-4DF6-8F5D-4595DA752DCD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020C-7563-487E-B523-3815EBBC8888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3"/>
          <p:cNvSpPr/>
          <p:nvPr/>
        </p:nvSpPr>
        <p:spPr>
          <a:xfrm>
            <a:off x="285840" y="64296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9"/>
          <p:cNvSpPr/>
          <p:nvPr/>
        </p:nvSpPr>
        <p:spPr>
          <a:xfrm>
            <a:off x="3714840" y="4929120"/>
            <a:ext cx="45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www.pptok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0"/>
          <p:cNvSpPr/>
          <p:nvPr/>
        </p:nvSpPr>
        <p:spPr>
          <a:xfrm>
            <a:off x="5286240" y="5715000"/>
            <a:ext cx="2768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灯片编号占位符 3"/>
          <p:cNvSpPr/>
          <p:nvPr/>
        </p:nvSpPr>
        <p:spPr>
          <a:xfrm>
            <a:off x="6429240" y="6350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5555-1E1D-41D2-A6BD-C56B3D0C772C}" type="slidenum">
              <a:rPr b="0" i="1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57120" y="585792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</a:rPr>
              <a:t>模板的使用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57120" y="714240"/>
            <a:ext cx="8207280" cy="40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3"/>
          <p:cNvSpPr/>
          <p:nvPr/>
        </p:nvSpPr>
        <p:spPr>
          <a:xfrm>
            <a:off x="285840" y="64296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9"/>
          <p:cNvSpPr/>
          <p:nvPr/>
        </p:nvSpPr>
        <p:spPr>
          <a:xfrm>
            <a:off x="3714840" y="5286240"/>
            <a:ext cx="45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感谢您的关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8T16:53:06Z</dcterms:created>
  <dc:creator>lxym148</dc:creator>
  <dc:description/>
  <cp:keywords>lxym148</cp:keywords>
  <dc:language>en-US</dc:language>
  <cp:lastModifiedBy>yang</cp:lastModifiedBy>
  <cp:lastPrinted>1899-12-30T00:00:00Z</cp:lastPrinted>
  <dcterms:modified xsi:type="dcterms:W3CDTF">2011-10-12T12:07:06Z</dcterms:modified>
  <cp:revision>11</cp:revision>
  <dc:subject>lxym148</dc:subject>
  <dc:title>RESU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25</vt:lpwstr>
  </property>
</Properties>
</file>