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344B-0A65-4EB3-BF20-44B2FD96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6BF-3A8C-4049-A8F0-BAFE1A9A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772-72FC-47C4-8682-D39DCAF1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5253-5DE4-4330-833F-AD7279DC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125-77B6-4488-8682-055F3EC3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F3C3-EDD5-45D7-A93F-DF716C85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854-14DB-49E1-99EA-67528B30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EAB-1820-405C-A7D2-5D900392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320-2BBA-4C84-B2B1-DBCAB8A1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C07-2DC0-45D3-82FA-4BEF05BB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F18D-B43A-4EF8-8CFF-A1604286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F539-A075-4F5B-A1F5-E745399F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BF3D-A19E-4C42-B5BF-0C8680259E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99072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cc00"/>
                </a:solidFill>
                <a:latin typeface="Arial"/>
              </a:rPr>
              <a:t>各位家长，</a:t>
            </a:r>
            <a:br>
              <a:rPr sz="8000"/>
            </a:br>
            <a:r>
              <a:rPr b="0" lang="zh-CN" sz="8000" spc="-1" strike="noStrike">
                <a:solidFill>
                  <a:srgbClr val="99cc00"/>
                </a:solidFill>
                <a:latin typeface="Arial"/>
              </a:rPr>
              <a:t>晚上好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80880" y="457200"/>
          <a:ext cx="8305920" cy="5791320"/>
        </p:xfrm>
        <a:graphic>
          <a:graphicData uri="http://schemas.openxmlformats.org/drawingml/2006/table">
            <a:tbl>
              <a:tblPr/>
              <a:tblGrid>
                <a:gridCol w="1371600"/>
                <a:gridCol w="990720"/>
                <a:gridCol w="990720"/>
                <a:gridCol w="914400"/>
                <a:gridCol w="923760"/>
                <a:gridCol w="1038240"/>
                <a:gridCol w="1038240"/>
                <a:gridCol w="1038240"/>
              </a:tblGrid>
              <a:tr h="89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二、三单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期中复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四单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期中测试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期中测试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期中考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江嘉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77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倪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8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79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丽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汪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79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8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方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10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9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次期中考试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没有考出自己水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，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发挥失常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涛，汪磊，张林娟，张丽珍，方子涵，李思婷，黄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059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学期来上课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很不认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</a:rPr>
              <a:t>陈聪、涂玉屏、姚家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动作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学习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没有积极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cc00ff"/>
                </a:solidFill>
                <a:latin typeface="Arial"/>
              </a:rPr>
              <a:t>唐星怡、陈梦洁、厉佳莹、杨杰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基础知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掌握不够好的有</a:t>
            </a:r>
            <a:r>
              <a:rPr b="0" lang="zh-CN" sz="3200" spc="-1" strike="noStrike">
                <a:solidFill>
                  <a:srgbClr val="cc00ff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</a:rPr>
              <a:t>俞梦娇，唐星怡，金海燕，冯佳鲁，冯思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762120"/>
            <a:ext cx="8610480" cy="3934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坚持在第一时间</a:t>
            </a: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做题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坚持在第一时间</a:t>
            </a: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询问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反映出良好的</a:t>
            </a: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学习习惯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态度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非常重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1218240"/>
            <a:ext cx="83818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676520" y="2209680"/>
            <a:ext cx="5715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请家长加强关注！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280" y="6094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１、不要把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为自己的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但忙的目的也是为了孩子能够生活地更加  幸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36232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交谈；多陪伴；少唠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２、多关注孩子的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内心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年龄的孩子想法很奇怪，也很有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280" y="6094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类学生的复习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01480" y="1371600"/>
            <a:ext cx="460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基础较好的孩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搜集错题，提出要求，以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更高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目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大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难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量，可以做一些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奥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，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坚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天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9000" y="2895480"/>
            <a:ext cx="538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中等的孩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整理错误，找出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错误原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严格按老师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方法进行解题。仔细认真，不出现低级错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6880" y="4495680"/>
            <a:ext cx="213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较差的孩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端正思想，认真从基础做起。围绕书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进行强化练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ff"/>
                </a:solidFill>
                <a:latin typeface="Arial"/>
              </a:rPr>
              <a:t>每天进步一点</a:t>
            </a:r>
            <a:r>
              <a:rPr b="0" lang="zh-CN" sz="6000" spc="-1" strike="noStrike">
                <a:solidFill>
                  <a:srgbClr val="cc00ff"/>
                </a:solidFill>
                <a:latin typeface="Arial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3733920"/>
            <a:ext cx="609624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让孩子喊出口号吧：</a:t>
            </a:r>
            <a:br>
              <a:rPr sz="5400"/>
            </a:br>
            <a:r>
              <a:rPr b="0" lang="zh-CN" sz="7200" spc="-1" strike="noStrike">
                <a:solidFill>
                  <a:srgbClr val="cc00ff"/>
                </a:solidFill>
                <a:latin typeface="Arial"/>
              </a:rPr>
              <a:t>“我要提高</a:t>
            </a:r>
            <a:r>
              <a:rPr b="0" lang="zh-CN" sz="72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0" lang="zh-CN" sz="7200" spc="-1" strike="noStrike">
                <a:solidFill>
                  <a:srgbClr val="cc00ff"/>
                </a:solidFill>
                <a:latin typeface="Arial"/>
              </a:rPr>
              <a:t>分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609480"/>
            <a:ext cx="8153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ff"/>
                </a:solidFill>
                <a:latin typeface="Arial"/>
              </a:rPr>
              <a:t>要求：到期末每人提高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0" lang="zh-CN" sz="6000" spc="-1" strike="noStrike">
                <a:solidFill>
                  <a:srgbClr val="cc00ff"/>
                </a:solidFill>
                <a:latin typeface="Arial"/>
              </a:rPr>
              <a:t>分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联 系 电 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数学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俞老师：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138680735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79560" y="2895480"/>
            <a:ext cx="5267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是感谢你们在百忙之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到这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老师一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讨孩子的教育问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是感谢你们平时在工作上对我的理解和支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19520" y="1143000"/>
            <a:ext cx="1904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感谢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0000" spc="-1" strike="noStrike">
                <a:solidFill>
                  <a:srgbClr val="ff0066"/>
                </a:solidFill>
                <a:latin typeface="Arial"/>
              </a:rPr>
              <a:t>谢谢大家，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zh-CN" sz="10000" spc="-1" strike="noStrike">
                <a:solidFill>
                  <a:srgbClr val="ff0066"/>
                </a:solidFill>
                <a:latin typeface="Arial"/>
              </a:rPr>
              <a:t>再见！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俞晓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45720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进入六年级就意味着学习生活面临最紧张最激烈的开始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一方面渴望自己的努力能得到自我价值的肯定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一方面各种压力又使得他们不得不面对各种矛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96252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在众多矛盾面前，有些孩子不会识别主次，分不清轻重缓急，于是就开始手忙脚乱，情绪失控，心态极易变得消沉，表现出做事注意力不集中，记忆力下降，忙，却效率低下，甚至出现心智的逐渐退化，形成恶性循环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76520" y="3048120"/>
            <a:ext cx="571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孩子是辛苦的！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80880" y="533520"/>
            <a:ext cx="3962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孩子的变化</a:t>
            </a: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23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的积极性、态度出现两极分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85800" y="3352680"/>
            <a:ext cx="8229600" cy="1295640"/>
            <a:chOff x="685800" y="3352680"/>
            <a:chExt cx="8229600" cy="1295640"/>
          </a:xfrm>
        </p:grpSpPr>
        <p:sp>
          <p:nvSpPr>
            <p:cNvPr id="50" name=""/>
            <p:cNvSpPr/>
            <p:nvPr/>
          </p:nvSpPr>
          <p:spPr>
            <a:xfrm>
              <a:off x="685800" y="335268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生理、心理方面变化带来的现象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1143000" y="4191120"/>
              <a:ext cx="17524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66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＂审美问题＂</a:t>
              </a:r>
              <a:endPara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3505320" y="4191120"/>
              <a:ext cx="17524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66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＂朦胧问题＂</a:t>
              </a:r>
              <a:endPara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5943600" y="4191120"/>
              <a:ext cx="17524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66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＂毕业问题＂</a:t>
              </a:r>
              <a:endPara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2101680"/>
            <a:ext cx="67816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进步明显的同学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江玟、周鹏鹏、李思婷、陈鸿凯、方子涵、楼聪聪、江嘉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学期来共进行了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次测试，以下是同学们进入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前十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次数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2819160"/>
            <a:ext cx="77724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沈澍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楼聪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子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江嘉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张丽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学期来共进行了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次测试，以下是同学们进入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前十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次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杨泽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刘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周鹏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汪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厉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徐太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陈冰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24680" y="3276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学期来共进行了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次测试，以下是同学们进入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前十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次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张淑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徐嘉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张天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江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一次第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云梦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一次第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其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第一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838080"/>
          <a:ext cx="8229600" cy="5310000"/>
        </p:xfrm>
        <a:graphic>
          <a:graphicData uri="http://schemas.openxmlformats.org/drawingml/2006/table">
            <a:tbl>
              <a:tblPr/>
              <a:tblGrid>
                <a:gridCol w="1371600"/>
                <a:gridCol w="990720"/>
                <a:gridCol w="723960"/>
                <a:gridCol w="1028520"/>
                <a:gridCol w="1028880"/>
                <a:gridCol w="1028520"/>
                <a:gridCol w="1028880"/>
                <a:gridCol w="1028520"/>
              </a:tblGrid>
              <a:tr h="13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一单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二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三单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期中复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四单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期中测试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期中测试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期中考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厉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楼聪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沈澍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8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徐太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8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ff"/>
                          </a:solidFill>
                          <a:latin typeface="宋体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15T13:43:11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