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D17-81AD-4B36-8132-E662BF48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CCD7-884C-4BD7-88F8-27852BCC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2F6-B500-4318-95D9-170DB5AE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586-21DE-4A7D-B5E9-536B5F2B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E5DE-B4DF-4E93-A632-8ECF4F85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A3F9-FDC2-46FC-B144-A5AF583A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AC45-61A7-49F7-94FC-502F155F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62D2-C807-4C3E-AA5F-5C928993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8243-CB57-4A65-92BD-DF626958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3F05-CC97-45AB-8866-5E266F6A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00C8-B1C0-41F2-AD04-B8213852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351-FF11-4891-88F9-15FE6059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C873-3654-49A8-A70D-0E256170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9EC6-F9D2-4013-8702-4C92B90C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C0A2-1F88-40E9-BEE3-0860D761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3442-DE5D-4827-8E73-AB7C9F05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6FF1-0FEA-42FC-951F-A1233B69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CEE-7D41-45E1-8FFE-2F8982A5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C75-FE27-4840-A21C-C261D30A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C5FE-1918-4605-8A88-94B3B599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8AA-479E-4B6B-AAB7-088B86B0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958-976E-4C7E-9518-0889F3EA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1A43-2153-4D6D-8883-97E8C2DD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FEB-6D98-48A4-A3C6-8094BDA6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CF9B-5994-481E-AD20-2A81266D2E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6660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61C3-E7DB-4FD3-9526-D08D7FF1B4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82800" y="692280"/>
            <a:ext cx="6361200" cy="5776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476360" y="2349360"/>
            <a:ext cx="644364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微软雅黑"/>
              </a:rPr>
              <a:t>节约水资源</a:t>
            </a:r>
            <a:endParaRPr b="0" lang="en-US" sz="66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微软雅黑"/>
              <a:ea typeface="微软雅黑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87280" y="1341360"/>
            <a:ext cx="708660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cc99"/>
                </a:solidFill>
                <a:latin typeface="宋体"/>
              </a:rPr>
              <a:t>普定县实验学校六（</a:t>
            </a:r>
            <a:r>
              <a:rPr b="1" lang="en-US" sz="1800" spc="1" strike="noStrike">
                <a:ln w="0">
                  <a:noFill/>
                </a:ln>
                <a:solidFill>
                  <a:srgbClr val="ffcc99"/>
                </a:solidFill>
                <a:latin typeface="宋体"/>
              </a:rPr>
              <a:t>2</a:t>
            </a:r>
            <a:r>
              <a:rPr b="1" lang="zh-CN" sz="1800" spc="1" strike="noStrike">
                <a:ln w="0">
                  <a:noFill/>
                </a:ln>
                <a:solidFill>
                  <a:srgbClr val="ffcc99"/>
                </a:solidFill>
                <a:latin typeface="宋体"/>
              </a:rPr>
              <a:t>）班主题班会</a:t>
            </a:r>
            <a:endParaRPr b="1" lang="en-US" sz="1800" spc="1" strike="noStrike">
              <a:ln w="0">
                <a:noFill/>
              </a:ln>
              <a:solidFill>
                <a:srgbClr val="ffcc99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5661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熊辅弼     编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71640" y="90792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下面请听相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洗衣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91628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甲：呦，这不是小红吗？好久没见了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乙：是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甲：呵，我刚发现，今天穿的衣服挺精神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乙：嗨，这哪是精神啊！这是因为洗衣服洗得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甲：怎么洗的？把秘诀给我传授传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乙：成！（快速说）先用狗牌洗衣粉打一遍，将水龙头开至最大哗哗一冲，这是第一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甲：噢，这是第一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乙：（快速地）再把兔牌领洁净喷上，放一大盆水，以每秒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800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公里的速度将衣服扔进盆中，双手迅速抓住衣领口大喊：洗刷刷，洗刷刷，喔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   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甲：呵，还带唱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87280" y="1197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下面请听相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洗衣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220500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乙：（放慢语速）猛搓衣服。只见晶莹的水花四溅飞扬，（深情地说）整间屋子都湿了，连澡都一块儿洗了（感动地说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甲：您等会儿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乙：嗯？怎么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甲：您这一盆水是多少水啊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乙：没多少，就一浴盆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甲：这还没有多少呢！不行，你太浪费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乙：（咄咄逼人地说）怎么不行，怎么不行！日本鬼子被赶走了，人民当家做主人了，全民幸福奔小康了，我家洗衣服多用点水咋了！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16000" y="40464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下面请听相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洗衣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341360"/>
            <a:ext cx="835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甲：俗话说得好，穷啥不能穷教育，苦啥不能苦孩子，费啥不能费水源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乙：那你是怎么洗衣服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甲：我把衣服放在水池子里，将水龙头轻抬</a:t>
            </a:r>
            <a:r>
              <a:rPr b="1" lang="en-US" sz="2400" spc="-1" strike="noStrike">
                <a:solidFill>
                  <a:srgbClr val="33cc33"/>
                </a:solidFill>
                <a:latin typeface="宋体"/>
              </a:rPr>
              <a:t>2.25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毫米，等</a:t>
            </a:r>
            <a:r>
              <a:rPr b="1" lang="en-US" sz="2400" spc="-1" strike="noStrike">
                <a:solidFill>
                  <a:srgbClr val="33cc33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秒后会滴出一滴水珠，一定要调整好衣服的位置，让水珠正好滴在污渍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乙：那其他地方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甲：干搓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乙：啊？干搓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甲：是啊！这样多省水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乙：我的天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甲：哈哈，咱们还是好好洗衣服吧，既别浪费，也别用水珠洗衣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    </a:t>
            </a:r>
            <a:r>
              <a:rPr b="1" lang="zh-CN" sz="2400" spc="-1" strike="noStrike">
                <a:solidFill>
                  <a:srgbClr val="33cc33"/>
                </a:solidFill>
                <a:latin typeface="宋体"/>
              </a:rPr>
              <a:t>乙：对！在节约的前提下把衣服洗干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476360" y="692280"/>
            <a:ext cx="6361200" cy="5776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564000" y="3429000"/>
            <a:ext cx="2520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主任讲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476360" y="692280"/>
            <a:ext cx="6361200" cy="5776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492360" y="4292640"/>
            <a:ext cx="2521080" cy="6426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会结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916360" y="1773360"/>
            <a:ext cx="3960720" cy="21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332000" y="5445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宁波下雨天用水枪冲洗小区路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843280" y="54450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自来水龙头没人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26920" y="5516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盗用消防栓水洗衣服造成水资源浪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63640" y="530064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给我的宠物洗澡，太爽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68360" y="5300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这样洗车节约水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95640" y="5229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泼吧泼吧！好过瘾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76360" y="544500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哗，哗，哗，什么也不洗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6920" y="119700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下面请听“三句半”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保护水资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989000"/>
            <a:ext cx="244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茫茫宇宙大无边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恒星行星万万千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只有地球才有水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真可怜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地球上面水挺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就是太咸没法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淡水只有一丁点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靠它活！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地球淡水本就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若再浪费不得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防止污染节约使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保保保！    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1916280"/>
            <a:ext cx="295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中国地大物又博，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别忘人口也最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人均有水相对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有啥招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普定夜郎湖来绿水库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咱安顺人民的水葫芦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千方百计防污染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护护护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要想节水办法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一水多用是法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1916280"/>
            <a:ext cx="2592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淘米洗菜浇花草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冲厕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自来水管真方便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又能洗来又能涮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谁要把它瞎糟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咱们和他把账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对对对！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谁要把它瞎糟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我们和他把账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    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把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——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账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——</a:t>
            </a:r>
            <a:r>
              <a:rPr b="1" lang="zh-CN" sz="1800" spc="-1" strike="noStrike">
                <a:solidFill>
                  <a:srgbClr val="33cc33"/>
                </a:solidFill>
                <a:latin typeface="Arial"/>
              </a:rPr>
              <a:t>算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20:37Z</dcterms:created>
  <dc:creator>Administrator</dc:creator>
  <dc:description/>
  <cp:keywords/>
  <dc:language>en-US</dc:language>
  <cp:lastModifiedBy>User</cp:lastModifiedBy>
  <cp:lastPrinted>1899-12-30T00:00:00Z</cp:lastPrinted>
  <dcterms:modified xsi:type="dcterms:W3CDTF">2011-11-02T17:02:50Z</dcterms:modified>
  <cp:revision>6</cp:revision>
  <dc:subject/>
  <dc:title>保护水资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