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54A-31D8-4B21-ABBC-9C411091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0FC-312C-4960-A9ED-D1F8CBCB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E98-EB9B-47F6-B8EC-8AD236EB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D08-FA20-41CA-95E0-95C30CDC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B0A3-3DDD-4BEB-B2B4-73195517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0E8-14EB-4E4D-9010-173126BA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C433-C96B-4BDA-9493-89449052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4AF-562F-4D58-A88F-7A1265C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21B-6DB4-4E98-9421-6B14975A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7C8-93D9-4EF5-ACDA-D41E061A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56A5-0939-4D46-97DA-7B04BFE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A7D-E1BB-4BBC-B341-773B49C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90E-F26A-476F-B20B-527C929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D9F-80E4-4AF5-AF57-68578DB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E534-6439-4296-98D4-BF398C6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F609-B377-473C-9798-4878A455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FD6-D6E8-4E1E-B530-27425A55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9F8-4A28-4D46-BE95-B34AAF3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A03-6131-446C-81A6-B8CE6AED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066-EB01-44E7-BE56-BA1A6905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D12-B90B-4F03-9E1F-B3D0025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084-AB26-4E1C-8653-4236742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D87-88C3-4A23-83AF-2535FF6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85F-A522-40D1-A0A7-152B643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650-F644-4C62-8B5E-78652951DA1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D506-A633-4FF8-99F8-10FAA5BBD3B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8000" y="1844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不忘九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八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为中华民族崛起而读书！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50133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高二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主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6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     1931年9月18日晚，盘踞在中国东北的日本关东军按照精心策划的阴谋，由铁道“守备队”炸毁沈阳柳条湖附近的南满铁路路轨，并嫁祸于中国军队。这就是所谓的“柳条湖事件”。日军以此为借口，突然向驻守在沈阳北大营的中国军队发动进攻。由于东北军执行“不抵抗政策”，当晚日军便攻占北大营，次日占领整个沈阳城。之后，日军继续向辽宁、吉林和黑龙江的广大地区进攻，短短4个多月内，128万平方公里、相当于日本国土3.5倍的中国东北全部沦陷，3000多万东北父老成了亡国奴。“九一八”事变，揭开了日本对中国、进而对亚洲及太平洋地区进行全面武装侵略的序幕。 这是次日晨日军在沈阳外攘门上向中国军队进攻。 新华社发"/>
          <p:cNvPicPr/>
          <p:nvPr/>
        </p:nvPicPr>
        <p:blipFill>
          <a:blip r:embed="rId2"/>
          <a:stretch/>
        </p:blipFill>
        <p:spPr>
          <a:xfrm>
            <a:off x="4067280" y="62064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172152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93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晚，盘踞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东北的日本关东军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照精心策划的阴谋，由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道“守备队”炸毁沈阳柳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湖附近的南满铁路路轨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嫁祸于中国军队。这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是所谓的“柳条湖事件”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军以此为借口，突然向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驻守在沈阳北大营的中国军队发动进攻。由于东北军执行“不抵抗政策”，当晚日军便攻占北大营，次日占领整个沈阳城。之后，日军继续向辽宁、吉林和黑龙江的广大地区进攻，短短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个多月内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28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万平方公里、相当于日本国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.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倍的中国东北全部沦陷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00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多万东北父老成了亡国奴。“九一八”事变，揭开了日本对中国、进而对亚洲及太平洋地区进行全面武装侵略的序幕。 这是次日晨日军在沈阳外攘门上向中国军队进攻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1931年9月18日，驻中国东北的日本关东军炮击中国东北军的北大营并向沈阳进攻，制造了震惊中外的“九·一八”事变。19日，日军侵占沈阳，几天之内又占领长春、吉林等地。1932年2月，东北全境沦陷。“九·一八”事变是日本帝国主义企图以武力征服中国的开端。图为日军占领沈阳城（资料图片）。 新华社发"/>
          <p:cNvPicPr/>
          <p:nvPr/>
        </p:nvPicPr>
        <p:blipFill>
          <a:blip r:embed="rId2"/>
          <a:stretch/>
        </p:blipFill>
        <p:spPr>
          <a:xfrm>
            <a:off x="4067280" y="3429000"/>
            <a:ext cx="4762440" cy="3029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7280" y="146304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，驻中国东北的日本关东军炮击中国东北军的北大营并向沈阳进攻，制造了震惊中外的“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八”事变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，日军侵占沈阳，几天之内又占领长春、吉林等地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3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，东北全境沦陷。“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八”事变是日本帝国主义企图以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力征服中国的开端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图为日军占领沈阳城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9月17日，参观者在触摸警世钟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2355840" y="725400"/>
            <a:ext cx="4406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71200" y="912960"/>
            <a:ext cx="560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满江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纪念九一八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        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旧事重浮，关东破，思来恨切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痛回首，柳条湖畔，夕阳浴血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城下悬颅魂不死，刀前刻骨节尤烈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更同呼，万剑向东瀛，都消灭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应长记，仇未雪！时秣马，休松懈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看金戈舞处，我心如铁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四海闲庭飞短棹，神州举火樱花谢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当对酒，与千古徐郎，同明月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46128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40240" y="-2633760"/>
            <a:ext cx="351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越过高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越过平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跨过奔腾的黄河长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宽广美丽的土地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是我们亲爱的家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英雄的人民站起来了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团结友爱坚强如钢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勤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勇敢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独立自由是我们的理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战胜了多少苦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才得到今天的解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爱和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爱家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敢侵犯我们就叫他死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东方太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正在升起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人民共和国正在成长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领袖毛泽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指引着前进的方向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的生活天天向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的前途万丈光芒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7904"/>
                            </p:stCondLst>
                            <p:childTnLst>
                              <p:par>
                                <p:cTn id="7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51 0.63606 L 0.0467 -4.58128 E">
                                      <p:cBhvr>
                                        <p:cTn id="73" dur="210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高二（</a:t>
            </a: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）班</a:t>
            </a:r>
            <a:br>
              <a:rPr sz="6000"/>
            </a:b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主题班会</a:t>
            </a:r>
            <a:br>
              <a:rPr sz="6000"/>
            </a:br>
            <a:br>
              <a:rPr sz="6000"/>
            </a:b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到此结束！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950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1640" y="324000"/>
            <a:ext cx="82807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九一八”事变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９３１年９月１８日晚，盘踞在中国东北的日本关东军按照精心策划的阴谋，由铁道“守备队”炸毁沈阳柳条湖附近的南满铁路路轨，并嫁祸于中国军队。这就是所谓的“柳条湖事件”。日军以此为借口，突然向驻守在沈阳北大营的中国军队发动进攻。由于东北军执行“不抵抗政策”，当晚日军便攻占北大营，次日占领整个沈阳城。日军继续向辽宁、吉林和黑龙江的广大地区进攻，短短４个多月内，１２８万平方公里、相当于日本国土３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５倍的中国东北全部沦陷，３０００多万父老成了亡国奴。这就是震惊中外的“九一八”事变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本对中国东北垂涎已久。“九一八”事变前，它已通过日俄战争夺取了旅顺、大连和满洲铁路沿线并派兵驻扎，这正是它能够阴谋进行事变的前提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１９２７年夏，日本内阁就在东京召开“东方会议”，制订了《对华政策纲领》，露骨地声称中国东北“在（日本）国防和国民的生存上有着重大的利害关系”。同年７月，内阁首相田中义一向天皇奏呈《帝国对满蒙之积极根本政策》（即臭名昭著的“田中奏折”），公然宣称：“欲征服中国，必先征服满蒙；欲征服世界，必先征服中国。”从而确立了以“满蒙”为侵略基地的狂妄战略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１９２９年起，日军陆军参谋本部和关东军在中国东北三省先后秘密组织了四次“参谋旅行”，侦察情况，制定了侵略中国东北的作战方案。１９３１年６月，日本陆军参谋本部和陆军省制定“满蒙问题解决方案大纲”，确定了以武力侵占中国东北的具体步骤；７月，陆军参谋本部把攻城重炮秘密调运至沈阳，对准东北军驻地北大营；８月，日本陆军大臣南次郎在日本全国师团长会议上叫嚷：满蒙问题只有用武力解决。随后进一步做了发动此次战争的各种准备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981000"/>
            <a:ext cx="7846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九一八”事变揭开了日本对中国、进而对亚洲及太平洋地区进行全面武装侵略的序幕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九一八”事变激起了全国人民的抗日怒潮。各地人民纷纷要求抗日，反对国民党政府的不抵抗主义。在中国共产党的领导和影响下，东北人民奋起抵抗，开展抗日游击战争，先后出现了东北义勇军和各种抗日武装。１９３６年２月，东北各抗日部队统一改编为东北抗日联军。１９３７年“七七”事变后，抗日联军团结广大群众， 进一步开展了广泛持久的抗日武装斗争，有力地配合了中国共产党领导的全国抗战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9月17日，参观者在触摸警世钟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324000" y="333360"/>
            <a:ext cx="4133880" cy="626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48360" y="28332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00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是“九一八”事变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76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周年。位于沈阳市柳条湖附近的“九一八”历史博物馆迎来了众多参观者。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9月17日，沈阳市民在“九一八”历史博物馆参观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574560" y="620640"/>
            <a:ext cx="79930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     9月16日，一名工作人员从沈阳“九一八”历史博物馆残历碑前经过。今年是日本军国主义发动“九一八”事变７５周年。除事变爆发地沈阳将举行撞钟鸣警仪式外，辽宁全省其余１３个城市将在９月１８日晚９时１８分与沈阳同时拉响警报，警示人们勿忘国耻，振兴中华。     　新华社记者 李钢摄"/>
          <p:cNvPicPr/>
          <p:nvPr/>
        </p:nvPicPr>
        <p:blipFill>
          <a:blip r:embed="rId2"/>
          <a:stretch/>
        </p:blipFill>
        <p:spPr>
          <a:xfrm>
            <a:off x="934920" y="115920"/>
            <a:ext cx="727236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7160" y="5453280"/>
            <a:ext cx="86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，一名工作人员从沈阳“九一八”历史博物馆残历碑前经过。去年是日本军国主义发动“九一八”事变７５周年。除事变爆发地沈阳将举行撞钟鸣警仪式外，辽宁全省其余１３个城市将在９月１８日晚９时１８分与沈阳同时拉响警报，警示人们勿忘国耻，振兴中华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9:41:22Z</dcterms:created>
  <dc:creator>j2mv9-jyyq6-jm44k-qmyth-8rb2w</dc:creator>
  <dc:description/>
  <dc:language>en-US</dc:language>
  <cp:lastModifiedBy>huangyou</cp:lastModifiedBy>
  <dcterms:modified xsi:type="dcterms:W3CDTF">2007-09-20T07:41:42Z</dcterms:modified>
  <cp:revision>31</cp:revision>
  <dc:subject/>
  <dc:title>几十年未解之谜 全球怪物大搜寻 </dc:title>
</cp:coreProperties>
</file>