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8.gif" ContentType="image/gif"/>
  <Override PartName="/ppt/media/image5.jpeg" ContentType="image/jpeg"/>
  <Override PartName="/ppt/media/image6.png" ContentType="image/png"/>
  <Override PartName="/ppt/media/image7.jpeg" ContentType="image/jpeg"/>
  <Override PartName="/ppt/media/image9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02404-EC48-486F-9BBA-9A0D9C00FC4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3B9A6-6CCC-4DAD-8F09-621344952F9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D8972-91D9-4F69-BCB3-90EC9B5F7D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5B39A-32DB-48C1-81EC-304FD8958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718F9-26F4-4EC6-9168-123FA41A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4CFA-25A6-4DF8-B44C-DE800EA4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D05F5-1946-4D96-A701-B7C1BC4FD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8B34B-3621-470E-A718-1B01AB98C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D64C8-2585-4E14-BC02-D32A6B121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1CC7A-9024-42DF-95EC-322A03B19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DC17-91B7-4030-8B06-598E1E713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FB03-7D33-4E61-9BAE-4F4D821D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B782D-6471-4838-A09E-12EF34988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06D0C-5687-47D5-8A91-3B3FBBA47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97038-E5DD-4B1E-8AB3-8B89AA67D1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图片 2" descr="200812508372850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000080" y="1285920"/>
            <a:ext cx="721512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14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黑体"/>
                <a:ea typeface="黑体"/>
              </a:rPr>
              <a:t>讲文明 懂礼貌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1447920" y="990720"/>
            <a:ext cx="6172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5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课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下课游戏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有礼貌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课本文具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摆放好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去喝水，去厕所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不奔不跑不吵闹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1447920" y="990720"/>
            <a:ext cx="6172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6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作业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左手按书右手点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词一句大声念。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笔一划认真写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书面整洁按时交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1447920" y="990720"/>
            <a:ext cx="6172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7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放学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快速整理小书包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课桌对齐椅摆好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。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队伍整齐出校门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家长不到不乱跑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743200" cy="102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问题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304920" y="914400"/>
            <a:ext cx="85341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假如你是领导早读的同学，每天总会早早得来到学校。今天，你也像往常一样来到教室，发现老师还没来，可是，居然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个同学在过道上追逐打闹。看到这一切，你应该怎么说，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500"/>
                            </p:stCondLst>
                            <p:childTnLst>
                              <p:par>
                                <p:cTn id="3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" dur="500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666880" cy="106668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问题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星期天午休起床时，你发现头痛极了，嗓子也十分干哑。妈妈摸摸你的头，发现你发高烧了，必须到医院去，于是，你想打电话给老师请假半天，该怎么说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0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" dur="500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2209680" cy="109692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问题三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许老师在上课时发现，需要用到小刀，而小刀是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班的班主任罗老师的，她正在办公室里改作业。于是许老师请你去借，你来到了办公室门口，该怎么说，怎么做呢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1000"/>
                            </p:stCondLst>
                            <p:childTnLst>
                              <p:par>
                                <p:cTn id="6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3" dur="500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2133720" cy="1020600"/>
          </a:xfrm>
          <a:prstGeom prst="rect">
            <a:avLst/>
          </a:prstGeom>
          <a:noFill/>
          <a:ln w="9360">
            <a:solidFill>
              <a:srgbClr val="c000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问题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304920" y="1371600"/>
            <a:ext cx="8572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星期六，你到新华书店去买一本叫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《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儿童百科全书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》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的书。可是你刚走进书店大门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哇！书店一共有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层，真大呀，该怎么办才好呢？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1000"/>
                            </p:stCondLst>
                            <p:childTnLst>
                              <p:par>
                                <p:cTn id="7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6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4" descr="3146f604247bd6550308810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3" name="图片 3" descr="12319461459301A295.gif"/>
          <p:cNvPicPr/>
          <p:nvPr/>
        </p:nvPicPr>
        <p:blipFill>
          <a:blip r:embed="rId2"/>
          <a:stretch/>
        </p:blipFill>
        <p:spPr>
          <a:xfrm rot="586200">
            <a:off x="7159680" y="5041800"/>
            <a:ext cx="2114640" cy="1943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304920" y="4568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同学们，你给别人一个微笑，别人给你一个春天。你给别人一份温暖，别人给你快乐无限。你给别人一份谦让，别人给你敬重万千。你给别人一份真诚，别人给你温馨的思念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图片 2" descr="200810419431339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304920" y="304920"/>
            <a:ext cx="8534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5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我们是祖国的小雏鹰，让我们插上文明的翅膀，人人都来争做文明使者。希望你们能以此为契机，从自我做起，从身边的小事做起，讲文明，用文明，真正成为</a:t>
            </a:r>
            <a:r>
              <a:rPr b="1" lang="en-US" sz="5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21</a:t>
            </a:r>
            <a:r>
              <a:rPr b="1" lang="zh-CN" sz="5400" spc="-1" strike="noStrike">
                <a:solidFill>
                  <a:srgbClr val="c00000"/>
                </a:solidFill>
                <a:latin typeface="楷体_GB2312"/>
                <a:ea typeface="楷体_GB2312"/>
              </a:rPr>
              <a:t>世纪文明的小主人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2" descr="200912409455479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 txBox="1"/>
          <p:nvPr/>
        </p:nvSpPr>
        <p:spPr>
          <a:xfrm>
            <a:off x="0" y="500040"/>
            <a:ext cx="914400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40000"/>
              </a:lnSpc>
              <a:spcBef>
                <a:spcPts val="1349"/>
              </a:spcBef>
              <a:buClr>
                <a:srgbClr val="000000"/>
              </a:buClr>
              <a:buFont typeface="黑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语言是心灵的一扇窗户，一面镜子，能映出你的修养与文明程度，俗话说得好：两眼一句三冬暖，恶语伤人六月寒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7" descr="08102301183212566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436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c00000"/>
                </a:solidFill>
                <a:latin typeface="黑体"/>
                <a:ea typeface="黑体"/>
              </a:rPr>
              <a:t>文明礼仪德孝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3"/>
          <p:cNvSpPr/>
          <p:nvPr/>
        </p:nvSpPr>
        <p:spPr>
          <a:xfrm>
            <a:off x="228600" y="87480"/>
            <a:ext cx="86104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　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  </a:t>
            </a:r>
            <a:r>
              <a:rPr b="1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亲爱的同学们，身为学生就应该遵守学校各项纪律，不但要做个爱学习、讲卫生、守纪律的好学生，还要做个讲文明、懂礼貌的文明学生。我们开展的礼仪教育活动班会，其中语言美是文明的重要表现，下面我们看儿歌</a:t>
            </a:r>
            <a:r>
              <a:rPr b="0" lang="zh-CN" sz="4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 thruBlk="true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4" descr="20097994928858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70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幼圆"/>
                <a:ea typeface="幼圆"/>
              </a:rPr>
              <a:t>小学生行为规范儿歌</a:t>
            </a:r>
            <a:br>
              <a:rPr sz="6000"/>
            </a:b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0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7"/>
          <p:cNvSpPr/>
          <p:nvPr/>
        </p:nvSpPr>
        <p:spPr>
          <a:xfrm>
            <a:off x="1447920" y="990720"/>
            <a:ext cx="6172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1.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学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小书包自己背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高高兴兴上学校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微笑挥手有礼貌：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老师早！同学早！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1447920" y="990720"/>
            <a:ext cx="6172200" cy="536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2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升旗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升国旗时要肃立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国歌响起唱整齐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小眼睛，望国旗，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一点一点向上移。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3"/>
          <p:cNvSpPr/>
          <p:nvPr/>
        </p:nvSpPr>
        <p:spPr>
          <a:xfrm>
            <a:off x="533520" y="990720"/>
            <a:ext cx="8305560" cy="50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3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课歌</a:t>
            </a:r>
            <a:br>
              <a:rPr sz="5400"/>
            </a:b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上课铃声响，端坐位置上。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小手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放平！小脚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并拢！</a:t>
            </a:r>
            <a:br>
              <a:rPr sz="4800"/>
            </a:b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胸脯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挺起！眼睛</a:t>
            </a:r>
            <a:r>
              <a:rPr b="1" lang="en-US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—</a:t>
            </a:r>
            <a:r>
              <a:rPr b="1" lang="zh-CN" sz="4800" spc="-1" strike="noStrike">
                <a:solidFill>
                  <a:srgbClr val="ff0000"/>
                </a:solidFill>
                <a:latin typeface="华文楷体"/>
                <a:ea typeface="华文楷体"/>
              </a:rPr>
              <a:t>看前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专心看老师，边听边思想。</a:t>
            </a:r>
            <a:br>
              <a:rPr sz="4800"/>
            </a:br>
            <a:r>
              <a:rPr b="1" lang="zh-CN" sz="4800" spc="-1" strike="noStrike">
                <a:solidFill>
                  <a:srgbClr val="000000"/>
                </a:solidFill>
                <a:latin typeface="华文楷体"/>
                <a:ea typeface="华文楷体"/>
              </a:rPr>
              <a:t>发言先举手，声音响又亮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20093209565789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4771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1447920" y="990720"/>
            <a:ext cx="6172200" cy="50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4.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写字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一寸一尺和一拳，</a:t>
            </a:r>
            <a:br>
              <a:rPr sz="5400"/>
            </a:b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身直头正放平肩。</a:t>
            </a:r>
            <a:br>
              <a:rPr sz="5400"/>
            </a:b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字体工整又美观，保护眼睛最关键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55b14e95429257197af480d6"/>
          <p:cNvPicPr/>
          <p:nvPr/>
        </p:nvPicPr>
        <p:blipFill>
          <a:blip r:embed="rId1"/>
          <a:stretch/>
        </p:blipFill>
        <p:spPr>
          <a:xfrm>
            <a:off x="0" y="28440"/>
            <a:ext cx="9144000" cy="680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宋雪梅[教师]</cp:lastModifiedBy>
  <dcterms:modified xsi:type="dcterms:W3CDTF">2012-03-05T12:41:09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