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CEEE-C831-435C-9995-CE784137BF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A4D-C7B2-4889-8A8D-8F30A0F7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957-C3F8-43DF-AE8A-3306580A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996-98B4-44A8-95D3-38F412D7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263-7F4D-401C-AD62-5CF97AEE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492-AEEF-4A8C-A1C4-37D3587B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892-EA78-43E1-AE1F-D9BF17B7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280-C092-4280-962D-194B3F98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833-BC67-444D-94BC-09D980C5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154-570B-4A71-ABEB-D8BD72AC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A18-42C9-4821-9620-DBF8F75D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D9E-0B36-48EC-978E-14649AC2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C9A-13B6-4788-8020-999C9F90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629B-6008-4B37-880D-9065407590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0805_223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556000" y="1773360"/>
            <a:ext cx="68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回自己的祖国去</a:t>
            </a: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396440" y="2890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北师大版三年级语文上册第三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33360"/>
            <a:ext cx="8964720" cy="79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liàng       qì          lu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辆           汽          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一辆  车辆   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汽车   汽油  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张罗 罗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qī     yì         fù       w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妻       异        妇         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夫妻 妻子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惊异 奇异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夫妇 妇女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台湾  海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9280" y="333360"/>
            <a:ext cx="8964720" cy="79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mǎ         wò         pè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码            握          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码头  号码   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握手   握住  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佩服  敬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pāo       pín        gu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抛           贫           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抛开   抛弃  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贫穷   贫困    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回归  归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189000"/>
            <a:ext cx="9144000" cy="83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夫             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夫妇  夫人  大夫  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城市  市场   市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价           值             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价值  价格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值班 值得  价值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城市 城楼 城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b2b5d"/>
                </a:solidFill>
                <a:latin typeface="Arial"/>
                <a:ea typeface="楷体_GB2312"/>
              </a:rPr>
              <a:t>华               穷              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华山  华罗庚   </a:t>
            </a:r>
            <a:r>
              <a:rPr b="1" lang="zh-CN" sz="3600" spc="-1" strike="noStrike">
                <a:solidFill>
                  <a:srgbClr val="f505e4"/>
                </a:solidFill>
                <a:latin typeface="Arial"/>
                <a:ea typeface="楷体_GB2312"/>
              </a:rPr>
              <a:t>穷苦  穷人  贫穷     </a:t>
            </a:r>
            <a:r>
              <a:rPr b="1" lang="zh-CN" sz="3600" spc="-1" strike="noStrike">
                <a:solidFill>
                  <a:srgbClr val="2c5dfa"/>
                </a:solidFill>
                <a:latin typeface="Arial"/>
                <a:ea typeface="楷体_GB2312"/>
              </a:rPr>
              <a:t>客厅  大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3480" y="243000"/>
            <a:ext cx="771840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52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夫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4360" y="134136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f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夫妇  夫人  大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69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市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4000" y="134136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s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城市  市场  市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86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1268280"/>
            <a:ext cx="26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ji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价值  价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103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值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134136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zh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值班  值得  价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120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城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1371600"/>
            <a:ext cx="26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ché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城市  城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137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华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1371600"/>
            <a:ext cx="26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hu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华山   华罗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154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1371600"/>
            <a:ext cx="26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qió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穷苦  贫穷  穷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2771640" y="2492280"/>
            <a:ext cx="3200040" cy="2666880"/>
            <a:chOff x="2771640" y="2492280"/>
            <a:chExt cx="3200040" cy="2666880"/>
          </a:xfrm>
        </p:grpSpPr>
        <p:sp>
          <p:nvSpPr>
            <p:cNvPr id="171" name=""/>
            <p:cNvSpPr/>
            <p:nvPr/>
          </p:nvSpPr>
          <p:spPr>
            <a:xfrm>
              <a:off x="4371840" y="3814920"/>
              <a:ext cx="1599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71640" y="3814920"/>
              <a:ext cx="1600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71840" y="2492280"/>
              <a:ext cx="159948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71640" y="2492280"/>
              <a:ext cx="160020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71640" y="249228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71640" y="381492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71640" y="5159160"/>
              <a:ext cx="3200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164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71840" y="24922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1680" y="2492280"/>
              <a:ext cx="0" cy="266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348000" y="2637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厅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19640" y="1371600"/>
            <a:ext cx="26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tī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4000" y="0"/>
            <a:ext cx="2895480" cy="1063800"/>
            <a:chOff x="324000" y="0"/>
            <a:chExt cx="2895480" cy="10638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895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295280" y="166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5445000"/>
            <a:ext cx="8999640" cy="11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客厅  大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5:06:30Z</dcterms:created>
  <dc:creator>dell</dc:creator>
  <dc:description/>
  <dc:language>en-US</dc:language>
  <cp:lastModifiedBy>dell</cp:lastModifiedBy>
  <dcterms:modified xsi:type="dcterms:W3CDTF">2013-05-02T08:20:19Z</dcterms:modified>
  <cp:revision>12</cp:revision>
  <dc:subject/>
  <dc:title>幻灯片 1</dc:title>
</cp:coreProperties>
</file>