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E2B-0282-480E-9710-91FA7045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9A7-669B-481F-8013-9C6C7CB8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445-4D36-45B5-BC20-D82401DE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F1B-5622-419C-B4C1-68816215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481B-683F-4A76-833F-DC6567E3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0E6B-2618-4464-BB76-39F2DFA5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2BA7-8284-41E7-BEB2-1D2FCD9E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489B-9B75-44D5-9578-36846DCC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4EE7-F8B1-443D-98DE-2AB713CB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3B52-B22E-4AFB-B68B-BF842ACF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915-7214-4D42-965C-A620657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D2B-25EE-47C2-933E-21204760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A0E5-D8A6-4CB4-BAFA-B7A0219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CF4E-C3A8-4E83-AE60-B09329F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F4A3-7C8A-46A0-91A9-418A61BB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EFD8-737E-425C-BBB0-323327EB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D971-A475-4148-B5E0-98E3958D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B46-263B-4DB0-B2F6-F90EC875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33A-4C32-4C6C-813A-709C3106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C46-EB92-4A83-B34A-BFF89BDF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DFD-8E78-4EFE-B9F5-AA8DE652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888-CABC-4773-B70C-6F31EF2F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AC0-2306-4F60-A903-6CD2B8F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7B7-167A-48FD-91A1-03AD4934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761A-A00F-423D-9E79-2E422A2590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57D2-113B-467B-B978-8B3244860E1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56.com/u26/v_NDc5MjQzODI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56.com/u26/v_NDc5MjQzODI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743200" y="388620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42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制作人：喻一石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04800" y="1038240"/>
            <a:ext cx="60962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好习惯，伴我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14479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3352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学而时习之，不亦说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良好的习惯乃是人在其神经系统中存放的道德资本，这个资本在不断地增值，而在人整个一生中就享受着它的利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同样的事重复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72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次就可形成定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只要有意识地锻炼，我们每个人都会养成良好的习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182880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3352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怎样培养良好的学习习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828800"/>
            <a:ext cx="58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一、心中要有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二、克服与养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三、培养学习的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四、培养创新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182880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养成五种良好的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75248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一心向学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专心致志的学习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严格执行学习计划定时定量的学习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认真思考的学习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讲究学习卫生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1143000"/>
            <a:ext cx="9144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57200"/>
            <a:ext cx="7772400" cy="60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想一想   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好习惯给你带来了什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给班级带来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坏习惯又给你带来了什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Dotum"/>
              </a:rPr>
              <a:t>给班级造成什么影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1143000"/>
            <a:ext cx="9144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572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良好的习惯，是一个人学习进步的起点， 是一个人立足社会的条件。通过这次主题班会会帮助我们改掉一些不良习惯。一次主题班会就像一盏灯，灯光亮一些，我们身边的黑暗就会少一些。而我们每个同学的心灵就像一扇窗，窗户打开，光亮就会进来。只要我们每个同学迈出一小步，班级就能前进一大步，每个同学迈出一小步，我们小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42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班就能进步一大步。我们班上的每一个同学，在做每一件事时，都会更多地为我们的集体着想，成为真正的拥有良好习惯的文明小学生！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0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1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609480" y="1600200"/>
            <a:ext cx="6782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让“好习惯”伴我们快乐成长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上课时，必要的学习用品都带齐了。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预备铃响，趁老师还没到，抓紧时间多说几句话。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经常将作业漏在家里。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课常上能积极提问或回答问题。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上课时，在笔记本上乱写乱画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总是在规定的时间和地方学习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学习时有小朋友来找我就跟他去玩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7400" y="45720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好习惯我判断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成绩好的试卷就给家长看，考差了就不给家长看。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老师没布置预习不用了。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不明白的问题就算了，老师会说的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有一边学习，一边看电视或听收音机的习惯。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玩和学习的时间划分得很清楚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班主任在与不在教室时，表现一样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每学期开始，能明确提出新的努力目标。  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在学习上表现出竞争意识。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ff"/>
                </a:solidFill>
                <a:latin typeface="Tahoma"/>
              </a:rPr>
              <a:t>猜猜看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是你的影子，但我与你亲密无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是机器，但我全心全意听命于你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成功的人来说，－－我是功臣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失败的人来说，－－我是罪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培训我，－－我会为你赢得整个人生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放纵我，－－我会毁掉你的终身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到底是谁？－－我平凡得让你惊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ahoma"/>
              </a:rPr>
              <a:t>判断这些习惯的好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19320"/>
            <a:ext cx="73915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你讲脏话、粗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上下楼时，你是否跑着上下，大声说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你经常乱扔纸屑、垃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你想借同桌学习用品，而同桌又不在，你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先用吗？还是等他回来再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上课回答问题，边举手边说或不举手就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6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晨诵和午读都需要老师和班长监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7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自习课时，你是安静看书，写作业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8.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课间是否经常哄闹，说话举止不文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2"/>
          </p:cNvPr>
          <p:cNvSpPr/>
          <p:nvPr/>
        </p:nvSpPr>
        <p:spPr>
          <a:xfrm>
            <a:off x="80773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5844" y="10800"/>
                </a:moveTo>
                <a:lnTo>
                  <a:pt x="5338" y="17806"/>
                </a:lnTo>
                <a:lnTo>
                  <a:pt x="5338" y="3794"/>
                </a:lnTo>
                <a:close/>
              </a:path>
              <a:path fill="darken" w="24690" h="21600">
                <a:moveTo>
                  <a:pt x="17689" y="3794"/>
                </a:moveTo>
                <a:lnTo>
                  <a:pt x="17689" y="17806"/>
                </a:lnTo>
                <a:lnTo>
                  <a:pt x="19351" y="17806"/>
                </a:lnTo>
                <a:lnTo>
                  <a:pt x="19351" y="3794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051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遇见老师是不是主动停下来向老师问好？ 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⒑是不是等教师进教室后才安静下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⒒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是不是等老师讲课了再拿出课本用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⒓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是不是经常忘带作业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⒔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是不是没写作业，撒谎说丢在家里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⒕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家长或老师不在身边时能不能自觉学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⒖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能做到珍惜别人的劳动成果？不去破坏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自己的书桌座位是不是经常干净整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ahoma"/>
              </a:rPr>
              <a:t>判断这些习惯的好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2"/>
          </p:cNvPr>
          <p:cNvSpPr/>
          <p:nvPr/>
        </p:nvSpPr>
        <p:spPr>
          <a:xfrm>
            <a:off x="80773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5844" y="10800"/>
                </a:moveTo>
                <a:lnTo>
                  <a:pt x="5338" y="17806"/>
                </a:lnTo>
                <a:lnTo>
                  <a:pt x="5338" y="3794"/>
                </a:lnTo>
                <a:close/>
              </a:path>
              <a:path fill="darken" w="24690" h="21600">
                <a:moveTo>
                  <a:pt x="17689" y="3794"/>
                </a:moveTo>
                <a:lnTo>
                  <a:pt x="17689" y="17806"/>
                </a:lnTo>
                <a:lnTo>
                  <a:pt x="19351" y="17806"/>
                </a:lnTo>
                <a:lnTo>
                  <a:pt x="19351" y="3794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9051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676520"/>
            <a:ext cx="779148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6480">
                  <a:solidFill>
                    <a:srgbClr val="cc99ff"/>
                  </a:solidFill>
                  <a:miter/>
                </a:ln>
                <a:solidFill>
                  <a:srgbClr val="dc2431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养成良好的学习习惯 </a:t>
            </a:r>
            <a:endParaRPr b="1" i="1" lang="en-US" sz="6000" spc="1" strike="noStrike">
              <a:ln w="6480">
                <a:solidFill>
                  <a:srgbClr val="cc99ff"/>
                </a:solidFill>
                <a:miter/>
              </a:ln>
              <a:solidFill>
                <a:srgbClr val="dc2431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46483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清晨到校先念书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课堂纪律要遵守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积极发言先举手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课间休息讲文明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教室卫生人人管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写完作业先检查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收拾学具有顺序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阅读天天要坚持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预习复习别忘记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养成习惯很重要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努力争做好少年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 rot="5735400">
            <a:off x="-1104840" y="2585880"/>
            <a:ext cx="533376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4347"/>
                <a:gd name="adj2" fmla="val 1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好习惯从我做起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9480" y="182880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990720"/>
            <a:ext cx="6095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小学生，爱学习，养成习惯终受益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入鸿波要牢记“三人成行是校纪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勤洗衣，勤洗澡，健康卫生身体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见同学，问声好，团结友爱讲礼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见老师，行个礼，尊师重教讲礼仪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上下楼，要安静，轻声慢步靠右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课堂上，专心听， 作业工整要记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课桌上，物品齐，座位卫生我管理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多阅读，勤思考， 我校因我而的骄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5735400">
            <a:off x="-1447560" y="2666880"/>
            <a:ext cx="53341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4347"/>
                <a:gd name="adj2" fmla="val 1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好习惯从我做起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9-23T11:55:1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