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C0F-4C92-4D2F-9042-158A229E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20C-FAE3-47D9-B1B2-CD5DACE9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38E-0359-4A82-822C-A5BA7529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442-5B19-4D36-A69B-192F4400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8D9-96E8-4AA0-ADC2-EB558238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948-994E-49CD-96C3-5E0B77A7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760-3AE7-4932-9B2A-82DAA137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74D-01C0-42C9-BDAD-50F81641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06F-8048-47E7-A740-CFEF89A6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EE7-A44C-4F90-BA98-D2E512AA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20C-3E01-416B-89D9-0A4E0E40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7F8-BD79-4A79-BBC2-F3FBB83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A48D-7EBD-4639-BC1E-711531F0965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c7439ff2c69829501dc9f4466e4ec82"/>
          <p:cNvPicPr/>
          <p:nvPr/>
        </p:nvPicPr>
        <p:blipFill>
          <a:blip r:embed="rId1"/>
          <a:stretch/>
        </p:blipFill>
        <p:spPr>
          <a:xfrm>
            <a:off x="1440" y="-1292400"/>
            <a:ext cx="9523440" cy="807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护理安全管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62520" y="327636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护理文书记录不规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全面、真实、客观、准确、及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表现：不真实、不及时、不准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不全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签字制度的落实不到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PE07677_"/>
          <p:cNvPicPr/>
          <p:nvPr/>
        </p:nvPicPr>
        <p:blipFill>
          <a:blip r:embed="rId2"/>
          <a:stretch/>
        </p:blipFill>
        <p:spPr>
          <a:xfrm>
            <a:off x="7526160" y="4724280"/>
            <a:ext cx="1008360" cy="171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PE07677_"/>
          <p:cNvPicPr/>
          <p:nvPr/>
        </p:nvPicPr>
        <p:blipFill>
          <a:blip r:embed="rId3"/>
          <a:stretch/>
        </p:blipFill>
        <p:spPr>
          <a:xfrm>
            <a:off x="7848720" y="4987800"/>
            <a:ext cx="1025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以人为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服务理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满足人们的发展愿望和多样性需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尊重和保障人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注人的价值、权益和自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注人的生活质量、发展潜能和幸福指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14040" y="22093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以人为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服务理念的表现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责任心不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告知不到位、解释不耐心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行为不当或过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120" y="24382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缺乏有效的沟通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交流时间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交流的感情基础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缺乏交流艺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1404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管理层的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管理制度不完善、不健全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没有健全的管理组织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没有编制护理质量管理文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PE07677_"/>
          <p:cNvPicPr/>
          <p:nvPr/>
        </p:nvPicPr>
        <p:blipFill>
          <a:blip r:embed="rId2"/>
          <a:stretch/>
        </p:blipFill>
        <p:spPr>
          <a:xfrm>
            <a:off x="7740720" y="4648320"/>
            <a:ext cx="10983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040" y="2209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管理者对潜在的不安全因素缺乏预见性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没有制定常见急症抢救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没有制定工作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无应急预案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无服务规范用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无科室护理质量控制标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22860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上级对下级的监控缺乏力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检查结果与个人绩效不挂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护理人力资源的配置不合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员的缺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22093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对护士的教育、培训不重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职业道德教育薄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进行培训或培训不到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提供有效的学习环境或渠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PE07677_"/>
          <p:cNvPicPr/>
          <p:nvPr/>
        </p:nvPicPr>
        <p:blipFill>
          <a:blip r:embed="rId2"/>
          <a:stretch/>
        </p:blipFill>
        <p:spPr>
          <a:xfrm>
            <a:off x="7696080" y="5029200"/>
            <a:ext cx="874800" cy="148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E07677_"/>
          <p:cNvPicPr/>
          <p:nvPr/>
        </p:nvPicPr>
        <p:blipFill>
          <a:blip r:embed="rId3"/>
          <a:stretch/>
        </p:blipFill>
        <p:spPr>
          <a:xfrm>
            <a:off x="8001000" y="5369040"/>
            <a:ext cx="8161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8960" y="23623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患者的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患者或家属对治愈的期望过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的求生本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现代医学的飞速发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1072114285812424"/>
          <p:cNvPicPr/>
          <p:nvPr/>
        </p:nvPicPr>
        <p:blipFill>
          <a:blip r:embed="rId1"/>
          <a:stretch/>
        </p:blipFill>
        <p:spPr>
          <a:xfrm>
            <a:off x="-7308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800080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42640" y="23623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患者的不良心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突发疾病：心理上承受不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慢性疾病：患者感到绝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绝       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无经济承受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亲人的绝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E07677_"/>
          <p:cNvPicPr/>
          <p:nvPr/>
        </p:nvPicPr>
        <p:blipFill>
          <a:blip r:embed="rId3"/>
          <a:stretch/>
        </p:blipFill>
        <p:spPr>
          <a:xfrm>
            <a:off x="7391520" y="4648320"/>
            <a:ext cx="10666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240" y="8380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b300"/>
                </a:solidFill>
                <a:latin typeface="Calibri"/>
                <a:ea typeface="黑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57400" y="274284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理安全相关概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理安全重要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影响护理安全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理安全管理策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4"/>
          <p:cNvSpPr/>
          <p:nvPr/>
        </p:nvSpPr>
        <p:spPr>
          <a:xfrm>
            <a:off x="914400" y="1295280"/>
            <a:ext cx="441972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ece1"/>
                </a:solidFill>
                <a:latin typeface="Tahoma"/>
              </a:rPr>
              <a:t>提   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800080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2640" y="22860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不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陈旧、性能不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质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设备、设施故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PE07677_"/>
          <p:cNvPicPr/>
          <p:nvPr/>
        </p:nvPicPr>
        <p:blipFill>
          <a:blip r:embed="rId2"/>
          <a:stretch/>
        </p:blipFill>
        <p:spPr>
          <a:xfrm>
            <a:off x="7391520" y="4495680"/>
            <a:ext cx="1143000" cy="194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E07677_"/>
          <p:cNvPicPr/>
          <p:nvPr/>
        </p:nvPicPr>
        <p:blipFill>
          <a:blip r:embed="rId3"/>
          <a:stretch/>
        </p:blipFill>
        <p:spPr>
          <a:xfrm>
            <a:off x="7475400" y="4800600"/>
            <a:ext cx="982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2640" y="28951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建立、健全各项规章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建立四级质量监控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建立健全各项规章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10663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f81bd"/>
                </a:solidFill>
                <a:latin typeface="Calibri"/>
                <a:ea typeface="隶书"/>
              </a:rPr>
              <a:t>规章制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2209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安全管理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高危管理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紧急情况下的人力资源调配预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缺陷管理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风险防范预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核心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隶书"/>
              </a:rPr>
              <a:t>护理安全管理制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密切实加强无菌技术和操作规程的管理，有预防差错事故措施，严格执行三查七对，输血必须经俩人核对后方可执行，堵塞严重护理，差错事故发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毒麻局限贵重药品定量，标签醒目，有专人，保管，落锁，列入交接班内容，帐物相符，外用药，消毒药，杀虫药与内服药分开，标签醒目，置于外用柜中，摆药，发药均按操作规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用氧做到四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防火防油防震防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室内禁止吸烟，注意用电安全。防火设备，易燃，易爆物品定点妥善保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做好儿童，昏迷病人的护理，防坠床有措施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加床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病人转科有陪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严格执行各项消毒隔离制度，预防医院内感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省统一的隔离制度执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需要用热水袋保暖时必须注意水温，并加外套，以防烫伤病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要求做过敏实验的药物必须先做过敏实验，对阳性反应者在床头、病历牌封面应醒目标志，临时医嘱单上有记录，有签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防盗，确保病友财产安全，各科室上晚夜班护士要按时所好大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护理人员做到说话和气，切勿恶语伤人，做好心理护理，做好保密性医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Calibri"/>
                <a:ea typeface="隶书"/>
              </a:rPr>
              <a:t>高危管理制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管理是指对高危时期、高危时间段、高危病人的管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时期包括节假日，尤其是几个黄金周，各科室某种疾病的高发季节，科室病人特多、而工作人员紧缺时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时间段是指管理人员和大部分员工不上班的时候，如中午、晚夜间、双休日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病人指随时有生命危险的病人，突发事件致群体就诊的病人，术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小时内的病人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时期科室要实行弹性排班，派二线班；护士长的通讯工具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小时畅通；护士长间断代班，如护士长外出（离开本市），要报护理部备案，且在科室内指定可靠临时负责人；黄金周每天安排护士长总值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时间段设护士长总值班和输液队成员值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高危病人管理制度参照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危重病人的管理制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建立高危病人标识系统（详略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建立健全各种应急预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保证各种抢救仪器、设备、药品等用物随时处于应急状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培养护理人员乃至其他医务人员的危急意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不定期的检查与督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8487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Calibri"/>
                <a:ea typeface="隶书"/>
              </a:rPr>
              <a:t>紧急情况下人力资源调配预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、紧急状态下护理人员调配的原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一般紧急状态能在本科内动用轮休、补休人员应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情况下，尽量不动用其他科室人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需大量人员应急或科室长时间超负荷的情况下，由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理部统一调配轮科护士及其他科室人员参与应急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白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般调配全院轮休、补休的护士参与应急，晚夜班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般调配全院护士长参与应急，必要时动用护理部成员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时间相对较长的应急状态由护理部安排从各科抽调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员对口支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8487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Calibri"/>
                <a:ea typeface="隶书"/>
              </a:rPr>
              <a:t>紧急情况下人力资源调配预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二、紧急状态下护理人员调配的方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、白班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室护士长调本科轮休和或晚夜班护士应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重大突发事件科内人员不能满足需要时，护士长上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护理办总护士长统一调配弹性层护士或从各科抽派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士予以应急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、晚班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值班护士电话通知总值班和科室护士长，护士长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赶赴现场指导，并亲自参与护理。如情况复杂，护士长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处理不下，通知总护士长、护理部主任或主管护理院长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亲赴现场指挥，调配人员应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室紧急状态缓解后，护士长及时报护理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040" y="243792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加强监控力度，落实考核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期检查、总结、分析、反馈质量信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制定切实可行的考核方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考核结果与个人绩效挂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8960" y="2209680"/>
            <a:ext cx="65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加强职业道德教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树立全员安全服务意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牢记自己的职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加强慎独修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隶书"/>
              </a:rPr>
              <a:t>护理安全，人人有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加强法律法规的学习，提高自我保护意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医疗事故处理条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士管理条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民法通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聘请法律顾问为护士上法制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PE01561_"/>
          <p:cNvPicPr/>
          <p:nvPr/>
        </p:nvPicPr>
        <p:blipFill>
          <a:blip r:embed="rId2"/>
          <a:stretch/>
        </p:blipFill>
        <p:spPr>
          <a:xfrm>
            <a:off x="7182000" y="728640"/>
            <a:ext cx="190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相关概念</a:t>
            </a:r>
            <a:r>
              <a:rPr b="0" lang="en-US" sz="45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22093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安全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没有危险、不受威胁、不出事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dobeSongStd-Light"/>
                <a:ea typeface="黑体"/>
              </a:rPr>
              <a:t>护理安全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dobeSongStd-Light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dobeSongStd-Light"/>
              </a:rPr>
              <a:t>指患者在接受护理的全过程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dobeSongStd-Light"/>
              </a:rPr>
              <a:t>不发生法律和法定的规章制度允许范围以外的心理、机体结构或功能上的损害、障碍、缺陷或死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重视专业理论与技能操作的培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经常组织业务学习及操作培训，尤其是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对新进护理人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鼓励护士参加自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选送护理骨干外出学习、培训、进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培养团队协作精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倡导在繁忙工作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相互提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相互监督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相互弥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4"/>
          <p:cNvSpPr/>
          <p:nvPr/>
        </p:nvSpPr>
        <p:spPr>
          <a:xfrm>
            <a:off x="7953480" y="5568840"/>
            <a:ext cx="145800" cy="10188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5"/>
          <p:cNvSpPr/>
          <p:nvPr/>
        </p:nvSpPr>
        <p:spPr>
          <a:xfrm>
            <a:off x="7826400" y="5568840"/>
            <a:ext cx="103320" cy="684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7967520" y="5475240"/>
            <a:ext cx="95400" cy="666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7777080" y="5362560"/>
            <a:ext cx="127080" cy="7776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7588080" y="3581280"/>
            <a:ext cx="43200" cy="12708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7823160" y="5248440"/>
            <a:ext cx="108000" cy="15876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8229600" y="5105520"/>
            <a:ext cx="225360" cy="43632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11"/>
          <p:cNvSpPr/>
          <p:nvPr/>
        </p:nvSpPr>
        <p:spPr>
          <a:xfrm>
            <a:off x="8364600" y="4910040"/>
            <a:ext cx="23760" cy="11268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8269200" y="4892760"/>
            <a:ext cx="65160" cy="1350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8405640" y="4873680"/>
            <a:ext cx="96840" cy="12852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8143920" y="4782960"/>
            <a:ext cx="622080" cy="849600"/>
          </a:xfrm>
          <a:prstGeom prst="pi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15"/>
          <p:cNvSpPr/>
          <p:nvPr/>
        </p:nvSpPr>
        <p:spPr>
          <a:xfrm>
            <a:off x="7191360" y="6178680"/>
            <a:ext cx="146160" cy="10152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16"/>
          <p:cNvSpPr/>
          <p:nvPr/>
        </p:nvSpPr>
        <p:spPr>
          <a:xfrm>
            <a:off x="7064280" y="6178680"/>
            <a:ext cx="103320" cy="6804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17"/>
          <p:cNvSpPr/>
          <p:nvPr/>
        </p:nvSpPr>
        <p:spPr>
          <a:xfrm>
            <a:off x="7205760" y="6084720"/>
            <a:ext cx="95040" cy="6696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18"/>
          <p:cNvSpPr/>
          <p:nvPr/>
        </p:nvSpPr>
        <p:spPr>
          <a:xfrm>
            <a:off x="7015320" y="5972040"/>
            <a:ext cx="126720" cy="7776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7165800" y="5877000"/>
            <a:ext cx="43200" cy="12708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20"/>
          <p:cNvSpPr/>
          <p:nvPr/>
        </p:nvSpPr>
        <p:spPr>
          <a:xfrm>
            <a:off x="7061040" y="5857920"/>
            <a:ext cx="108000" cy="15876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21"/>
          <p:cNvSpPr/>
          <p:nvPr/>
        </p:nvSpPr>
        <p:spPr>
          <a:xfrm>
            <a:off x="7467480" y="5715000"/>
            <a:ext cx="225720" cy="43668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22"/>
          <p:cNvSpPr/>
          <p:nvPr/>
        </p:nvSpPr>
        <p:spPr>
          <a:xfrm>
            <a:off x="7602480" y="5519880"/>
            <a:ext cx="23760" cy="11268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23"/>
          <p:cNvSpPr/>
          <p:nvPr/>
        </p:nvSpPr>
        <p:spPr>
          <a:xfrm>
            <a:off x="7507440" y="5502240"/>
            <a:ext cx="64800" cy="13500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24"/>
          <p:cNvSpPr/>
          <p:nvPr/>
        </p:nvSpPr>
        <p:spPr>
          <a:xfrm>
            <a:off x="7643880" y="5483160"/>
            <a:ext cx="96840" cy="12852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25"/>
          <p:cNvSpPr/>
          <p:nvPr/>
        </p:nvSpPr>
        <p:spPr>
          <a:xfrm>
            <a:off x="7299360" y="5376960"/>
            <a:ext cx="622440" cy="849240"/>
          </a:xfrm>
          <a:prstGeom prst="pie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26"/>
          <p:cNvSpPr/>
          <p:nvPr/>
        </p:nvSpPr>
        <p:spPr>
          <a:xfrm>
            <a:off x="7572240" y="5950080"/>
            <a:ext cx="146160" cy="1015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Freeform 27"/>
          <p:cNvSpPr/>
          <p:nvPr/>
        </p:nvSpPr>
        <p:spPr>
          <a:xfrm>
            <a:off x="7445520" y="5950080"/>
            <a:ext cx="102960" cy="680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reeform 28"/>
          <p:cNvSpPr/>
          <p:nvPr/>
        </p:nvSpPr>
        <p:spPr>
          <a:xfrm>
            <a:off x="7586640" y="5856120"/>
            <a:ext cx="95400" cy="669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Freeform 29"/>
          <p:cNvSpPr/>
          <p:nvPr/>
        </p:nvSpPr>
        <p:spPr>
          <a:xfrm>
            <a:off x="7396200" y="5743440"/>
            <a:ext cx="127080" cy="777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reeform 30"/>
          <p:cNvSpPr/>
          <p:nvPr/>
        </p:nvSpPr>
        <p:spPr>
          <a:xfrm>
            <a:off x="7547040" y="5648400"/>
            <a:ext cx="42840" cy="1270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Freeform 31"/>
          <p:cNvSpPr/>
          <p:nvPr/>
        </p:nvSpPr>
        <p:spPr>
          <a:xfrm>
            <a:off x="7442280" y="5629320"/>
            <a:ext cx="108000" cy="1587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reeform 32"/>
          <p:cNvSpPr/>
          <p:nvPr/>
        </p:nvSpPr>
        <p:spPr>
          <a:xfrm>
            <a:off x="7848720" y="5486400"/>
            <a:ext cx="225360" cy="4366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reeform 33"/>
          <p:cNvSpPr/>
          <p:nvPr/>
        </p:nvSpPr>
        <p:spPr>
          <a:xfrm>
            <a:off x="7983360" y="5291280"/>
            <a:ext cx="24120" cy="1126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reeform 34"/>
          <p:cNvSpPr/>
          <p:nvPr/>
        </p:nvSpPr>
        <p:spPr>
          <a:xfrm>
            <a:off x="7888320" y="5273640"/>
            <a:ext cx="65160" cy="135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reeform 35"/>
          <p:cNvSpPr/>
          <p:nvPr/>
        </p:nvSpPr>
        <p:spPr>
          <a:xfrm>
            <a:off x="8024760" y="5254560"/>
            <a:ext cx="96840" cy="1285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eform 36"/>
          <p:cNvSpPr/>
          <p:nvPr/>
        </p:nvSpPr>
        <p:spPr>
          <a:xfrm>
            <a:off x="7564320" y="5162400"/>
            <a:ext cx="622440" cy="8496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Freeform 37"/>
          <p:cNvSpPr/>
          <p:nvPr/>
        </p:nvSpPr>
        <p:spPr>
          <a:xfrm>
            <a:off x="7015320" y="6137280"/>
            <a:ext cx="225360" cy="436680"/>
          </a:xfrm>
          <a:prstGeom prst="pie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eform 38"/>
          <p:cNvSpPr/>
          <p:nvPr/>
        </p:nvSpPr>
        <p:spPr>
          <a:xfrm>
            <a:off x="7243920" y="5985000"/>
            <a:ext cx="225360" cy="43632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160" y="2362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认真履行告知义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完善签字制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项护理、治疗操作中注意事项详细交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注意语言艺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BD07153_"/>
          <p:cNvPicPr/>
          <p:nvPr/>
        </p:nvPicPr>
        <p:blipFill>
          <a:blip r:embed="rId2"/>
          <a:stretch/>
        </p:blipFill>
        <p:spPr>
          <a:xfrm>
            <a:off x="7391520" y="510552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BD07153_"/>
          <p:cNvPicPr/>
          <p:nvPr/>
        </p:nvPicPr>
        <p:blipFill>
          <a:blip r:embed="rId3"/>
          <a:stretch/>
        </p:blipFill>
        <p:spPr>
          <a:xfrm>
            <a:off x="7848720" y="5105520"/>
            <a:ext cx="9903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1072114285812424"/>
          <p:cNvPicPr/>
          <p:nvPr/>
        </p:nvPicPr>
        <p:blipFill>
          <a:blip r:embed="rId1"/>
          <a:stretch/>
        </p:blipFill>
        <p:spPr>
          <a:xfrm>
            <a:off x="1440" y="1440"/>
            <a:ext cx="9218880" cy="6915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95280" y="2438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DotumChe"/>
                <a:ea typeface="DotumChe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把好设备、物质质量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专人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定期检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定期保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制定操作流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2438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otumChe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DotumChe"/>
                <a:ea typeface="DotumChe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创造舒适、安全的病区环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用氧、用电、用水安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地面防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病床、推车、窗户护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走廊、电梯扶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220320" cy="6800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护理安全管理策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18960" y="26665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DotumChe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DotumChe"/>
                <a:ea typeface="DotumChe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院感管理</a:t>
            </a:r>
            <a:r>
              <a:rPr b="1" lang="en-US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消毒隔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人员意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用房布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规范操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废物管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g_green"/>
          <p:cNvPicPr/>
          <p:nvPr/>
        </p:nvPicPr>
        <p:blipFill>
          <a:blip r:embed="rId1"/>
          <a:stretch/>
        </p:blipFill>
        <p:spPr>
          <a:xfrm>
            <a:off x="0" y="-73080"/>
            <a:ext cx="9448920" cy="708336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5334120" y="5105520"/>
            <a:ext cx="3581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相关概念</a:t>
            </a:r>
            <a:r>
              <a:rPr b="0" lang="en-US" sz="45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79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安全管理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指为保证人的身心健康、财物不受损失，而采取的对各种不安全因素进行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效控制的过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相关概念</a:t>
            </a:r>
            <a:r>
              <a:rPr b="0" lang="en-US" sz="45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安全管理意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是保障人们生命、财产安全的必备条件，是减少质量缺陷，提高专业水平的关键环节，是控制或消灭不安全因素、避免发生纠纷和事故的客观需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相关概念</a:t>
            </a:r>
            <a:r>
              <a:rPr b="0" lang="en-US" sz="45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360" y="2133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护理安全管理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是指运用技术、教育、管理三大对策，采取有效措施，把隐患消灭在萌芽状态、把差错事故减少到最低限度、防范意外、创造一个安全高效的护理环境，确保病人生命安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安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护理高质量的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护理优质服务的关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黑体"/>
                <a:ea typeface="黑体"/>
              </a:rPr>
              <a:t>护理安全的重要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040" y="27432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理质量管理的重要内容（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基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评价护理质量优劣的重要指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可带来良好的社会效益和经济效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3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黑体"/>
              </a:rPr>
              <a:t>护理人员自身素质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法律知识缺乏、法律意识淡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校教育缺乏相关法律知识教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职教育缺乏相关的法律知识教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工作中忽视法律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PE07677_"/>
          <p:cNvPicPr/>
          <p:nvPr/>
        </p:nvPicPr>
        <p:blipFill>
          <a:blip r:embed="rId2"/>
          <a:stretch/>
        </p:blipFill>
        <p:spPr>
          <a:xfrm>
            <a:off x="7659720" y="4952880"/>
            <a:ext cx="874800" cy="148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E07677_"/>
          <p:cNvPicPr/>
          <p:nvPr/>
        </p:nvPicPr>
        <p:blipFill>
          <a:blip r:embed="rId3"/>
          <a:stretch/>
        </p:blipFill>
        <p:spPr>
          <a:xfrm>
            <a:off x="8001000" y="5105520"/>
            <a:ext cx="81612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1072114285812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  <a:ea typeface="黑体"/>
              </a:rPr>
              <a:t>影响护理安全的因素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4f81bd"/>
                </a:solidFill>
                <a:latin typeface="黑体"/>
                <a:ea typeface="黑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040" y="20570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缺乏扎实的专业知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娴熟的专业技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低年资护士，操作不娴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护理新技术、新项目的开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杂程度更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PE07677_"/>
          <p:cNvPicPr/>
          <p:nvPr/>
        </p:nvPicPr>
        <p:blipFill>
          <a:blip r:embed="rId2"/>
          <a:stretch/>
        </p:blipFill>
        <p:spPr>
          <a:xfrm>
            <a:off x="7848720" y="5029200"/>
            <a:ext cx="8730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杨美芳</dc:creator>
  <dc:description/>
  <cp:keywords/>
  <dc:language>en-US</dc:language>
  <cp:lastModifiedBy>微软用户</cp:lastModifiedBy>
  <dcterms:modified xsi:type="dcterms:W3CDTF">2012-06-12T06:51:29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  <property fmtid="{D5CDD505-2E9C-101B-9397-08002B2CF9AE}" pid="3" name="Version">
    <vt:r8>1</vt:r8>
  </property>
</Properties>
</file>