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5B9-7F3A-43B6-BE7C-A02785C7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516-D0B4-4345-AA56-680F0827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98A-8BD9-4F8F-BDD7-FC6EB032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53C-7306-4CED-921E-F8E8C243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EBF-7960-4250-9EEC-7DDF740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F40-E178-46EC-8165-4AADFB59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5C5-E16E-4E8A-A586-93ADE53C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0BF-22B1-439A-807F-2B530934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AE4-29BC-42E6-8946-B7FFF30F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BBE-1221-465D-985E-46E9BDAC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D31-87A6-49BC-9C74-93959DB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999-512B-40F8-B050-7E303078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51CC-3882-4931-A07C-BB6B1EAA49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765000"/>
            <a:ext cx="698328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 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欢迎光临指导！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71640" y="907920"/>
            <a:ext cx="633708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诚信，我交作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中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79640" y="1700280"/>
            <a:ext cx="583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欣赏小品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《欠交作业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4940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不仅骗了妈妈，而且还欺骗了老师，这是一种不诚实的行为。现在老师特别想知道你们平时没交作业的原因是什么呢？记住要做一个诚实的孩子，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实话实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620640"/>
            <a:ext cx="8964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在四人小组讨论交流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把你收集到同学们不交作业的原因或者自己不交作业的原因说一说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-100440"/>
            <a:ext cx="850752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平时贪玩、看电视等错过了做作业的时间，累了，就不想做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故意不写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-27000"/>
            <a:ext cx="8507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忘记带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忘记把作业本带回家，没办法写作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知道做什么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316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作业不会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完了作业，但不懂在哪里丢了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75614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ff"/>
                </a:solidFill>
                <a:latin typeface="Arial"/>
                <a:ea typeface="楷体_GB2312"/>
              </a:rPr>
              <a:t>情境一：</a:t>
            </a:r>
            <a:r>
              <a:rPr b="0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今天小明没有交作业，他告诉老师他写完了但忘记带来，老师没有批评他。第二天小明又说自己忘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260280"/>
            <a:ext cx="856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Arial"/>
              </a:rPr>
              <a:t>带作业了。第三天小明又没有交作业，他还是说自己写完了忘记带了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19700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同学们你认为小明这是一种什么样的行为？老师还可以相信他吗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9280" y="476280"/>
            <a:ext cx="411480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：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  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 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1773360"/>
            <a:ext cx="58327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好孩子要诚实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76280"/>
            <a:ext cx="411480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：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  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 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3640" y="2133720"/>
            <a:ext cx="540072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《狼来了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549360"/>
            <a:ext cx="518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这个故事说明了一个什么道理？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0"/>
            <a:ext cx="84247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不诚实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结果：没有人再相信他们说的话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我们应该做个诚实的孩子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170028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请欣赏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《手捧空花瓶的孩子》的故事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1916280"/>
            <a:ext cx="75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听了这个故事，你想说些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191628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诚实的孩会得到别人的信任和爱戴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404640"/>
            <a:ext cx="38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诚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59272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情境二：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丽今天早上没有交作业，老师找到她，她告诉老师，下午一定交。可是下午老师再找到她时，她的作业还是没有做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68280" y="114480"/>
            <a:ext cx="3647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3300"/>
                </a:solidFill>
                <a:latin typeface="Arial"/>
                <a:ea typeface="楷体_GB2312"/>
              </a:rPr>
              <a:t>有关守信的成语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576440"/>
            <a:ext cx="85327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言而有信  金口玉言 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言九鼎 一诺千金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子一言，驷马难追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《宋庆龄的承诺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宋庆龄信守诺言。宋庆龄要去看望幼儿园的孩子，幼儿园的小朋友听了都很高兴，都等着宋奶奶到来。突然，原来晴朗的天空突然刮起了大风，霎时间，飞沙走石，路上的行人都睁不开眼，大家议论，宋奶奶可能不会来。正在这个时候，宋奶奶不顾漫天风沙，满脸笑容地走下汽车，来到孩子们中间，一位老师感动地说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气不好，您就改天再来吧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宋奶奶说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，我不能失信，应当遵守诺言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989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每天能够按时完成作业的有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没有完成作业，承认错识的有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404640"/>
            <a:ext cx="38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小调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2920" y="7128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花猫喵喵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喵喵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是谁把花瓶打碎了？爸爸没看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妈妈不知道。小花猫对我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喵喵喵。小花猫你别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你别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是我把花瓶打碎了。好孩子要诚实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有错要改掉，小花猫对我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喵喵喵（妙妙妙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51640" y="595008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66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333360"/>
            <a:ext cx="84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听了这些故事，同学们我们应该明白一个道理，不交作业，骗老师说：作业写完了忘记在家里了。这是一种不诚实的行为。可是有些同学确实有这些毛病，我们应该怎样去帮助他呢？现在就让我们来做一名冶病的医生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55160"/>
            <a:ext cx="914400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时贪玩：玩电脑游戏、和小朋友们玩等等。没有完成作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电视错过了做作业的时间，等想写的时候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很晚了，累了，就不想做作业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道做什么作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我不会做，所以没交作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忘记带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忘记把作业本带回家，没办法写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但不懂在哪里丢了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时贪玩：玩电脑游戏、和小朋友们玩等等。没有完成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点评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贪玩耽误了写作业的时间，这是一种小懒虫的行为。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做一个勤奋好学的孩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电视错过了做作业的时间，等想写的时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很晚了，累了，就不想做作业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点评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没有合理的安排自己的时间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合理安排自己的作息时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95280" y="-27000"/>
          <a:ext cx="5689440" cy="6029280"/>
        </p:xfrm>
        <a:graphic>
          <a:graphicData uri="http://schemas.openxmlformats.org/drawingml/2006/table">
            <a:tbl>
              <a:tblPr/>
              <a:tblGrid>
                <a:gridCol w="1527120"/>
                <a:gridCol w="890640"/>
                <a:gridCol w="3271680"/>
              </a:tblGrid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的作息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：</a:t>
                      </a:r>
                      <a:r>
                        <a:rPr b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 </a:t>
                      </a:r>
                      <a:r>
                        <a:rPr b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午到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午在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吃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休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下午到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晚上在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吃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五晚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95280" y="-27000"/>
          <a:ext cx="6121440" cy="6267600"/>
        </p:xfrm>
        <a:graphic>
          <a:graphicData uri="http://schemas.openxmlformats.org/drawingml/2006/table">
            <a:tbl>
              <a:tblPr/>
              <a:tblGrid>
                <a:gridCol w="1643040"/>
                <a:gridCol w="959040"/>
                <a:gridCol w="3519360"/>
              </a:tblGrid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丁的作息时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：</a:t>
                      </a:r>
                      <a:r>
                        <a:rPr b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</a:t>
                      </a:r>
                      <a:r>
                        <a:rPr b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3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 </a:t>
                      </a:r>
                      <a:r>
                        <a:rPr b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</a:t>
                      </a:r>
                      <a:r>
                        <a:rPr b="1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15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午到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:0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午在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吃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:00——12:3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休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——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——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下午到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:3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晚上在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吃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——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——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——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五晚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写作业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上午写作业，下午自由安排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上午写作业，下午自由安排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道做什么作业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［点评：自欺欺人。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自己的事要谨记在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42472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我不会做，所以没交作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［点评：诚实的孩子，遇到问题为什么不想办法解决呢？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会做的，可以请教家长，老师。或借助工具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忘记带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忘记把作业本带回家，没办法写作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完了作业，但不懂在哪里丢了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［点评：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坏习惯会让自己自食恶果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.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整理好自己的学习用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同学们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听完了这首歌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你觉得我们应该做一个怎样的孩子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65360"/>
            <a:ext cx="8713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做人要诚实，犯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就要敢于承认的道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19280" y="1916280"/>
            <a:ext cx="8424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学生我们的主要任务是什么呢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476280"/>
            <a:ext cx="439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目的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学生我们的主要任务是学习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习的任务是必须。也就是说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布置的作业你一定要完成。按时完成作业是一种诚实守信的行为。如果没有完成，你就是一个不诚实的孩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结：只要合理地安排自己的作息时间，不偷懒，不贪玩，作业是可以按时完成，我们应该成为一个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诚实守信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的好孩子，时时刻刻以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诚实守信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来约束自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0"/>
            <a:ext cx="8317080" cy="68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我宣誓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言必行，行必果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以诚信换取诚信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以诚信收获成功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用诚信开启知识之窗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用诚信鼓起上进之帆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我诚信，我光荣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我诚信，我自尊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按时完成作业，我必行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640" y="54936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课后，让我们一起收集有关诚信的故事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0" name=""/>
          <p:cNvSpPr/>
          <p:nvPr/>
        </p:nvSpPr>
        <p:spPr>
          <a:xfrm>
            <a:off x="1361520" y="2492280"/>
            <a:ext cx="578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小提示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代的、现代的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的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9640" y="765000"/>
            <a:ext cx="7345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191628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什么是诚信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6000" y="98100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9228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对于诚信相信每个人都有自己的理解。那么，同学们又是怎么理解的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29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诚信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12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诚实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简单地说就是不说慌，不作假，不做不可告人的事和欺瞒别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守信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就是讲信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答应了别人的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定要尽能力去做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023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诚信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答应别人做的事要按时做到，做不到时要表示歉意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地说：“言出必行，一诺千金”。</a:t>
            </a: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5:07:56Z</dcterms:created>
  <dc:creator>微软用户</dc:creator>
  <dc:description/>
  <dc:language>en-US</dc:language>
  <cp:lastModifiedBy>雨林木风</cp:lastModifiedBy>
  <dcterms:modified xsi:type="dcterms:W3CDTF">2000-08-01T11:29:55Z</dcterms:modified>
  <cp:revision>139</cp:revision>
  <dc:subject/>
  <dc:title>幻灯片 1</dc:title>
</cp:coreProperties>
</file>