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964-96AF-485E-974B-625CC5D7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844-4BDC-4D8E-AEF6-22313C8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197-5E9A-41F2-A86E-BAE642AA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E73-2577-4420-8719-49D9ACB9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563-82FC-4C60-B146-E5076A3A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8CB-17B4-42D1-AC3B-35F0E9A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F99-6BA3-4FF7-83C7-E8EA764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E0D-F204-4631-81AF-FC705632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047-E3AC-41B0-B3EC-323B7AE8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DA8-F12C-485A-AECC-A9B6056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52E-6A52-45B6-B444-F81632A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E7E-A420-4A9E-ADE7-719DF97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3835-73CA-438C-AAB8-0B71180CED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3548;&#20837;2.M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32422;&#32752;&#183;&#26045;&#29305;&#21171;&#26031;&#12289;.MPG" TargetMode="External"/><Relationship Id="rId2" Type="http://schemas.openxmlformats.org/officeDocument/2006/relationships/hyperlink" Target="file:///&#32422;&#32752;&#183;&#26045;&#29305;&#21171;&#26031;&#12289;.MPG" TargetMode="External"/><Relationship Id="rId3" Type="http://schemas.openxmlformats.org/officeDocument/2006/relationships/hyperlink" Target="file:///&#32422;&#32752;&#183;&#26045;&#29305;&#21171;&#26031;&#12289;.M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38899;&#20048;&#20043;&#22768;.MPG" TargetMode="External"/><Relationship Id="rId2" Type="http://schemas.openxmlformats.org/officeDocument/2006/relationships/hyperlink" Target="file:///C:/Documents%20and%20Settings/owner/&#26700;&#38754;/&#31532;&#19968;&#32452;.MPG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1326;&#23572;&#20857;1.MPG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92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cript MT Bold"/>
                <a:ea typeface="宋体-方正超大字符集"/>
              </a:rPr>
              <a:t>高中《音乐与舞蹈》选修模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《华尔兹》的教学设计与实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52360" y="980640"/>
            <a:ext cx="10693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ffffff"/>
                </a:solidFill>
                <a:latin typeface="바탕"/>
              </a:rPr>
              <a:t>第二</a:t>
            </a:r>
            <a:r>
              <a:rPr b="1" lang="zh-CN" sz="4900" spc="-1" strike="noStrike">
                <a:solidFill>
                  <a:srgbClr val="ffffff"/>
                </a:solidFill>
                <a:latin typeface="바탕"/>
                <a:ea typeface="바탕"/>
              </a:rPr>
              <a:t>课时</a:t>
            </a:r>
            <a:r>
              <a:rPr b="1" lang="zh-CN" sz="4900" spc="-1" strike="noStrike">
                <a:solidFill>
                  <a:srgbClr val="ffffff"/>
                </a:solidFill>
                <a:latin typeface="바탕"/>
              </a:rPr>
              <a:t>的学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5280" y="2491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导入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音乐文化的渗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 华尔兹》动作组合的创编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89564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音乐文化的渗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233208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介绍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约翰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·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施特劳斯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音乐与舞蹈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916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58560" y="1484280"/>
            <a:ext cx="6948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音乐是舞蹈的灵魂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舞蹈是音乐的表现形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音乐是听得见的舞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舞蹈是看得见的音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57080" y="119700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华尔兹》动作组合的创编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分层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力强的同学在基本舞步的基础上进行变化舞步的创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708280"/>
            <a:ext cx="874872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力弱的学生通过模仿完成学习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两个小组进行创编，每组完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节的动作 ，分  组展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交流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两个组学生代表分别为对方讲解、教授所编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189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教法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773360"/>
            <a:ext cx="810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始终关注“学情”，不是我们教了什么？教了        多少？而是学生学到了什么。教学设计过程中始         终要问自己：我为什么要这样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要片面的追求舞蹈风格的纯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面对的                                     是大部分没有舞蹈基础的学生，必须把握好一个“度”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借助多媒体资料辅助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鼓励为主，要让学生敢于去做，培养他们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52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《音乐与舞蹈》教学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5280" y="36471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这是我在音乐与舞蹈模块教学中的一点点体会和感受，当然，个人的实践活动总是有限的，当中肯定有许多不足之处，望同行们及各位专家指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360"/>
            <a:ext cx="640080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、课程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二、学情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三、课例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四、教法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90792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讲授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53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 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程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模块教学安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材安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，实际授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的分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舞蹈的起源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舞蹈基训课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（贯穿在每节课当中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中国汉族民间舞蹈——胶州秧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东北秧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中国少数民族民间舞蹈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藏族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蒙族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社交舞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课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84360" y="260280"/>
            <a:ext cx="52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、学情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0001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生对舞蹈的认识有一定的误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愿报名，基本没有舞蹈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华尔兹感兴趣，只是没有机会去学习和   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课例分析—华丽典雅之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《华尔兹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52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时的安排（两课时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.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学内容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2060640"/>
            <a:ext cx="2665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541440" y="1125360"/>
            <a:ext cx="7058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、 教学内容说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0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　  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第一课时 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      </a:t>
            </a:r>
            <a:r>
              <a:rPr b="0" lang="zh-CN" sz="3300" spc="-1" strike="noStrike" u="sng">
                <a:solidFill>
                  <a:srgbClr val="009999"/>
                </a:solidFill>
                <a:uFillTx/>
                <a:latin typeface="바탕"/>
                <a:ea typeface="바탕"/>
                <a:hlinkClick r:id="rId1"/>
              </a:rPr>
              <a:t>欣赏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</a:rPr>
              <a:t>《华尔兹》的舞蹈片断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      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介绍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</a:rPr>
              <a:t>《华尔兹》的</a:t>
            </a:r>
            <a:r>
              <a:rPr b="1" lang="zh-CN" sz="3200" spc="-1" strike="noStrike">
                <a:solidFill>
                  <a:srgbClr val="ffffff"/>
                </a:solidFill>
                <a:latin typeface="바탕"/>
              </a:rPr>
              <a:t>发展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</a:rPr>
              <a:t>和特点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      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学习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</a:rPr>
              <a:t>《华尔兹》的基本步伐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   </a:t>
            </a:r>
            <a:r>
              <a:rPr b="1" lang="zh-CN" sz="3300" spc="-1" strike="noStrike">
                <a:solidFill>
                  <a:srgbClr val="ffffff"/>
                </a:solidFill>
                <a:latin typeface="바탕"/>
                <a:ea typeface="바탕"/>
              </a:rPr>
              <a:t>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华尔兹起源于奥地利北部速度较快的民间舞蹈，十七世纪末进入维也纳皇宫成为宫舞，进而发展成为历史最悠久的社交舞。华尔兹根据速度分化为快慢两种之后，人们把快华尔兹称为维也纳华尔兹，而不冠以“维也纳”三字的即慢华尔兹，它是由维也纳华尔兹演变而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旋转是华尔兹的精髓所在，甚至可以说是华尔兹的生命。华尔兹舞步在速度缓慢的三拍子舞曲中流畅地运行，因有明显的升降动作而如一起一伏连绵不断的波涛，加上轻柔灵巧的倾斜、摆荡、反身和旋转动作以及各种优美的造型，使其具有既庄重典雅、舒展大方、又华丽多姿、飘逸欲仙的独特风韵。它因此而享有“舞中之后”的美称。由於舞姿优美，加上三拍子的音乐又是那么动人，抒情中带有些许的浪漫与哀怨气息，因此极受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96720" y="907560"/>
            <a:ext cx="748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《华尔兹》基本步伐的学习</a:t>
            </a:r>
            <a:br>
              <a:rPr sz="4400"/>
            </a:b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136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舞蹈动作教学可以按以下步骤进行教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基本体态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双脚、膝盖并拢，胃收、沉肩，头微向上抬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头、肩、胯、膝垂直于自己的脚掌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男士握姿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手与眉同高，虎口朝上，掌心朝前，右手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心对准胃部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女士握姿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左手手心朝下向内弯曲。右手掌心向前，与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基本动律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三拍降，一二拍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步伐学习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前进步、交叉步、摆荡步、第一变化舞步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组合学习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基本舞步组合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2156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从简单到复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从原地到流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从单一到组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05400" y="907920"/>
            <a:ext cx="3414600" cy="504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5:10:19Z</dcterms:created>
  <dc:creator>猪猪猫.CN</dc:creator>
  <dc:description/>
  <dc:language>en-US</dc:language>
  <cp:lastModifiedBy>微软用户</cp:lastModifiedBy>
  <dcterms:modified xsi:type="dcterms:W3CDTF">2011-04-13T07:10:07Z</dcterms:modified>
  <cp:revision>251</cp:revision>
  <dc:subject/>
  <dc:title>华尔兹</dc:title>
</cp:coreProperties>
</file>