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07C-F6BA-47A4-A03C-EB91F91A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FC3-89CB-4E90-8FB6-D05C8333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0A0-9C2B-49D4-805B-781F088B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71D-79F4-4783-A22D-14837AAD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72F-504B-41E7-ACBD-09C10E6D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B2F-F297-42FF-B210-964D999A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034-54F5-4B65-A300-BA3554D6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548-0984-4E12-AA9A-4928E08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377-1383-4E64-BD41-6FAEB352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12C-8569-4DCD-85AD-8713A64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EF2-9722-4A94-9005-8CAAA12E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51E-BBE4-4587-AE09-3B96F1E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DB70-5136-4774-B762-963AB634FE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photo.blog.sina.com.cn/showpic.html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9612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360" y="0"/>
            <a:ext cx="9612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820000" cy="6126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60958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8426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896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99727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0"/>
            <a:ext cx="8640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8640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549360"/>
            <a:ext cx="8424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8675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96720" y="189000"/>
            <a:ext cx="93265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072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3548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8820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d6e73ebt72e3dce81736&amp;69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5d6e73ebt72e3dce81736&amp;69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250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748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31880"/>
            <a:ext cx="874872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5:53:56Z</dcterms:created>
  <dc:creator>luobo</dc:creator>
  <dc:description/>
  <dc:language>en-US</dc:language>
  <cp:lastModifiedBy>luobo</cp:lastModifiedBy>
  <dcterms:modified xsi:type="dcterms:W3CDTF">2009-09-17T06:15:25Z</dcterms:modified>
  <cp:revision>2</cp:revision>
  <dc:subject/>
  <dc:title>幻灯片 1</dc:title>
</cp:coreProperties>
</file>