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8.png" ContentType="image/png"/>
  <Override PartName="/ppt/media/image1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51AC-288E-4065-B558-0D4FED2B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F021-D1C5-4007-8F22-1728CAB5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0DD7-0743-47A1-A1F1-931E5F5D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3657-4BA6-46FB-8743-9F517F5D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C39B-FFEB-4139-AE7C-75181FE1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DF09-E01C-43B4-8FCD-221EE107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57F9-E587-4302-94DB-3C6D32AA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8F6B-9578-4C2A-8571-8E088ACD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7714-3DE3-4212-9E50-C6333C0B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4C82-6E35-4FFC-A5CA-84B3D8B1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3F0D-75BB-4F00-B77D-F2F915CC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70B2-9609-4BB6-83BF-17C39647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4654-E6C2-41EB-ADC7-0166AC666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3480" y="-384120"/>
            <a:ext cx="913932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684360" y="191304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77840" y="1197000"/>
            <a:ext cx="889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</a:rPr>
              <a:t>       </a:t>
            </a:r>
            <a:r>
              <a:rPr b="1" lang="zh-CN" sz="8800" spc="-1" strike="noStrike">
                <a:solidFill>
                  <a:srgbClr val="ff3399"/>
                </a:solidFill>
                <a:latin typeface="Arial"/>
              </a:rPr>
              <a:t>三年级家长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280" y="2997360"/>
            <a:ext cx="19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好习惯让孩子受益一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59960" y="5373720"/>
            <a:ext cx="173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祝陈小学   赵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_imgloadCAN7WV3W"/>
          <p:cNvPicPr/>
          <p:nvPr/>
        </p:nvPicPr>
        <p:blipFill>
          <a:blip r:embed="rId1"/>
          <a:stretch/>
        </p:blipFill>
        <p:spPr>
          <a:xfrm>
            <a:off x="-3348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539640" y="2602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468360" y="549360"/>
            <a:ext cx="82072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家长的期待和鼓励会推动孩子不断进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家长如果发现孩子优点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就要称赞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“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你真棒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!”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、“你真能干”、“你是大孩子了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要学会欣赏孩子，不能用大人的眼光来看孩子，要蹲下身子倾听孩子的心声，善于发现他们的闪光点，及时给予表扬，以增强他们的自信心。让孩子体验“成功”的喜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36360" y="117360"/>
            <a:ext cx="88934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提倡“亲子阅读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更新早期阅读的理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早期阅读不仅仅是教孩子识字、丰富词汇量和提高语言表达能力。更重要的是通过阅读促进孩子的全面发展，让孩子终身受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让孩子喜欢上阅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家长以身作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首先是家长要喜欢读书，鼓励孩子看书的最好方法就是自己也爱看书，并和孩子分享读书的乐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讲故事给孩子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声情并茂地讲故事给孩子听，调动孩子胃口，从听故事到把书介绍给孩子，让孩子自发阅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家里有固定的读书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读书时间不一定太长，但一定要坚持。坚持久了就会变成一种习惯，并体验到其中的乐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61080" y="33336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数学学科需家长配合的地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981000"/>
            <a:ext cx="81439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每天的作业家长要做好监督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）因为孩子太小，很多字都不认识，所以在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前期家长一定全程要陪伴孩子做作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帮助他们读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先让孩子用手指着每一个字，自己尝试着读一次，如果完全正确，一定要表扬她，增加积极性，读错了也不要紧，及时纠正，并让她再多读一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读题重要性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。比如选择题的题目，有时候会让选择错误的。如果不读题，很多孩子看着第一个选项正确，就直接选择第一个，导致错误的发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读题时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遇见部分题意复杂的，可以给孩子分析题目要求、题目意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按照题目的要求来做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）做题的过程中，很多孩子会有依赖思想。拿到数学题就喊：妈妈，过来下，这道题我不会。这个时候，千万不要相信孩子是真的不会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鼓励他们，自己动脑筋思考，家长可以给予适当地引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981000"/>
            <a:ext cx="8143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7040" y="404640"/>
            <a:ext cx="203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跟进检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341360"/>
            <a:ext cx="8569080" cy="34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）首先是看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书写是不是整齐，规范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，不是龙飞凤舞。字体的工整说明孩子的态度端正，做作业不是应付家长和老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检查作业是否做完、做对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。没有做完的，一定要让他们及时做完。做错的部分，要及时改正，不能让这个错误一直存在在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）检查完后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家长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要签字，签字位置：作业最后一页右下角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一年级的孩子，太小了，所以我们不能用成年人的标准来要求他们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一定要多鼓励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指出他们错误和问题的时候，一定要委婉，考虑他们的感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及时改正做错的作业，督促孩子把上次做错的作业改过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064360" cy="5904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5280" y="62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学习习惯培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41680" y="1844640"/>
            <a:ext cx="9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Dotum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Dotum"/>
              </a:rPr>
              <a:t>、放学后与孩子多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53920" y="2997360"/>
            <a:ext cx="9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Dotum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Dotum"/>
              </a:rPr>
              <a:t>、养成良好的读书习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32000" y="3716280"/>
            <a:ext cx="5769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Dotum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Dotum"/>
              </a:rPr>
              <a:t>、教会孩子自己准备好学习用品，每天整理好书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2" name="chimes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76360" y="2708280"/>
            <a:ext cx="38876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Dotum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Dotum"/>
              </a:rPr>
              <a:t>、辅导孩子的学习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62640" y="3789360"/>
            <a:ext cx="9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Dotum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Dotum"/>
              </a:rPr>
              <a:t>、让孩子养成家庭学习的好习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62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Dot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1557360"/>
            <a:ext cx="453708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做孩子学习榜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55640" y="620640"/>
            <a:ext cx="7561440" cy="21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这些好习惯是一点一滴养成的，家长不要操之过急。第一周教他做，第二周帮着做，第三周看着做，第四周放手让他自己做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。心理学家说过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26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养成好习惯，坚持</a:t>
            </a:r>
            <a:r>
              <a:rPr b="0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91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之后就会终身不变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07560" y="205992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Dot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44520" y="3070080"/>
            <a:ext cx="3096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27280" y="3933720"/>
            <a:ext cx="30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9097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《哈弗女孩刘亦婷》一书中有这样的一段话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如果只靠老师在学校单方面的付出，孩子只能做一个中等生，一个优秀的孩子背后有一个善于对孩子倾注很多心血的家长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付出总会有收获，因此，我希望家长朋友对孩子的学习多一些关注，多一些督促。多一些耐心，多一份坚持，让我们的孩子收获更多的知识，技能，快乐，自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889440" y="2059920"/>
            <a:ext cx="16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华文行楷"/>
              </a:rPr>
              <a:t>土地不种荒一年，子女不教误一生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Dot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98880" y="3068280"/>
            <a:ext cx="12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华文行楷"/>
              </a:rPr>
              <a:t>父母是孩子的第一任启蒙老师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Dot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65000" y="3933360"/>
            <a:ext cx="5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华文行楷"/>
              </a:rPr>
              <a:t>老师是孩子成长的引路人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Dot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87280" y="1125360"/>
            <a:ext cx="795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042920" y="1413000"/>
            <a:ext cx="77724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孩子的成长，离不开我们的共同努力。</a:t>
            </a:r>
            <a:br>
              <a:rPr sz="4000"/>
            </a:br>
            <a:br>
              <a:rPr sz="32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希望我们之间</a:t>
            </a:r>
            <a:r>
              <a:rPr b="1" lang="zh-CN" sz="4000" spc="-1" strike="noStrike">
                <a:solidFill>
                  <a:srgbClr val="f21302"/>
                </a:solidFill>
                <a:latin typeface="Arial"/>
                <a:ea typeface="楷体_GB2312"/>
              </a:rPr>
              <a:t>多一份理解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多</a:t>
            </a:r>
            <a:r>
              <a:rPr b="1" lang="zh-CN" sz="4000" spc="-1" strike="noStrike">
                <a:solidFill>
                  <a:srgbClr val="f21302"/>
                </a:solidFill>
                <a:latin typeface="Arial"/>
                <a:ea typeface="楷体_GB2312"/>
              </a:rPr>
              <a:t>一份宽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多</a:t>
            </a:r>
            <a:r>
              <a:rPr b="1" lang="zh-CN" sz="4000" spc="-1" strike="noStrike">
                <a:solidFill>
                  <a:srgbClr val="f21302"/>
                </a:solidFill>
                <a:latin typeface="Arial"/>
                <a:ea typeface="楷体_GB2312"/>
              </a:rPr>
              <a:t>一份沟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  <p:sndAc>
      <p:stSnd>
        <p:snd r:embed="rId2" name="chimes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4360" y="260280"/>
            <a:ext cx="70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华文楷体"/>
              </a:rPr>
              <a:t>     </a:t>
            </a:r>
            <a:r>
              <a:rPr b="1" lang="zh-CN" sz="4800" spc="-1" strike="noStrike">
                <a:solidFill>
                  <a:srgbClr val="336600"/>
                </a:solidFill>
                <a:latin typeface="Arial"/>
                <a:ea typeface="华文楷体"/>
              </a:rPr>
              <a:t>感谢你们能从百忙之中抽出时间到校参加会议，谢谢你们对我们工作的支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63640" y="1341360"/>
            <a:ext cx="6934320" cy="45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、重视孩子的点滴成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（红星卡、红苹果、小红花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、多看课外书，少看电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、作业辅导要教给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、注重安全教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、加强体育锻炼。（学会跳绳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8420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08200" y="69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476280"/>
            <a:ext cx="714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祝愿孩子们健康、幸福、快乐成长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祝愿家长们家庭幸福！教子有方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!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人成为家庭教育专家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47640" y="1197000"/>
            <a:ext cx="6840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送给家长朋友们两句话，与大家一起共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育孩子要言传身教。家长是孩子的镜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细节决定教育的成败。教育孩子要从细节做起。关注孩子的细节越多，孩子进步就越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47628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ff"/>
                </a:solidFill>
                <a:latin typeface="Arial"/>
                <a:ea typeface="华文行楷"/>
              </a:rPr>
              <a:t>共同品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  <p:sndAc>
      <p:stSnd>
        <p:snd r:embed="rId2" name="chimes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55640" y="404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低年级注重习惯的培养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良好的开始是成功的一半！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本次的会议呢，我有以下几点想跟我们的家长朋友交流以下，也希望家长配合从以下方面培养学生良好的习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35787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孩子的礼仪教育。教育我们的孩子一定要尊重长辈，看见家长、老师、同学都要主动打招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孩子的合群教育。有时小伙伴之间会发生一些不愉快的事，如碰撞伤了，孩子之间你打打我，我招招你等，这都是很正常的，家长决不能为一些小事斤斤计较，发现情况，应及时与老师联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02800" y="2060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一）纪律方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8748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Dotum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Dotum"/>
              </a:rPr>
              <a:t>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Dotum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Dotum"/>
              </a:rPr>
              <a:t>学习方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Dot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Dotum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Dotum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Dotum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Dotum"/>
              </a:rPr>
              <a:t>学生良好学习习惯的培养主要在小学低年级。所以，孩子入学后家长应注意培养孩子良好的学习习惯。如，按时完成作业，不拖拉；专心做作业，不磨蹭；作业本保持整洁，不乱涂、乱撕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32000" y="40464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Dotum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孩子养成家庭学习的好习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孩子放学回到家后要先让孩子复习当天所学习的功课，然后认真完成作业，仔细检查。希望家长回到家一定尽到监督孩子家庭作业的责任，每天应该看一看孩子的作业，听一听孩子读词语、儿歌、课文，这样对孩子早日养成及时写作业的习惯、提高学习兴趣非常有好处，同时您还可以通过每天的家庭作业了解孩子当天的学习情况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6659640" cy="119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Dotum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Dotum"/>
              </a:rPr>
              <a:t>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不要替代，养成孩子自己整理书包、带好一切学习用品；放学后与孩子多交流在校学习了什么，以便家、校的配合，督促孩子更好学习；鼓励孩子看课外书，为孩子准备几本有益的课外书籍并督促他每天定量阅读，养成读书的好习惯。养成良好的学习习惯，将对孩子今后的学习大有益处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659640" cy="3446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Dotum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Dotum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Dotum"/>
              </a:rPr>
              <a:t>辅导孩子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Dotum"/>
              </a:rPr>
              <a:t>一年级的孩子刚入学，他们自己独立学习的能力暂时还没有，所以回家写作业、读书、写字的时候就需要家长在一旁陪着。做作业的时候，家长要注意孩子的坐姿、握笔姿势和书写姿势是否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6659640" cy="2349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Dotum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Dotum"/>
              </a:rPr>
              <a:t>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Dotum"/>
              </a:rPr>
              <a:t>要教导孩子做作业要一心一意，不能边看电视边写作业，或者写一会儿玩一会儿，这样容易分散他们的注意力，不能专心致志地完成一件事，将来功课多了就无法按时完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6659640" cy="4116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Dotum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卫生方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每位学生上学后都要带好纸巾和水杯。另外，不要让孩子把玩具、小刀和零食等与学习无关的东西带到学校，也不要让孩子带钱，要让他们懂得节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孩子着装要干净整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09:30:32Z</dcterms:created>
  <dc:creator>User</dc:creator>
  <dc:description/>
  <cp:keywords/>
  <dc:language>en-US</dc:language>
  <cp:lastModifiedBy>未知用户</cp:lastModifiedBy>
  <dcterms:modified xsi:type="dcterms:W3CDTF">2015-11-23T02:06:51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2</vt:lpwstr>
  </property>
</Properties>
</file>