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904-AE1D-48E8-AE46-D3C39FD1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453-92EF-4C83-8534-A54C9E1B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61C-5C1C-44A7-8A99-1B36B136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229-6A9F-42C5-BF78-99C4108C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64A-127A-4DF8-BA63-EBE444D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38D-65BC-483A-964D-E82D865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BF5-E40C-47D3-82B7-A7E2E1BC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A18-5581-4FE2-8206-1B4EEB3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E74-5E14-460F-AE90-5422ABD1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7C2-FACA-44D9-8D4F-A69BFF9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544-4808-494A-9DD4-088760B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806-8FA3-4C29-A5A6-94F4E7D9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E838-548B-442D-8669-F249E3233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8e28531959cd104eac4af6d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28600" y="1079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400000">
            <a:off x="-900000" y="2347920"/>
            <a:ext cx="40305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各位家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538200" y="3572640"/>
            <a:ext cx="4105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欢迎您的到来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25920" y="57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年级二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2209680"/>
            <a:ext cx="8915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哪怕天下人都看不起你的孩子，做父母的也应该眼含热泪地欣赏他、拥抱他、赞美他、为他自豪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Administrator\Desktop\图片1.png"/>
          <p:cNvPicPr/>
          <p:nvPr/>
        </p:nvPicPr>
        <p:blipFill>
          <a:blip r:embed="rId1"/>
          <a:stretch/>
        </p:blipFill>
        <p:spPr>
          <a:xfrm>
            <a:off x="-682560" y="457200"/>
            <a:ext cx="98265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95200"/>
            <a:ext cx="82436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代家庭教育出现的种种误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1640" y="914400"/>
            <a:ext cx="676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一：由宠爱而溺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二：由失望而暴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三：由失望而冷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四：由期望而狂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五：由信任而偏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六：由爱护而袒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七：由怜爱而包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八：由托付而推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九：由疼爱而无限满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十：由分歧而不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71640" y="549360"/>
            <a:ext cx="79930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、学校环境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开办以来，学校规模不断的扩大，政府给我们新建了教学楼，内部设施逐渐完善，配置了多媒体教室，每个教师办公室都配备了崭新的电脑，直接用于教学，每个班级实现了班班通，网络畅通无阻，使学生的学习不再枯燥乏味，教室安装了音响设备，安装了窗帘，为孩子们创设了一流的学习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187280" y="260280"/>
            <a:ext cx="7705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、班级情况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们班现有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名同学（其中男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，女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）。低年级常规教育是相当重要的。就好比一棵小树苗，开始如果歪着长，以后就直不了，开始是直着长，以后就会变成参天大树。所以常规教育一直是我班级管理的重点。一个学期下来，学生进步都很大，从刚入学的时候上课注意力不集中，到现在学习、卫生、纪律方面都有明显的进步，尤其是很多同学的思维比二年级有了很大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无标题w"/>
          <p:cNvPicPr/>
          <p:nvPr/>
        </p:nvPicPr>
        <p:blipFill>
          <a:blip r:embed="rId1"/>
          <a:stretch/>
        </p:blipFill>
        <p:spPr>
          <a:xfrm>
            <a:off x="0" y="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16000" y="333360"/>
            <a:ext cx="802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、学生学习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我估计大多数家长最关心的就是孩子的成绩，当家长了解到考试分数的时候，有喜有忧，喜的是孩子考到了好成绩，忧的是孩子的成绩不理想。其实有关专家早就预料到的，新课程改革使孩子的两极分化越来越明显。当然，现在的社会并不是一味地看分数，他们更关注的是孩子的能力，注重孩子的全面发展，教师的目的也是一样的。不过，从试卷上呢也可以看出一些问题，很多孩子分析能力，判断能力还有待加强。 您可能遇到过类似的情况：孩子考得好成绩，没进门就已经在大声嚷嚷了，考得不好，就把试卷藏到书包的角落里。您曾思考过是什么样的态度导致了他们这样的行为吗？究竟是已经考出来的成绩重要，还是以后不出现相同错误重要呢？或许有时卷子难一点，可能大家都考得不好呢？其实认真检查，帮助找问题，帮助孩子弄懂，督促孩子订正好，才更重要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763640" y="189000"/>
            <a:ext cx="6480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校虽然地处偏僻的乡镇，但人流量还是挺大的，旁边紧挨着菜场。还要经过十字路口，一条南北的公路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路况很差，各种车辆来来往往。在学校里，我们每天都会叮嘱学生，反复强调，注意安全，增强自我保护意识，校内外不做危险游戏，上学、放学路上不逗留，不玩耍，放学后要直接回家，相信各位家长和我们一样关心孩子的安全。所以需要家长的密切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无标题w"/>
          <p:cNvPicPr/>
          <p:nvPr/>
        </p:nvPicPr>
        <p:blipFill>
          <a:blip r:embed="rId1"/>
          <a:stretch/>
        </p:blipFill>
        <p:spPr>
          <a:xfrm>
            <a:off x="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835280" y="4941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9640" y="907920"/>
            <a:ext cx="56354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安全注意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故意的事决不能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无意的事尽量少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注意的事一定要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50920" y="18900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9280" y="105264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经过半年的培养，大多数学生养成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良好的行为习惯和学习习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但还有相当一部分学生尚未养成良好的习惯，行为方面表现为自由散漫，自控能力差，学习方面则表现为学习态度不端正，课堂作业拖拉，回家作业经常不做、漏做，字迹潦草，错误率高，上课思想开小差等。正因为如此，这些学生的学习往往都不尽如人意。我知道，我们这些学生的家长肯定也是十分着急，有的家长说，我打也打了，骂也骂了，可孩子就是不听我的话，或者就是打的时候怕了，好了一段时间，可过一阵老毛病又犯了。的确是这样的，孩子的行为具有可塑性，但也容易反复，所以我们家长一定不能急于求成，要循序渐进、循循善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10666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年级的孩子，在认知、分辨能力还处在初级阶段，需要我们老师和家长一起努力。教育孩子，指导孩子，帮助他们在细节中养成良好生活和学习习惯。有了良好的习惯必将会给孩子的学习和生活带来益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-457200" y="5335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、培养良好的品德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勇敢面对自己的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谦虚礼让，尊敬长辈，爱护幼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诚实不说谎，答应的事说到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9228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父爱如山，父爱的山是在儿女成长过程中一点一滴累积而成的；父爱的山是一种力量，支持着子女的一生。山是父亲，你是一座不倒的山，永远矗立在儿女们心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二、培养良好的学习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兴趣是最大的学习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课认真听，课后认真记，注重对知识的积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养成每天阅读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好每次作业，改掉粗心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看待“分数”，学会全面评价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三、培养良好生活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合理安排作息时间学会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全面吸收营养，坚持锻炼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迷恋电脑游戏，知道学习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立自理，抓紧时间完成每天应该做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457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四、培养良好的社交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5238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动关心帮助他人，与他们和谐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耐心倾听他们讲话，学会赞美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努力锻炼口头表达能力，培养自己的竞争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和小动物成为好朋友，学会保护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395280" y="26028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68360" y="29628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作为老师，我听到比较多的一句话是：“老师，我自己没知识，教不了孩子，就辛苦老师你了。”或者是，“孩子不听我的话，我说了没用。”这是许多家长所烦恼的问题。现在，我特别想告诉这些家长的是：即使你教不了孩子，但是你至少可以抽时间陪着他完成。很多家庭作业，其实都只是抄写听写，读读背背什么的，难度不大。即使自己真的不懂，读得对不对听不出来，读得熟练不熟练，总能听得出来吧。家长足够重视并注意方法的话，没有教不起的孩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24000" y="189000"/>
            <a:ext cx="43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95280" y="3329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各位家长，我知道每天要您按时检查学生的作业很难，因为都有自己的工作，还要做家务、应付人情世故，很忙没时间。但因其难我们才更需要家长的支持。学校的教育形式是群体性的，一个老师负责几十人的教育任务，所以学校不可能象父母那样有足够的时间和精力，把教育的对象，集中在一个学生身上，无论从教育的时间和精力上来讲，还是从教育的对象情感上来说，家庭教育占有特殊的优势作用和地位，其潜在能量是巨大的，开拓的前景是广阔的。希望家长发挥好优势和地位，把帮助学生完成作业这项重要工作做好，我在这里拜托大家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826920" y="297792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写一手好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一接手这个班级，我就发现孩子们写字很差，所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一开学，我就布置孩子们每天回家练字，家长们都很配合，购买了字帖，可因为种种原因，断断续续，没有坚持下来，这是我的原因，在这里我向家长们道歉所以到现在孩子们的写字问题仍然很严重。因此需要家长们的配合，我们共同努力让孩子们把字写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11280" y="239940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新教材极其重视孩子们对好词语和好句子的积累。现在我班孩子针对课内课外分别进行了好词好句和一些成语、谚语等的积累，让孩子们背背，积累。如果孩子能用上平时积累的优美词句。其实，爱看课外书的孩子，作文不用老师指导，也能够写得很好，所以多看课外书，对提高学生的作文水平至关重要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684360" y="304308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班上有些孩子很喜欢读书，但大部分孩子却缺少这方面的兴趣。那么怎样更好地激发孩子的阅读兴趣？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假如你有时间，假如你也喜欢读书，我建议你与孩子一起读，共同讨论书中的问题。这也是提高孩子阅读兴趣的一种方法。因为爸爸妈妈和自己读一样的书，会觉得有意思。另外呢，孩子读简短的文章，应该指导他读出感情来，这样阅读效果会更好。 家长需要为孩子购买图书及一套工具书（成语词典、谚语词集、歇后语词集等等），创设一个安静的阅读环境，但书最好不要买得过多，书要少而精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2795040"/>
            <a:ext cx="91440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沟通  交流  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多与老师联系形成合力。孩子跟我们大人一样，很多事情是需要压力去做的。学生就像一颗螺丝钉，家长在那头抵住，老师在这头紧扭，才能铆定，从这个意义出发，家长及时地和老师沟通是十分重要的。我想，您将孩子的优缺点、孩子的朋友圈、回家的言谈举止以及爱好等等告诉我们，肯定会有利于老师对您的孩子全面了解，以便给以及时而正确的帮助；老师将您的孩子在校情况及时反馈给您，和您形成合力，也一定促进您的孩子不断进步。我知道每个家长都有自己的工作，往往无暇与老师面谈，不妨采用电话联系。说实在的，你们多一份关心、重视，就是给我们老师增添信心。试想，一个家长不重视、学生自己不重视的学生，任凭老师单方面用力，又会有多少成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0" y="-17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无标题a"/>
          <p:cNvPicPr/>
          <p:nvPr/>
        </p:nvPicPr>
        <p:blipFill>
          <a:blip r:embed="rId1"/>
          <a:stretch/>
        </p:blipFill>
        <p:spPr>
          <a:xfrm>
            <a:off x="-179280" y="-457200"/>
            <a:ext cx="9142200" cy="6953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979640" y="620640"/>
            <a:ext cx="53290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共   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各位家长，我知道在当今的社会，孩子就是我们家庭的全部，孩子的希望和幸福就是我们每个家庭的希望和幸福；我更知道你们和我一样希望你的孩子能成才，相信你的孩子能成才，并为之进行着默默的努力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9079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母爱如水，有高山流水的壮观伟大，有容纳江海的伟大，有细细绵绵的情丝。母爱如水，孜孜不断地流淌着，滋润着每一个子女的心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1523880"/>
            <a:ext cx="8701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再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</a:rPr>
              <a:t>富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也要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苦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孩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228600"/>
            <a:ext cx="8763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为人父母者，在孩子面前所表现出来的做人修养，比爱更重要。</a:t>
            </a: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因为它是父母对孩子进行家教的灵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42920" y="1916280"/>
            <a:ext cx="7872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做好孩子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8800" spc="-1" strike="noStrike">
                <a:solidFill>
                  <a:srgbClr val="ff6600"/>
                </a:solidFill>
                <a:latin typeface="Arial"/>
              </a:rPr>
              <a:t>护航使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76212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任何时候严格要求都对学生有利，老师的批评教育是对孩子负责，表扬是爱，批评更是一种爱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841400" y="3657600"/>
            <a:ext cx="7302600" cy="149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ministrator\Desktop\图片2.png"/>
          <p:cNvPicPr/>
          <p:nvPr/>
        </p:nvPicPr>
        <p:blipFill>
          <a:blip r:embed="rId3"/>
          <a:stretch/>
        </p:blipFill>
        <p:spPr>
          <a:xfrm>
            <a:off x="0" y="304920"/>
            <a:ext cx="778356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图片4"/>
          <p:cNvPicPr/>
          <p:nvPr/>
        </p:nvPicPr>
        <p:blipFill>
          <a:blip r:embed="rId1"/>
          <a:stretch/>
        </p:blipFill>
        <p:spPr>
          <a:xfrm>
            <a:off x="1403280" y="2638440"/>
            <a:ext cx="648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05264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孩子的心灵是一块神奇的土地，播种行为，收获习惯；播种习惯，收获性格；播种性格，收获人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197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要让学生明白：一个懂得规矩，并且自觉的遵守规矩的人，才能够时刻按照规矩办事，才能够使自己进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89000"/>
            <a:ext cx="78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风筝要想飞得高，必须由底下的线牵引着，假如没有了这根束缚它的线，风筝只能掉在地上。人也是这样，不要幻想什么绝对的自由，绝对的自由带来的是绝对的放纵，是绝对没有什么好结果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无标题w"/>
          <p:cNvPicPr/>
          <p:nvPr/>
        </p:nvPicPr>
        <p:blipFill>
          <a:blip r:embed="rId1"/>
          <a:stretch/>
        </p:blipFill>
        <p:spPr>
          <a:xfrm>
            <a:off x="11916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492200" y="2106720"/>
            <a:ext cx="765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尊敬的各位家长：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你们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首先，感谢大家在百忙之中能抽出宝贵的时间来参加这次活动。单从这一点就可以看出你们对自己子女的关心，对我们学校工作的支持，对我们教育工作的最大帮助。为什么这么说呢？因为我觉得家长会的真正意义在于给孩子鼓励，在孩子们心中，来参加家长会，也就是对他们的关心，对他们的爱，他们会感到无比骄傲、幸福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258920" y="333360"/>
            <a:ext cx="709308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这次家长会是经学校研究决定召开的，目的是架起老师与家长间沟通的桥梁，你们的到来，也说明了在“只有形成教育合力，才能更好地帮助学生进步”上，我们是能够达成共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今天的会议有四项议程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是向各位介绍学校的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二是孩子们的在校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是结合孩子们的表现，从整体上互相交流几点教育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是共同探讨孩子的教育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157428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苏联教育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霍姆林斯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个教育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校和家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不仅要一致行动，要向孩子提出同样的要求，而且要志同道合，抱着一致的信念，始终从同一原则出发，无论在教育的目的上、过程上，还是手段上，都不要发生分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23:43Z</dcterms:created>
  <dc:creator>jlw</dc:creator>
  <dc:description/>
  <cp:keywords/>
  <dc:language>en-US</dc:language>
  <cp:lastModifiedBy>User</cp:lastModifiedBy>
  <cp:lastPrinted>1899-12-30T00:00:00Z</cp:lastPrinted>
  <dcterms:modified xsi:type="dcterms:W3CDTF">2012-11-22T07:02:57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17</vt:lpwstr>
  </property>
</Properties>
</file>