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09B-A36B-462F-993F-F91EDBDE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FDC-26D4-4D99-A242-DDD9461B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98B-D499-412B-9FB2-95314CB3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FC2-D4C5-4706-8D71-0F037CB0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C67-DD17-4E9D-BCF3-096884A6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8683-67CE-42F2-843E-FA35B761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C32-79AC-4251-BA95-0D28DF68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1C7-A44A-4161-923E-599BB30B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C17-DD9F-4204-B4AC-6D1A76F9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96B-8BD1-4434-B9B6-1AFA2BF3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060-03AE-461A-9CD1-F5804F32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B58-CC97-4903-B813-BF6666C4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F401-1F0A-4AFE-9EFF-9C217FF2DD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3880" y="2437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99"/>
                </a:solidFill>
                <a:latin typeface="Arial"/>
              </a:rPr>
              <a:t>钢铁</a:t>
            </a:r>
            <a:br>
              <a:rPr sz="8000"/>
            </a:br>
            <a:r>
              <a:rPr b="1" lang="zh-CN" sz="8000" spc="-1" strike="noStrike">
                <a:solidFill>
                  <a:srgbClr val="000099"/>
                </a:solidFill>
                <a:latin typeface="Arial"/>
              </a:rPr>
              <a:t>        是怎样</a:t>
            </a:r>
            <a:br>
              <a:rPr sz="8000"/>
            </a:br>
            <a:r>
              <a:rPr b="1" lang="zh-CN" sz="8000" spc="-1" strike="noStrike">
                <a:solidFill>
                  <a:srgbClr val="000099"/>
                </a:solidFill>
                <a:latin typeface="Arial"/>
              </a:rPr>
              <a:t>              炼成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病愈后，保尔又回到铁路工厂工作。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1924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年加入共产党，这时他已成为一名思想坚定、成熟的共产主义者了。由于长年积劳成疾，保尔的身体状况越来越差，紧接着双眼开始失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这时保尔心中升起了写作的念头。在妻子达雅的帮助下，经历重重困难，他的小说《暴风雨的儿女》终于“备受赞赏，即将出版”。保尔身残志坚，不屈不挠，用另一种方式重归革命队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主人公：保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柯察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钢铁是怎样炼成的》最大的成功之处就在于塑造了保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柯察金这一无产阶级英雄形象。他当过童工，从小就在社会最底层饱受折磨和侮辱。后来在朱赫来的影响下，逐步走上革命道路。其后他经历了一系列的人生挑战，但无论是战场上的搏杀、感情上的波折还是工地上的磨练，都没能使他倒下，反而使他更加坚强。即使在伤病无情地夺走他的健康，使他不得不卧在病榻上时，他仍然不向命运屈服，而是克服种种困难，拿起笔，以顽强的毅力进行写作，已另一种方式实践着那个时代最美好的精神品质——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为理想而献身的精神、钢铁般的意志和顽强奋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高贵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保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609480"/>
            <a:ext cx="533160" cy="4724640"/>
          </a:xfrm>
          <a:custGeom>
            <a:avLst/>
            <a:gdLst>
              <a:gd name="textAreaLeft" fmla="*/ 340560 w 533160"/>
              <a:gd name="textAreaRight" fmla="*/ 533520 w 533160"/>
              <a:gd name="textAreaTop" fmla="*/ 123120 h 4724640"/>
              <a:gd name="textAreaBottom" fmla="*/ 460152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6094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保尔从事革命斗争，政治上日益成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342900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保尔的感情生活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67080" y="2971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1523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990720"/>
            <a:ext cx="24382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善良 正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意志坚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自强不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勇斗病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终于革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富有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160" y="-381240"/>
            <a:ext cx="78483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华文行楷"/>
              </a:rPr>
              <a:t>这部小说在艺术上也取得了很高的成就。它写人物以</a:t>
            </a:r>
            <a:r>
              <a:rPr b="0" lang="zh-CN" sz="3800" spc="-1" strike="noStrike">
                <a:solidFill>
                  <a:srgbClr val="ff0066"/>
                </a:solidFill>
                <a:latin typeface="Arial"/>
                <a:ea typeface="华文行楷"/>
              </a:rPr>
              <a:t>叙事和描写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华文行楷"/>
              </a:rPr>
              <a:t>为主，同时</a:t>
            </a:r>
            <a:r>
              <a:rPr b="0" lang="zh-CN" sz="3800" spc="-1" strike="noStrike">
                <a:solidFill>
                  <a:srgbClr val="ff0066"/>
                </a:solidFill>
                <a:latin typeface="Arial"/>
                <a:ea typeface="华文行楷"/>
              </a:rPr>
              <a:t>穿插内心独白、书信和日记、格言警句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华文行楷"/>
              </a:rPr>
              <a:t>等，使人物形象有血有肉。书中的</a:t>
            </a:r>
            <a:r>
              <a:rPr b="0" lang="zh-CN" sz="3800" spc="-1" strike="noStrike">
                <a:solidFill>
                  <a:srgbClr val="ff0066"/>
                </a:solidFill>
                <a:latin typeface="Arial"/>
                <a:ea typeface="华文行楷"/>
              </a:rPr>
              <a:t>景物描写、心理描写、环境描写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华文行楷"/>
              </a:rPr>
              <a:t>也都相当出色，</a:t>
            </a:r>
            <a:r>
              <a:rPr b="0" lang="zh-CN" sz="3800" spc="-1" strike="noStrike">
                <a:solidFill>
                  <a:srgbClr val="ff0066"/>
                </a:solidFill>
                <a:latin typeface="Arial"/>
                <a:ea typeface="华文行楷"/>
              </a:rPr>
              <a:t>语言简洁优美，富有表现力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华文行楷"/>
              </a:rPr>
              <a:t>。我们不仅可以从中汲取精神养料，而且还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华文行楷"/>
              </a:rPr>
              <a:t>可以借鉴写作技巧，提高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华文行楷"/>
              </a:rPr>
              <a:t>自己的文学水平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757800" y="1447920"/>
            <a:ext cx="1703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666699"/>
                </a:solidFill>
                <a:latin typeface="Arial"/>
                <a:ea typeface="幼圆"/>
              </a:rPr>
              <a:t>艺术特色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838080"/>
            <a:ext cx="7010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0" spc="-1" strike="noStrike">
                <a:solidFill>
                  <a:srgbClr val="3333ff"/>
                </a:solidFill>
                <a:latin typeface="Arial"/>
              </a:rPr>
              <a:t>知识抢答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3429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答对一题加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4114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不可以看书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《钢铁是怎样炼成的》作者是谁？哪国人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奥斯特洛夫斯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苏联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主人公的名字是？他有哪些优秀品质（至少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个）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保尔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柯察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善良、正直、自强不息、终于革命、勇斗病魔、身残志坚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有一本书保尔很认真看，并鼓励自己，还向战友们讲述书的内容，去激励战友，是哪本书？（两个字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把铁矿石和焦碳，石灰石，萤石等原料按比例投入高炉，吹入热风，加热到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1000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多度。这样单质铁就在碳的还原作用下被还原出来了。这是炼铁的过程。接着就把炼出来的铁水注入炼钢转炉中，然后加入一定量的费钢，向转炉中吹入氧气，这就是炼钢中最具有决定性的工作，氧气可以把铁水中多余的碳元素氧化掉，变成气体。然后会在氧化完毕的钢水中投入一些锰铁或硅铁，与钢水中残留的氧发生氧化，然后把钢水铸成钢锭或浇注成零件，或者是直接进入轧钢厂，轧成可以使用的型材。这就是炼钢的全过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17524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钢铁是怎样炼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6707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i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可见，钢铁是在如此复杂的过程以及如此恶劣的环境中铸造而成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牛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这是一本什么形式的小说？故事发生在什么时期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传体小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十月革命前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本文的写作特色是什么？（三点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穿插内心独白、书信和日记、格言警句等，使人物形象有血有肉。运用景物描写、心理描写、环境描写。语言简洁优美，富有表现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32920" y="2590920"/>
            <a:ext cx="729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80880"/>
            <a:ext cx="533520" cy="5486400"/>
          </a:xfrm>
          <a:custGeom>
            <a:avLst/>
            <a:gdLst>
              <a:gd name="textAreaLeft" fmla="*/ 340920 w 533520"/>
              <a:gd name="textAreaRight" fmla="*/ 533880 w 533520"/>
              <a:gd name="textAreaTop" fmla="*/ 142920 h 5486400"/>
              <a:gd name="textAreaBottom" fmla="*/ 5343480 h 548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609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609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柯察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049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善良、正直、自强不息、身残志坚、勇斗病魔、积极向上、终于革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1676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1676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奥斯特洛夫斯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4382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传体小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3809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作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3124080"/>
            <a:ext cx="228600" cy="1981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2971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运用多种细节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3429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插内心独白、格言警句等，突出人物性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502920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267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运用简洁优美，富有表现力的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358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1" lang="zh-CN" sz="12000" spc="-1" strike="noStrike">
                <a:solidFill>
                  <a:srgbClr val="0099cc"/>
                </a:solidFill>
                <a:latin typeface="Arial"/>
              </a:rPr>
              <a:t>谢谢！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943600" y="304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1523880"/>
            <a:ext cx="403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66"/>
                </a:solidFill>
                <a:latin typeface="Arial"/>
              </a:rPr>
              <a:t>奥斯特洛夫斯基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【苏联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7621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作者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传体小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</a:rPr>
              <a:t>进入作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奥斯特洛夫斯基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1904-1936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），前苏联伟大的革命作家。他出生在一个贫困的工人家庭，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岁便开始当童工，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1919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年加入共青团，随即参加国内战争和建设事业，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1924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年加入共产党。由于他长期参加艰苦斗争，健康受到严重损害，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1927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</a:rPr>
              <a:t>年由于病情恶化而双目失明，全身瘫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但他毫不屈服，以惊人的毅力同病魔作斗争，并坚持文学创作。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1933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年，以他的革命经历为素材的长篇小说《钢铁是怎样炼成的》问世，在社会上产生了极大影响，激励了无数革命青年的成长。之后奥斯特洛夫斯基开始创作另一部长篇小说《暴风雨所诞生的》。但还没来得及完成便被病魔夺去了生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30481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500" spc="-1" strike="noStrike">
                <a:solidFill>
                  <a:srgbClr val="990000"/>
                </a:solidFill>
                <a:latin typeface="Arial"/>
              </a:rPr>
              <a:t>写作背景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0" y="685440"/>
            <a:ext cx="6858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《钢铁是怎样炼成的》以俄国十月革命前后（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1915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年至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20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世纪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30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年代初）这一段历史时期为背景，描绘了当时的社会变革、阶级斗争和各阶层人物的心态。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1917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年，俄国爆发十月革命，沙皇的黑暗统治结束了，无产阶级专政政权建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52480" y="380520"/>
            <a:ext cx="7391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新生的苏维埃国家面临着严峻的任务：对内摧毁旧的国家机器，镇压反革命势力，积极开展经济建设：对外抗击帝国主义的武装干涉，保卫新政权。奥斯特洛夫斯基目睹了剥削阶级对劳动人民施加的种种暴行，亲身遭遇过不公平的对待，这一切在未来作家的胸膛里埋下了阶级仇恨的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371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保尔幼年丧父，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12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岁的保尔就不得不去食堂当伙计，在社会的底层他遭遇了许多不公平的事。十月革命爆发后，保尔生活的小镇得到解放，可又不久又落入了德军和白匪军的手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为了营救布尔什维克朱赫来，他被富家子弟维克多出卖，进了监狱；出狱后，他离开家乡参加红军，随军队在祖国大地上转战了一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533520" y="38088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故事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1920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年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月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19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日，在一次战斗中不幸负重伤，但他以惊人的毅力克服病痛，战胜了死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保尔与东尼娅最终分手了。从此他全身心地投入到巩固新政权和恢复国家经济建设的洪流中，时刻站在劳动的第一线。他倒在了工作岗位上，而他又一次“跨过死亡的门槛，回到了人间”，体内却留下了致命的隐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梁峻华</cp:lastModifiedBy>
  <dcterms:modified xsi:type="dcterms:W3CDTF">2010-09-26T00:48:0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