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type.wav" ContentType="audio/x-wav"/>
  <Override PartName="/ppt/media/image7.jpeg" ContentType="image/jpeg"/>
  <Override PartName="/ppt/media/image6.jpeg" ContentType="image/jpeg"/>
  <Override PartName="/ppt/media/image11.gif" ContentType="image/gif"/>
  <Override PartName="/ppt/media/image14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2.gif" ContentType="image/gif"/>
  <Override PartName="/ppt/media/image17.jpeg" ContentType="image/jpeg"/>
  <Override PartName="/ppt/media/image21.png" ContentType="image/png"/>
  <Override PartName="/ppt/media/image19.gif" ContentType="image/gif"/>
  <Override PartName="/ppt/media/image1.jpeg" ContentType="image/jpeg"/>
  <Override PartName="/ppt/media/image18.gif" ContentType="image/gif"/>
  <Override PartName="/ppt/media/image23.png" ContentType="image/png"/>
  <Override PartName="/ppt/media/image20.gif" ContentType="image/gif"/>
  <Override PartName="/ppt/media/image16.png" ContentType="image/png"/>
  <Override PartName="/ppt/media/image13.png" ContentType="image/pn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DE9A-D241-4944-B3D4-F6E884A2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9E62-4F48-4135-9322-6A4062A7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AFF9-C2D7-4744-868D-835124772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986-207E-4DE9-A7F0-6C905F02C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6968-27FD-4958-96B6-3159D562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E5BB-A4B1-40D0-9BE9-C7FBD23C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0ABC-FECA-496C-815E-84DAA291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DE2F-A5B5-4F36-8F2C-6C702F0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A9AD5-7487-4AAC-BD8E-894CA3AB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98E8-9542-4D26-A363-0991AB4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3B56-3BA0-4AD8-9679-C0B085C5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1A3-F116-4657-8028-66B284E5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96FC-F208-42A4-9B62-7DB343C5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A28A-62EC-4003-A01B-837DBA3A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2B2A-331F-4C2C-AE7E-E304A589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C0C8-8314-4347-B1ED-B385495D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60DC-29F3-4CC5-AF51-EAE09BCE6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578-A55F-4D2D-BF91-B7E2BD55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1CE-EFC8-47BF-87ED-705A1BA7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1962-ABCB-49D7-998C-B90FB657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FABC-6E31-48EF-B651-17E06223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2B65-614B-4A6F-92E4-15D3940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45F-9DFB-4AA5-99EB-AD6BA58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A00-EC85-44DC-BFFE-F7F618C3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D356-523F-461D-A65C-B88A9247AC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9CCE-5E4A-4C79-A951-A5D16E9F6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19.gif"/><Relationship Id="rId8" Type="http://schemas.openxmlformats.org/officeDocument/2006/relationships/image" Target="../media/image20.gi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gif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一年级（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2</a:t>
            </a:r>
            <a:r>
              <a:rPr b="1" lang="zh-CN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）班全体师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-82872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484280"/>
            <a:ext cx="82296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一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叶海燕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二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韩帅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三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孔淑慧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四组组长：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韦文可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-541440" y="692280"/>
            <a:ext cx="10514160" cy="6825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-1260360" y="-272880"/>
            <a:ext cx="10693440" cy="7130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半学期转眼就过去了，对各位家长来说，从孩子幼儿园进入了小学至今，肯定也感受到孩子身上的许多变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为能力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堂纪律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间出操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、认字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914400" y="83808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透过成绩看问题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62120" y="2438280"/>
            <a:ext cx="532116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一、上课质量决定成绩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7339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进步非常大的小朋友：李想  张凯东  吴何  孔淑慧  金哲群  王龙龙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403280" y="907920"/>
            <a:ext cx="5321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二、作业完成态度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844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业优秀的小朋友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徐可玟   王保军   李昂  叶海燕   许贤亮            李海铃    叶洋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-433440" y="189000"/>
            <a:ext cx="9577440" cy="6386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03280" y="620640"/>
            <a:ext cx="5753160" cy="77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黑体"/>
              </a:rPr>
              <a:t>三、正确看待孩子的分数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484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次考试不能代表什么，也不是我们开家长会的最终目的。仅仅是为了让家长对小朋友们前一阶段的学习有个真实的了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230120" cy="6821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301680" y="380880"/>
            <a:ext cx="8540640" cy="56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家庭教育对学生的成长的影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8000" spc="-1" strike="noStrike">
                <a:solidFill>
                  <a:srgbClr val="800080"/>
                </a:solidFill>
                <a:latin typeface="Arial"/>
              </a:rPr>
              <a:t>良好的习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第一方面是关于作息时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方面是关于学习的准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方面是关于孩子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第四方面是关于行为品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6732720" y="4508640"/>
            <a:ext cx="1726920" cy="1726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0" y="4724280"/>
            <a:ext cx="1851120" cy="2314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755640" y="1052640"/>
            <a:ext cx="748836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Button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良好习惯的培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059120"/>
            <a:ext cx="8858160" cy="45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作息时间方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校开始早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学    周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学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请您一定要按时接送孩子上学放学，以您的实际行动教育孩子有时间观念、遵守规章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注重孩子在家的作息时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作业时间、休息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3320" y="18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36720" y="109872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学习准备方面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学习用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书包、书、  本子 、 铅笔、橡皮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生活用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餐巾布、餐巾纸、水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穿校服，佩戴校服校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307520" y="189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孩子的学习方面（语文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58760" y="1098720"/>
            <a:ext cx="301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完成作业的态度，时间、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及时的复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，家长的辅导与监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家校联系册的检查签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838080" y="1066680"/>
            <a:ext cx="7620120" cy="19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为了我们共同的目标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19320" y="281952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沟通、理解、合作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133720" y="5105520"/>
            <a:ext cx="5910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——</a:t>
            </a: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一年级（</a:t>
            </a: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2</a:t>
            </a: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）班家长会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914400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-685800" y="3809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90684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90684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59109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14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252360" y="981000"/>
            <a:ext cx="9144000" cy="37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行为品德方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文明、礼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责任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53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护短，支持班级工作，不斤斤计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及时与老师联系沟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、言传身教，多鼓励，重视与孩子的情感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座位问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打扫卫生问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684360" y="4941720"/>
            <a:ext cx="7991280" cy="914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009080" cy="753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685800"/>
            <a:ext cx="9144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老师在孩子们心中是神圣的、万能的，但是老师毕竟不是完美的，老师跟老师之间也有不同的教育方法、教学方式，但是请您一定要信任老师，与老师加强沟通，有任何不满或不理解都可以通过心平气和的沟通来解决，请相信我们每一个教师都愿意做到让您满意。您千万不要在孩子面前随意议论，以免给孩子的心理投下永不消失的阴影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380880"/>
            <a:ext cx="91440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华文新魏"/>
              </a:rPr>
              <a:t>学生一旦对老师有偏见，不满意，就会出现逆反心理，不听老师话，就学不好这门功课，最终吃亏的还是学生。老师表扬学生，学生认为是鼓励，老师批评，学生认为是爱护，表扬和批评在融洽的师生感情中，才能成为学生前进的动力。我要求学生比较严格，如果有什么不尽人意的地方可以和我联系，我一定尽力改正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990720" y="1523880"/>
            <a:ext cx="693396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尊重、理解 老师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-396720" y="-17136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93000" y="189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</a:rPr>
              <a:t>安全教育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35280" y="1125360"/>
            <a:ext cx="367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交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饮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防溺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、防火、防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华文行楷"/>
              </a:rPr>
              <a:t>希望每个孩子都有进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-612720" y="0"/>
            <a:ext cx="10225080" cy="6818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0920" y="1413000"/>
            <a:ext cx="8540640" cy="42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最后，祝各位家长工作顺利，家庭幸福，再次感谢你们的支持和理解！愿我们一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cc00"/>
                </a:solidFill>
                <a:latin typeface="Arial"/>
              </a:rPr>
              <a:t>班的每位小朋友都健健康康、快快乐乐的成长！再次感谢你们到来！如有不当之处请多指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rId3" action="ppaction://hlinksldjump"/>
          </p:cNvPr>
          <p:cNvSpPr/>
          <p:nvPr/>
        </p:nvSpPr>
        <p:spPr>
          <a:xfrm>
            <a:off x="1295280" y="1371600"/>
            <a:ext cx="73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一、听广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219320" y="3200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三、班主任汇报班级的基本情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2860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会议议程</a:t>
            </a:r>
            <a:r>
              <a:rPr b="1" lang="zh-CN" sz="4000" spc="-1" strike="noStrike">
                <a:solidFill>
                  <a:srgbClr val="ca1002"/>
                </a:solidFill>
                <a:latin typeface="隶书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2096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二、与任课老师面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2400" y="42670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中宋"/>
              </a:rPr>
              <a:t>四、自由交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126828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首先感谢大家在百忙之中抽空来参加这次的家长会，在这里我代表全体师生对你们表示热烈欢迎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作为一（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）班的班主任兼语文老师，我将针对于这次期中考试和班级整体情况作一些汇报介绍，希望通过这次家长会，能让各位家长了解到孩子在校的各项情况，并在以后的学习生活中给予更多的关注，支持和帮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04640"/>
            <a:ext cx="58100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会议主要内容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会议的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班级情况的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庭对孩子成长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长应给予的支持与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全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75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732240"/>
            <a:ext cx="842472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华文新魏"/>
              </a:rPr>
              <a:t>班级情况分析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（一）班级基本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（二）学生的学习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80"/>
                </a:solidFill>
                <a:latin typeface="Arial"/>
                <a:ea typeface="华文新魏"/>
              </a:rPr>
              <a:t>（三）期中考试情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484280"/>
            <a:ext cx="822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班级基本情况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共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学生，其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男生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位女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班干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文课代表    黄草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课代表    吉果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课代表    徐可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-541440" y="-9360"/>
            <a:ext cx="10298160" cy="6867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7534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47920" y="29718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268280"/>
            <a:ext cx="8604000" cy="45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班长：   丁奇佳   牛文强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学习委员：刘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纪律委员：梁佳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体育委员：许贤亮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5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劳卫委员：王成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-468360" y="190440"/>
            <a:ext cx="10080720" cy="6721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1T03:11:07Z</dcterms:created>
  <dc:creator>宏达</dc:creator>
  <dc:description/>
  <dc:language>en-US</dc:language>
  <cp:lastModifiedBy>YlmF</cp:lastModifiedBy>
  <dcterms:modified xsi:type="dcterms:W3CDTF">2012-03-15T11:16:37Z</dcterms:modified>
  <cp:revision>103</cp:revision>
  <dc:subject/>
  <dc:title>PowerPoint 演示文稿</dc:title>
</cp:coreProperties>
</file>