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7.jpeg" ContentType="image/jpeg"/>
  <Override PartName="/ppt/media/image9.gif" ContentType="image/gif"/>
  <Override PartName="/ppt/media/typ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4.png" ContentType="image/png"/>
  <Override PartName="/ppt/media/image3.jpeg" ContentType="image/jpeg"/>
  <Override PartName="/ppt/media/image2.jpeg" ContentType="image/jpeg"/>
  <Override PartName="/ppt/media/image12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3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026-641F-4185-BBC3-4D39E568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97D-C27B-4357-A69A-EA0A6A1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735-F118-4D81-9EAB-4B76A330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5BF-46B5-4651-8F89-21520F6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B631-E9D0-4EAA-962B-49CD4A9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E50-AE9F-4945-A055-553B184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48A8-04DE-40AA-96B9-105E8748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309-DC53-45A3-8345-50CAED1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9C5E-224B-44F5-A56A-B6F8109F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CBC2-5541-421C-8E9D-0C952A5A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C72F-D2D5-459A-BEF7-A5BC0AD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F6A-1D6B-4219-ACC6-DF9A0B9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693-822E-4E26-A86C-ACE6E98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C71-4093-4E54-886A-9101675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9CD-1241-4EB7-8798-4D6E406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1DCF-0A1D-4DA4-B089-B204B788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8E7F-58F8-483C-A27A-0650EE43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90A-6E4F-4FA4-A20D-307F841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A1E-4B0C-4406-AF20-528B246C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624-0EF6-4E2A-8001-06A92606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227-30FC-4429-8825-278B44D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4D9-CC4B-4B38-B6A6-84EF68F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382-302B-4A50-AE55-86833FB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3F0-B4D0-4EE2-941D-3640065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F55-4CAF-49E2-8065-87A0DB8D03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D679-AB19-4DB2-81D8-0B130CDE3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4581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三（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全体师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82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33336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业完成态度决定成绩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36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经常不完成家庭作业的同学：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68640"/>
            <a:ext cx="96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黎艳吉  隆定高 梁凯文  王凯波  潘 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陆曾炜  韦佳良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03280" y="620640"/>
            <a:ext cx="57531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正确看待孩子的分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次考试不能代表什么，也不是我们开家长会的最终目的。仅仅是为了让家长对小朋友们前一阶段的学习有个真实的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23012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庭教育对学生的成长的影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8000" spc="-1" strike="noStrike">
                <a:solidFill>
                  <a:srgbClr val="800080"/>
                </a:solidFill>
                <a:latin typeface="Arial"/>
              </a:rPr>
              <a:t>良好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第一方面是关于作息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方面是关于学习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方面是关于孩子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四方面是关于行为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732720" y="450864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755640" y="1052640"/>
            <a:ext cx="7488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良好习惯的培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学校时间表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3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到校开始早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中午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下午到校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20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下午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：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5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周五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16:20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放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07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孩子的学习方面（语文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15880" y="1197000"/>
            <a:ext cx="33274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、完成作业的态度，时间、质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、及时的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，家长的辅导与监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71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252360" y="981000"/>
            <a:ext cx="91440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行为品德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文明、礼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责任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短，支持班级工作，不斤斤计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及时与老师联系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言传身教，多鼓励，重视与孩子的情感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阅读课外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4360" y="4941720"/>
            <a:ext cx="7991280" cy="91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09080" cy="753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580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老师在孩子们心中是神圣的、万能的，但是老师毕竟不是完美的，老师跟老师之间也有不同的教育方法、教学方式，但是请您一定要信任老师，与老师加强沟通，有任何不满或不理解都可以通过心平气和的沟通来解决，请相信我们每一个教师都愿意做到让您满意。您千万不要在孩子面前随意议论，以免给孩子的心理投下永不消失的阴影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3808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学生一旦对老师有偏见，不满意，就会出现逆反心理，不听老师话，就学不好这门功课，最终吃亏的还是学生。老师表扬学生，学生认为是鼓励，老师批评，学生认为是爱护，表扬和批评在融洽的师生感情中，才能成为学生前进的动力。我要求学生比较严格，如果有什么不尽人意的地方可以和我联系，我一定尽力改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</a:rPr>
              <a:t>耐心    细心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</a:rPr>
              <a:t>   诚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沟通，从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8000" spc="-1" strike="noStrike">
                <a:solidFill>
                  <a:srgbClr val="990099"/>
                </a:solidFill>
                <a:latin typeface="Arial"/>
                <a:ea typeface="华文行楷"/>
              </a:rPr>
              <a:t>开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537372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5136"/>
                </a:moveTo>
                <a:lnTo>
                  <a:pt x="17806" y="12142"/>
                </a:lnTo>
                <a:lnTo>
                  <a:pt x="3794" y="1914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2520" y="494172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 老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-612720" y="0"/>
            <a:ext cx="10225080" cy="681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141300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后，祝各位家长工作顺利，家庭幸福，再次感谢你们的支持和理解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83664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感谢你们能从百忙之中抽出时间到校参加会议，谢谢你们对我们工作的支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734080"/>
            <a:ext cx="302400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会议主要内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议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情况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庭对孩子成长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应给予的支持与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rurl4_b=67aabeeea8033bf0521e7fe7fa1ba3b4bdf9e07c045785e5c3bc821431d923fd738dc9ea1d636cbac68a7fe83c5f38159524ed3ecbbb3cfa89dfb0194944ff2aad3c8ea36b47e691a22a2508e24afe589a1f24e8&amp;a=28&amp;b=28"/>
          <p:cNvPicPr/>
          <p:nvPr/>
        </p:nvPicPr>
        <p:blipFill>
          <a:blip r:embed="rId2"/>
          <a:stretch/>
        </p:blipFill>
        <p:spPr>
          <a:xfrm>
            <a:off x="-14940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685800" y="2209680"/>
            <a:ext cx="7696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平均分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93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合格率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100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%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：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41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  优秀率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9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%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0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以上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25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040" y="1020600"/>
            <a:ext cx="304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段考语文科成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680400"/>
            <a:ext cx="8424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三科总分成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55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39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70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分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31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85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总分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290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以上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bj029"/>
          <p:cNvPicPr/>
          <p:nvPr/>
        </p:nvPicPr>
        <p:blipFill>
          <a:blip r:embed="rId2"/>
          <a:stretch/>
        </p:blipFill>
        <p:spPr>
          <a:xfrm>
            <a:off x="0" y="26028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2556000" y="260280"/>
            <a:ext cx="63370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学习标兵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潘贤煜     张 颖    谢丽杨     苏科逢    李雯颖   黄诗峻 谭艳琳    黄耀璇   赵茂逸 陆俊霖    曾小晨   吕秋葵  黄丽媛    石海膺     林雅妮  黄巧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30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00" y="1094040"/>
            <a:ext cx="1521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4797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2556000" y="4797360"/>
            <a:ext cx="66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33336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773360"/>
            <a:ext cx="5321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68640"/>
            <a:ext cx="96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巧音 张 颖  赵茂逸  谢丽杨  李雯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诗峻 谭艳琳 曾小晨  韦秋兰  韦德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黄耀璇 黄莉媛 潘俊龙  石海膺  曾星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林雅妮 陆志华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50920" y="0"/>
            <a:ext cx="63212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413000"/>
            <a:ext cx="5321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上课不认真的同学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4640"/>
            <a:ext cx="96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潘 璘  韦佳良  苏科逢  陆俊霖  王凯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苏健超 陆曾炜  张雨润  梁凯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3:11:07Z</dcterms:created>
  <dc:creator>宏达</dc:creator>
  <dc:description/>
  <dc:language>en-US</dc:language>
  <cp:lastModifiedBy>未知用户</cp:lastModifiedBy>
  <dcterms:modified xsi:type="dcterms:W3CDTF">2015-11-23T01:12:19Z</dcterms:modified>
  <cp:revision>107</cp:revision>
  <dc:subject/>
  <dc:title>PowerPoint 演示文稿</dc:title>
</cp:coreProperties>
</file>