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BFBF-B373-483B-9999-CCB21204E6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B2E-9254-42CA-ACBA-5D928C11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D6D-EE48-4849-92CE-54CFF178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AE8-DE8E-4351-A54A-9237D367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C56-EACE-49A9-B85B-DE96C3F5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B7E-0C40-4526-8E18-BD188CF8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9BB-1961-4211-A85C-382FF63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892-8F29-4638-8869-A96CE123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EEA-7856-41C4-8F9D-35F3482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FFD-DCF9-436E-ADE8-7303178A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DAB-5924-4E64-B866-A086E336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C5C-CFA6-4E47-8964-30BAAC27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E8B-B466-420C-AEBB-DC52340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CB82-9568-4FDB-8AD4-6B8D6EAEA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file:///&#32929;&#31080;&#25910;&#30410;.doc" TargetMode="Externa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74680" y="-198360"/>
            <a:ext cx="9723600" cy="7284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1000" y="722160"/>
            <a:ext cx="7346880" cy="91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股票、债券和保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7760" y="1386000"/>
            <a:ext cx="83898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认识股票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可退还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们一旦购买了股票，便无权向公司要求退股。若要改变股东身份，要么等待公司的破产清盘，要么将股票转售给第三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有较强的流通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经国家证券管理部门审批同意后，股票可以在证券市场上流通买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票是一种高收益、高风险同在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投资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73400" y="173160"/>
            <a:ext cx="4740120" cy="12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7773840" y="498600"/>
            <a:ext cx="900360" cy="493560"/>
          </a:xfrm>
          <a:custGeom>
            <a:avLst/>
            <a:gdLst>
              <a:gd name="textAreaLeft" fmla="*/ 31680 w 900360"/>
              <a:gd name="textAreaRight" fmla="*/ 868680 w 90036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39390" h="21600">
                <a:moveTo>
                  <a:pt x="0" y="0"/>
                </a:moveTo>
                <a:lnTo>
                  <a:pt x="39390" y="0"/>
                </a:lnTo>
                <a:lnTo>
                  <a:pt x="39390" y="21600"/>
                </a:lnTo>
                <a:lnTo>
                  <a:pt x="0" y="21600"/>
                </a:lnTo>
                <a:close/>
              </a:path>
              <a:path fill="lightenLess" w="39390" h="21600">
                <a:moveTo>
                  <a:pt x="0" y="0"/>
                </a:moveTo>
                <a:lnTo>
                  <a:pt x="39390" y="0"/>
                </a:lnTo>
                <a:lnTo>
                  <a:pt x="37990" y="1400"/>
                </a:lnTo>
                <a:lnTo>
                  <a:pt x="1400" y="1400"/>
                </a:lnTo>
                <a:close/>
              </a:path>
              <a:path fill="darken" w="39390" h="21600">
                <a:moveTo>
                  <a:pt x="39390" y="0"/>
                </a:moveTo>
                <a:lnTo>
                  <a:pt x="39390" y="21600"/>
                </a:lnTo>
                <a:lnTo>
                  <a:pt x="37990" y="20200"/>
                </a:lnTo>
                <a:lnTo>
                  <a:pt x="37990" y="1400"/>
                </a:lnTo>
                <a:close/>
              </a:path>
              <a:path fill="darkenLess" w="39390" h="21600">
                <a:moveTo>
                  <a:pt x="3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90" y="20200"/>
                </a:lnTo>
                <a:close/>
              </a:path>
              <a:path fill="lighten" w="3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90" h="21600">
                <a:moveTo>
                  <a:pt x="12689" y="10800"/>
                </a:moveTo>
                <a:lnTo>
                  <a:pt x="26702" y="3794"/>
                </a:lnTo>
                <a:lnTo>
                  <a:pt x="26702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4540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广州亚运会地铁运输、市政基础建设等投资总额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 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人民币。为拓宽融资渠道，广州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设投资发展有限公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城市建设发行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债券，用于亚运会交通工程配套项目和新电视塔项目建设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于营利前景不错，债券销售火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债券属于哪类债券？为什么债券销售火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24130" r="0" b="60684"/>
          <a:stretch/>
        </p:blipFill>
        <p:spPr>
          <a:xfrm>
            <a:off x="220680" y="174600"/>
            <a:ext cx="3790800" cy="99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30560" y="665280"/>
            <a:ext cx="39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稳健的投资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债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53880"/>
            <a:ext cx="893772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于企业债券，因为其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行主体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广      州市建设投资发展有限公司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业债券是企业以自身的经营利润作为还本付息的保证，其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率高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国债和金融债券，并且广州市建设投资发展有限公司的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利前景不错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而债券销售火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896616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宋体"/>
              </a:rPr>
              <a:t>巩固练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小陈的爸爸、妈妈下岗了，单位一次性补助他们下岗费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万元。下岗后在一家外资企业工作的妈妈建议用这笔钱购买股票，开出租车的爸爸建议买国库券，身体不适的爷爷认为应为全家购买人身保险，而正在上高中的小陈则请求家里把这笔钱定期存在银行里，为将来自己上大学做好准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请为小陈家拟定一项投资计划，并对其可行性加以论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896616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：将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用于定期储蓄，购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国库券，为爷爷和小陈各买人身保险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：小陈父母都下岗了，再就业的工作不是很稳定，购买股票有较大的风险，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不宜购买股票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库券与股票相比，安全性更好，风险更小，收益也较储蓄高一些，可考虑购买一部分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库券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爷上了年纪，从身体健康角度考虑，购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身保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合适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陈正在上高中，将来上大学需要资金，存一部分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定期储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可满足他以后上学的需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小陈购买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身保险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利于小陈的健康成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54200" y="1684440"/>
            <a:ext cx="760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作为广州亚运会唯一的保险合作伙伴，中国人民保险集团股份有限公司成立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多人的亚运服务团队。中国人保借鉴北京奥运会保险服务的成功经验，为广州亚运会设计了全面、科学、合理的风险管理方案和保险方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去广州观看亚运赛事，除了需要购买门票，是否一定要买保险？假如发生意外了，你凭什么去保险公司理赔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55025" r="0" b="29797"/>
          <a:stretch/>
        </p:blipFill>
        <p:spPr>
          <a:xfrm>
            <a:off x="3090960" y="0"/>
            <a:ext cx="3801960" cy="993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916360" y="909720"/>
            <a:ext cx="388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规避风险的途径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保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1600" y="244440"/>
            <a:ext cx="89424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购买保险，是规避风险的有效举措。订立保险合同，应当遵循公平互利、协商一致、自愿订立的原则。因此，我们可以自愿购买保险。假如发生意外，我们可凭保险合同到保险公司理赔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9480" y="671400"/>
            <a:ext cx="8186760" cy="5686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通过本节课的学习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你认为今后在投资理财时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</a:rPr>
              <a:t>应该注意什么问题</a:t>
            </a:r>
            <a:r>
              <a:rPr b="1" lang="en-US" sz="66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101600"/>
            <a:ext cx="9144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投资四“注意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需谨慎。要注意投资的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益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要注意投资的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险性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要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元化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既能增加投资收益，又能降低投资的风险，不能把鸡蛋放在同一个篮子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要根据自己的经济实力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力而行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要考虑个人利益，也要考虑国家利益，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到利国利民守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84600" y="247680"/>
            <a:ext cx="2793960" cy="74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1960" y="495360"/>
            <a:ext cx="228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38040" y="2016000"/>
            <a:ext cx="7759800" cy="29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期待分享你成功的喜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450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识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识记股票的含义、性质、特点；债券的含义、种类和特点；商业保险的含义、种类和特点。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能力目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括出各种投资方式的特点，并根据个人实际设计一项综合投资方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情感态度价值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学习，培养为社会主义经济建设服务的观念和积极进取的意识和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16120" y="0"/>
            <a:ext cx="2730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宋体"/>
              </a:rPr>
              <a:t>学习目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主学习提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4160" y="723960"/>
            <a:ext cx="8889840" cy="57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股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的含义、性质、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的基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投资的收入、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响股票价格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票市场的建立和发展的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债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债券的含义、性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债券的种类及各自的投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商业保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业保险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业保险分类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立保险合同的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678800" y="1292400"/>
            <a:ext cx="193680" cy="436320"/>
          </a:xfrm>
          <a:custGeom>
            <a:avLst/>
            <a:gdLst>
              <a:gd name="textAreaLeft" fmla="*/ 12240 w 193680"/>
              <a:gd name="textAreaRight" fmla="*/ 181440 w 193680"/>
              <a:gd name="textAreaTop" fmla="*/ 12240 h 436320"/>
              <a:gd name="textAreaBottom" fmla="*/ 424080 h 436320"/>
            </a:gdLst>
            <a:ahLst/>
            <a:rect l="textAreaLeft" t="textAreaTop" r="textAreaRight" b="textAreaBottom"/>
            <a:pathLst>
              <a:path w="21600" h="48610">
                <a:moveTo>
                  <a:pt x="0" y="0"/>
                </a:moveTo>
                <a:lnTo>
                  <a:pt x="21600" y="0"/>
                </a:lnTo>
                <a:lnTo>
                  <a:pt x="21600" y="48610"/>
                </a:lnTo>
                <a:lnTo>
                  <a:pt x="0" y="48610"/>
                </a:lnTo>
                <a:close/>
              </a:path>
              <a:path fill="lightenLess" w="21600" h="48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610">
                <a:moveTo>
                  <a:pt x="21600" y="0"/>
                </a:moveTo>
                <a:lnTo>
                  <a:pt x="21600" y="48610"/>
                </a:lnTo>
                <a:lnTo>
                  <a:pt x="20200" y="47210"/>
                </a:lnTo>
                <a:lnTo>
                  <a:pt x="20200" y="1400"/>
                </a:lnTo>
                <a:close/>
              </a:path>
              <a:path fill="darkenLess" w="21600" h="48610">
                <a:moveTo>
                  <a:pt x="21600" y="48610"/>
                </a:moveTo>
                <a:lnTo>
                  <a:pt x="0" y="48610"/>
                </a:lnTo>
                <a:lnTo>
                  <a:pt x="1400" y="47210"/>
                </a:lnTo>
                <a:lnTo>
                  <a:pt x="20200" y="47210"/>
                </a:lnTo>
                <a:close/>
              </a:path>
              <a:path fill="lighten" w="21600" h="48610">
                <a:moveTo>
                  <a:pt x="0" y="48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210"/>
                </a:lnTo>
                <a:close/>
              </a:path>
              <a:path fill="darken" w="21600" h="48610">
                <a:moveTo>
                  <a:pt x="3794" y="17299"/>
                </a:moveTo>
                <a:lnTo>
                  <a:pt x="17806" y="24305"/>
                </a:lnTo>
                <a:lnTo>
                  <a:pt x="3794" y="3131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7180200" y="68580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3619440" y="1930320"/>
            <a:ext cx="584280" cy="216000"/>
          </a:xfrm>
          <a:custGeom>
            <a:avLst/>
            <a:gdLst>
              <a:gd name="textAreaLeft" fmla="*/ 13680 w 584280"/>
              <a:gd name="textAreaRight" fmla="*/ 570600 w 584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8367" h="21600">
                <a:moveTo>
                  <a:pt x="0" y="0"/>
                </a:moveTo>
                <a:lnTo>
                  <a:pt x="58367" y="0"/>
                </a:lnTo>
                <a:lnTo>
                  <a:pt x="58367" y="21600"/>
                </a:lnTo>
                <a:lnTo>
                  <a:pt x="0" y="21600"/>
                </a:lnTo>
                <a:close/>
              </a:path>
              <a:path fill="lightenLess" w="58367" h="21600">
                <a:moveTo>
                  <a:pt x="0" y="0"/>
                </a:moveTo>
                <a:lnTo>
                  <a:pt x="58367" y="0"/>
                </a:lnTo>
                <a:lnTo>
                  <a:pt x="56967" y="1400"/>
                </a:lnTo>
                <a:lnTo>
                  <a:pt x="1400" y="1400"/>
                </a:lnTo>
                <a:close/>
              </a:path>
              <a:path fill="darken" w="58367" h="21600">
                <a:moveTo>
                  <a:pt x="58367" y="0"/>
                </a:moveTo>
                <a:lnTo>
                  <a:pt x="58367" y="21600"/>
                </a:lnTo>
                <a:lnTo>
                  <a:pt x="56967" y="20200"/>
                </a:lnTo>
                <a:lnTo>
                  <a:pt x="56967" y="1400"/>
                </a:lnTo>
                <a:close/>
              </a:path>
              <a:path fill="darkenLess" w="58367" h="21600">
                <a:moveTo>
                  <a:pt x="58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67" y="20200"/>
                </a:lnTo>
                <a:close/>
              </a:path>
              <a:path fill="lighten" w="58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367" h="21600">
                <a:moveTo>
                  <a:pt x="22177" y="3794"/>
                </a:moveTo>
                <a:lnTo>
                  <a:pt x="36190" y="10800"/>
                </a:lnTo>
                <a:lnTo>
                  <a:pt x="221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5638680" y="3848040"/>
            <a:ext cx="406440" cy="406440"/>
          </a:xfrm>
          <a:custGeom>
            <a:avLst/>
            <a:gdLst>
              <a:gd name="textAreaLeft" fmla="*/ 26280 w 406440"/>
              <a:gd name="textAreaRight" fmla="*/ 380160 w 40644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348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60280"/>
            <a:ext cx="462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1950840" cy="124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84720" y="1773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2846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239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股票投资的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3284640"/>
            <a:ext cx="388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股票价格上升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来的差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421000"/>
            <a:ext cx="37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股息和红利收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3500280"/>
            <a:ext cx="27432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公司的经营状况、供求关系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中宋"/>
                <a:hlinkClick r:id="rId3"/>
              </a:rPr>
              <a:t>大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心理、银行利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3320" y="24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来源于企业利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7432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ffff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39625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ffff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228600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228600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确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-1326600" y="2632680"/>
            <a:ext cx="4710240" cy="834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95000"/>
                  </a:srgbClr>
                </a:solidFill>
                <a:latin typeface="宋体"/>
              </a:rPr>
              <a:t>股市风云，变幻无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95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400800" y="537228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7038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1890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债券与股票的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125360"/>
          <a:ext cx="8458200" cy="5533920"/>
        </p:xfrm>
        <a:graphic>
          <a:graphicData uri="http://schemas.openxmlformats.org/drawingml/2006/table">
            <a:tbl>
              <a:tblPr/>
              <a:tblGrid>
                <a:gridCol w="533520"/>
                <a:gridCol w="1679400"/>
                <a:gridCol w="3044880"/>
                <a:gridCol w="32004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隶书"/>
                          <a:ea typeface="隶书"/>
                        </a:rPr>
                        <a:t>债       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股       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性质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受益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偿还方法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相同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743200" y="1828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债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17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入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25542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取得利息，其安全性比股票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2554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取得股息和红利，风险性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5812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明确的付息期限，到期偿还本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625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股金不能退，只能卖出股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67532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有价证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集资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都是能获得一定收益的金融资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债券与股票的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197760" y="380880"/>
            <a:ext cx="660240" cy="520920"/>
          </a:xfrm>
          <a:custGeom>
            <a:avLst/>
            <a:gdLst>
              <a:gd name="textAreaLeft" fmla="*/ 33480 w 660240"/>
              <a:gd name="textAreaRight" fmla="*/ 626760 w 6602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27373" h="21600">
                <a:moveTo>
                  <a:pt x="0" y="0"/>
                </a:moveTo>
                <a:lnTo>
                  <a:pt x="27373" y="0"/>
                </a:lnTo>
                <a:lnTo>
                  <a:pt x="27373" y="21600"/>
                </a:lnTo>
                <a:lnTo>
                  <a:pt x="0" y="21600"/>
                </a:lnTo>
                <a:close/>
              </a:path>
              <a:path fill="lightenLess" w="27373" h="21600">
                <a:moveTo>
                  <a:pt x="0" y="0"/>
                </a:moveTo>
                <a:lnTo>
                  <a:pt x="27373" y="0"/>
                </a:lnTo>
                <a:lnTo>
                  <a:pt x="25973" y="1400"/>
                </a:lnTo>
                <a:lnTo>
                  <a:pt x="1400" y="1400"/>
                </a:lnTo>
                <a:close/>
              </a:path>
              <a:path fill="darken" w="27373" h="21600">
                <a:moveTo>
                  <a:pt x="27373" y="0"/>
                </a:moveTo>
                <a:lnTo>
                  <a:pt x="27373" y="21600"/>
                </a:lnTo>
                <a:lnTo>
                  <a:pt x="25973" y="20200"/>
                </a:lnTo>
                <a:lnTo>
                  <a:pt x="25973" y="1400"/>
                </a:lnTo>
                <a:close/>
              </a:path>
              <a:path fill="darkenLess" w="27373" h="21600">
                <a:moveTo>
                  <a:pt x="27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73" y="20200"/>
                </a:lnTo>
                <a:close/>
              </a:path>
              <a:path fill="lighten" w="27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73" h="21600">
                <a:moveTo>
                  <a:pt x="6680" y="3794"/>
                </a:moveTo>
                <a:lnTo>
                  <a:pt x="20693" y="10800"/>
                </a:lnTo>
                <a:lnTo>
                  <a:pt x="668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41200"/>
          <a:ext cx="8861400" cy="6969240"/>
        </p:xfrm>
        <a:graphic>
          <a:graphicData uri="http://schemas.openxmlformats.org/drawingml/2006/table">
            <a:tbl>
              <a:tblPr/>
              <a:tblGrid>
                <a:gridCol w="495360"/>
                <a:gridCol w="750960"/>
                <a:gridCol w="1469880"/>
                <a:gridCol w="2014560"/>
                <a:gridCol w="2100240"/>
                <a:gridCol w="2030400"/>
              </a:tblGrid>
              <a:tr h="944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储蓄存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债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股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商业保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50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风险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560600" y="14288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8200" y="1390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债务证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61080" y="1441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入股凭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38920" y="1276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针对风险本身的投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19040" y="296244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款利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91636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债务利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24717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获取股息、红利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股票价格上升带来的差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540160"/>
            <a:ext cx="2209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保险合同，获取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险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530520"/>
            <a:ext cx="2209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9600" y="44704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1760" y="4213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债最小，金融债券中等，企业债券较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30840" y="45259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15240" y="4483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0560" y="580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规避风险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30480" y="5861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便捷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59817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稳健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8705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风险高收益同在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债券的种类及其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5280" y="1052640"/>
            <a:ext cx="8748360" cy="5805000"/>
            <a:chOff x="395280" y="1052640"/>
            <a:chExt cx="8748360" cy="5805000"/>
          </a:xfrm>
        </p:grpSpPr>
        <p:sp>
          <p:nvSpPr>
            <p:cNvPr id="107" name=""/>
            <p:cNvSpPr/>
            <p:nvPr/>
          </p:nvSpPr>
          <p:spPr>
            <a:xfrm>
              <a:off x="7464600" y="5396760"/>
              <a:ext cx="167904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67080" y="5396760"/>
              <a:ext cx="229716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69560" y="5396760"/>
              <a:ext cx="229716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66920" y="5396760"/>
              <a:ext cx="150228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5396760"/>
              <a:ext cx="971640" cy="14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企业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4600" y="3292560"/>
              <a:ext cx="167904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7080" y="3292560"/>
              <a:ext cx="229716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69560" y="3292560"/>
              <a:ext cx="229716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6920" y="3292560"/>
              <a:ext cx="150228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3292560"/>
              <a:ext cx="971640" cy="21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金融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4600" y="1734480"/>
              <a:ext cx="167904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67080" y="1734480"/>
              <a:ext cx="229716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69560" y="1734480"/>
              <a:ext cx="229716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6920" y="1734480"/>
              <a:ext cx="150228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1734480"/>
              <a:ext cx="971640" cy="155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国债即政府债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4600" y="1052640"/>
              <a:ext cx="167904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流通性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7080" y="1052640"/>
              <a:ext cx="229716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收益情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69560" y="1052640"/>
              <a:ext cx="229716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风险状况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66920" y="1052640"/>
              <a:ext cx="15022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发行主体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280" y="1052640"/>
              <a:ext cx="97164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Arial"/>
                </a:rPr>
                <a:t>种类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5280" y="1052640"/>
              <a:ext cx="874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6857640"/>
              <a:ext cx="874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280" y="1052640"/>
              <a:ext cx="0" cy="5805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3640" y="1052640"/>
              <a:ext cx="0" cy="5805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692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6956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708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64600" y="1052640"/>
              <a:ext cx="0" cy="58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80" y="173448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280" y="329256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280" y="5396760"/>
              <a:ext cx="874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2349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3240" y="396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金融机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562720"/>
            <a:ext cx="22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企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89160" y="22305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781440"/>
            <a:ext cx="19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于企业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低于国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6520" y="2141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6720" y="3933720"/>
            <a:ext cx="205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于国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低于企业债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56386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4800" y="231156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最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65960" y="3683160"/>
            <a:ext cx="20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最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53080" y="0"/>
            <a:ext cx="4427280" cy="593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6560" y="0"/>
            <a:ext cx="88804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4267080" y="152280"/>
            <a:ext cx="584280" cy="304920"/>
          </a:xfrm>
          <a:custGeom>
            <a:avLst/>
            <a:gdLst>
              <a:gd name="textAreaLeft" fmla="*/ 19440 w 584280"/>
              <a:gd name="textAreaRight" fmla="*/ 564840 w 5842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1366" h="21600">
                <a:moveTo>
                  <a:pt x="0" y="0"/>
                </a:moveTo>
                <a:lnTo>
                  <a:pt x="41366" y="0"/>
                </a:lnTo>
                <a:lnTo>
                  <a:pt x="41366" y="21600"/>
                </a:lnTo>
                <a:lnTo>
                  <a:pt x="0" y="21600"/>
                </a:lnTo>
                <a:close/>
              </a:path>
              <a:path fill="lightenLess" w="41366" h="21600">
                <a:moveTo>
                  <a:pt x="0" y="0"/>
                </a:moveTo>
                <a:lnTo>
                  <a:pt x="41366" y="0"/>
                </a:lnTo>
                <a:lnTo>
                  <a:pt x="39966" y="1400"/>
                </a:lnTo>
                <a:lnTo>
                  <a:pt x="1400" y="1400"/>
                </a:lnTo>
                <a:close/>
              </a:path>
              <a:path fill="darken" w="41366" h="21600">
                <a:moveTo>
                  <a:pt x="41366" y="0"/>
                </a:moveTo>
                <a:lnTo>
                  <a:pt x="41366" y="21600"/>
                </a:lnTo>
                <a:lnTo>
                  <a:pt x="39966" y="20200"/>
                </a:lnTo>
                <a:lnTo>
                  <a:pt x="39966" y="1400"/>
                </a:lnTo>
                <a:close/>
              </a:path>
              <a:path fill="darkenLess" w="41366" h="21600">
                <a:moveTo>
                  <a:pt x="41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6" y="20200"/>
                </a:lnTo>
                <a:close/>
              </a:path>
              <a:path fill="lighten" w="41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66" h="21600">
                <a:moveTo>
                  <a:pt x="13677" y="10800"/>
                </a:moveTo>
                <a:lnTo>
                  <a:pt x="27690" y="3794"/>
                </a:lnTo>
                <a:lnTo>
                  <a:pt x="2769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520" y="1463760"/>
            <a:ext cx="89614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经营不善，小强持有的某股份有限公司的股票一路下跌，投进去的钱出现了亏损。考虑到自己对股市风险的害怕，小强特向公司提出要把股份还给公司的请求。小强的朋友劝他说：“投资股票，‘宁可错过，不可过错’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公司会同意小强的请求吗？公司会怎样说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）为什么小强的朋友说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投资股票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“宁可错过，不可过错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84034"/>
          <a:stretch/>
        </p:blipFill>
        <p:spPr>
          <a:xfrm>
            <a:off x="2808360" y="-93600"/>
            <a:ext cx="3728880" cy="1022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55880" y="704880"/>
            <a:ext cx="58258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高风险、高收益同在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股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2200" y="244440"/>
            <a:ext cx="803448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示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会同意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因为在向股份有限公司参股投资取得股票后，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股东不能要求公司返还其出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会建议小强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股票转售给第三人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资股票是一种</a:t>
            </a:r>
            <a:r>
              <a:rPr b="1" lang="zh-CN" sz="3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风险与高收益同在的投资方式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此投资股票</a:t>
            </a:r>
            <a:r>
              <a:rPr b="1" lang="zh-CN" sz="3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宁可错过，不可过错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0:42:30Z</dcterms:created>
  <dc:creator> </dc:creator>
  <dc:description/>
  <cp:keywords/>
  <dc:language>en-US</dc:language>
  <cp:lastModifiedBy>User</cp:lastModifiedBy>
  <dcterms:modified xsi:type="dcterms:W3CDTF">2012-11-05T10:57:26Z</dcterms:modified>
  <cp:revision>39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