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053-1A38-4AE7-B7C8-1EAED95B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F67-8ADC-4630-8869-BFC6FE61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8A9-01DC-45F8-B499-197A245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EE5-9E87-46A6-B7D1-A5D6482C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6BA6-3170-4B65-90D6-EE58FED3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7D86-2A27-4CCD-A62B-07666D49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0B71-B269-4203-9F41-9E874D3E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85D0-8354-444F-8036-4129605E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8DD-B7BB-4836-8988-D7A0D35A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F3D5-F3CD-470A-9AB1-3211142F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DE4-1769-48AD-AB8F-F5AB8B2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6D7-4878-462C-9E91-D245E7F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8B8-6EAA-443D-9A05-4A24118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3EFC-46ED-484F-866D-D74735A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E64-3865-410B-85C1-C3E7347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8AE0-ECE8-416B-8583-3210B11D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01FA-394E-4EAE-9F57-DE976B10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C0B-C563-4247-80C3-25E90B4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A15-BDBE-4525-9C55-E76E4E25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2DF-4047-4890-BDBE-A70C02E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9F1-6FBC-445D-9BFA-00895E4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8DD-B09C-4CE9-821F-924CA03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E4D-99BE-4ACD-90A9-458A786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7E5-5969-45E1-A6FC-E2DA65A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7D4-8C58-4D19-9D4D-FF653945290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749-0676-4AB1-8225-FAB361C9139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2000" y="141264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《告别陋习、走向文明》    主题班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000" y="4292280"/>
            <a:ext cx="2376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实验中学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初二九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你们知道吗？国家发出以礼仪、礼貌、礼节为重点的 “三礼”教育和学生行为习惯的培养，树立中学生“十个文明形象”。那这十个文明形象是什么呢？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升降国旗，奏唱国歌时肃立行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与人相处，语言文明，友善宽容，明礼诚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公共场合，轻声交谈，举止文雅，着装得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孝敬父母，尊敬师长，乐于助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乘车购物，不拥不挤，座位让给有困难的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08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行车走路，遵守交通规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保护环境，垃圾废物不乱扔，绿地草坪不践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爱护公用设施，节约公用资源，遵守公共秩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社会交往热情、友好、大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情趣健康，远离不利于身心健康的场所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81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文明就文明在言行上。文明言行主要是三管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你的嘴，不要骂人，不讲脏话，不起绰号，不乱吐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你的脚，不要乱走、乱踢、乱蹋、乱踩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的你的手，不要乱扔乱丢，不要随便伸手拿别人的东西，不要打人，不要损坏公共财物，不要乱采乱摘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408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古人云：“勿以善小而不为，勿以恶小而为之。”文明行为，贵在实践。文明就餐、文明用语、文明交往、文明聚会、文明上网……看上去都是日常学习、生活的小事，但真正做起来并不容易。我们每位同学都要少说漂亮话，多做实事，积极参加各种修身养性的活动，做到举止得体、言行文明、品德高尚、尊敬师长、尊重他人，以自己的实际行为，告别各种不良行为，坚持不懈地提升自身的道德素质，做一个文明的中学生。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5533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做文明中学生要从我做起，从身边的小事做起。如果我们每个人都做文明人，我们的学校就会成为名符其实的文明学校，我们不仅要做文明人，还要做有教养的人，做别人称道的人，做受人尊敬的人，还要敢于同不文明人做斗争，帮助不文明人改正不文明行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作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9714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写一篇反思自身文明礼仪的周记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406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华夏大地，礼仪之邦，几千年源远流长的文明礼仪，是我们的骄傲和财富。时至今日，我们在衡量一个人的气质，德行的时候，仍以那些细节作为考核的重要参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但是我们身边还存在许多不文明的行为。有哪些是不文明的行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请小组讨论并列举这些不文明的行为，然后小组竞答，并记录积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735280" cy="165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2781360"/>
            <a:ext cx="2592360" cy="1646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508720" y="4724280"/>
            <a:ext cx="2808360" cy="1568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rcRect l="0" t="0" r="0" b="16897"/>
          <a:stretch/>
        </p:blipFill>
        <p:spPr>
          <a:xfrm>
            <a:off x="755640" y="1628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6532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看来我们的同学都能意识到生活中存在的不良行为，这些行为若不及时改正，将会给我们的生活，学习及以后的就业造成严重的后果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讲文明讲礼仪，不仅是要遵守各项规章制度，言行举止得体，还应该会为别人着想，学会换位思考，为他人提供方便，给遇到困难的人伸出援助之手。接下来让我们一起玩一个游戏，体会一下残疾人的生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40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一人用布蒙住眼睛，扮演盲人，另一人扮演哑巴，“哑巴”作为拐杖扶“盲人”在教室内按指定路线行走，两人均不准出声，班上其他同学将不动声色地在他们行进的过程中设置障碍，“哑巴”用身体语言引导“盲人”通过障碍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文明人”自测：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你是一个文明的人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你平时说脏话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说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很少说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说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升国旗时，你能敬礼肃穆，行注目礼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进老师的办公室，你先敲门、喊报告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是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你在家经常做一些力所能及的小事，比如洗碗，叠被    子？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是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瞻仰烈士陵园时，你能保持肃穆吗？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会儿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离开宿舍时，你会关好门窗，熄灯再走人吗？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在公共场所购物购票时，你能按顺序排队吗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你能按时独立完成作业，不抄袭别人作业吗？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能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在学校或在街上遇见外国人，你会好奇地盯着他们看，对他们指手画脚吗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　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如有同学生病了，你会主动帮助他到医务室看病吗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说明：选择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，选择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，选择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4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你是个讲文明，懂礼貌的人。举止言谈文明，与老师、父母、同学相处融洽，人际关系好，是个受欢迎的人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一般情况下，你是个文明的人，但有时可能没有认真对待一些事情，特别是一些小事，人际关系一般，是个比较受欢迎的人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4—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许多情况下，你是个不文明的人，人际关系一定很差，是个不受欢迎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446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同学们，你们都是文明人吗？自测完后，你发觉了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反思：自己存在哪些不良的行为习惯？会给自己和他人带来什么不良的后果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小组讨论：成为一名文明学生，我们应该怎么做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PMingLiU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2:42:50Z</dcterms:created>
  <dc:creator>Administrators</dc:creator>
  <dc:description/>
  <dc:language>en-US</dc:language>
  <cp:lastModifiedBy>Administrators</cp:lastModifiedBy>
  <dcterms:modified xsi:type="dcterms:W3CDTF">2009-05-19T12:40:17Z</dcterms:modified>
  <cp:revision>3</cp:revision>
  <dc:subject/>
  <dc:title>《告别陋习、走向文明》    主题班会</dc:title>
</cp:coreProperties>
</file>