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3DF-F7EF-4AB2-A9A4-284CFC33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A9D-FFC1-48E9-9F9A-7B859D29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653-1C07-4953-B11E-128E8F55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4608-23FE-4C69-A08D-20C10DCB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1665-D92B-4984-8780-BA8CFB39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1423-D0A6-4A31-8892-5175E9D3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2487-4121-48F8-953F-95E6B117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A57A-EE25-4C6A-8268-DDE587C7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6BFD-AAC4-455D-AE77-3A7B0F35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51AC-50D0-4A51-9B7A-0C066071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3282-0090-43C7-9E87-E778A088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19A-B87C-4054-A880-D29D3B34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8F4F-DC88-4DC1-AA21-36292047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1A19-7137-4CD2-AFD9-A02B2BC7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31AB-2F4A-427D-A795-7FCF59FD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CB6F-085D-4A7B-9871-25F419D0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3B49-94D5-44D2-8112-81AFA430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362-7035-4F5B-B08B-F73E3561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307-27CB-4C81-973A-F53602B8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64D-BBA1-413E-A597-AA64796D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726-0A4D-451B-BC6D-49B2138F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D88A-14A5-4A00-AC7B-4BE7A888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67C-F56B-4DB3-8A8D-AA984BA8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1B7-73F5-44BA-8525-892F4AFF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91AD-272B-4233-8227-B453D37774A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2357-D9E2-445A-9059-3D2CFCFD5C9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19320" y="1066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1125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《发脾气大叫的妈妈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401040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052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Jutta Bauer(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艾瑞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的《发脾气大叫的妈妈》获得过德国每年一评的最高荣誉：文学奖，儿童绘本类金奖。作者是德国当代几个风格鲜明的绘本名家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括号里是艾瑞的点评和心情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34040" y="2565000"/>
            <a:ext cx="385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结果，吓得我全身都散开飞跑了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44a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644a"/>
                </a:solidFill>
                <a:latin typeface="Tahoma"/>
              </a:rPr>
              <a:t>妈妈的吼叫吓得孩子魂飞魄散！？</a:t>
            </a:r>
            <a:r>
              <a:rPr b="1" lang="zh-CN" sz="3200" spc="-1" strike="noStrike">
                <a:solidFill>
                  <a:srgbClr val="00644a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5543640" cy="471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2851200"/>
            <a:ext cx="38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的脑袋飞到了宇宙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29520" y="2636280"/>
            <a:ext cx="402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内心里充满恐惧的孩子确实容易神游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以天马行空的神游来逃避令人恐惧的现实世界。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6192720" cy="532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2560" y="37004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的肚子落入了大海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16520" y="2781000"/>
            <a:ext cx="338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内心充满恐惧的人也容易贪食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过量进食，肚子像大海一样填不饱。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192720" cy="525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05880" y="2635920"/>
            <a:ext cx="3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的翅膀掉到了热带丛林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632720" cy="56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9720" y="2205360"/>
            <a:ext cx="2527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内心里的恐惧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害怕还会让我们紧紧抓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某人或某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形成病态互依关系。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6264360" cy="554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34200" y="34131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的嘴巴插在了高山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6480" y="2565360"/>
            <a:ext cx="338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嘴巴在高山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是否意味着孩子想喊又喊不出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想表达又无法尽意表达？！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380960" y="781200"/>
            <a:ext cx="6382080" cy="529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96520" y="2491200"/>
            <a:ext cx="30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的尾巴呢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? 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它在街上就像是个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迷失在都市的繁华里？！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17520" y="1003320"/>
            <a:ext cx="8508960" cy="485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0840" y="2061360"/>
            <a:ext cx="4850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就剩下了一双脚，跑啊跑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        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想叫，但没有嘴。我想找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但没有眼睛。我想飞，但没有翅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        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跑啊跑，到了傍晚跑到了撒哈拉大沙漠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累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        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这时一个大影子罩住了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10520" y="1918080"/>
            <a:ext cx="5008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孩子就像小企鹅一样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看到坏脾气、大喊大叫的妈妈就想逃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可是，一个小小的小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他（她）能逃到哪里去呢？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想表达心声和需要，没有人听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想找到自己的方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可是还不够有经验和智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想展翅高飞，可是被妈妈爸爸挡住了去路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......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488360" cy="436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7920000" cy="568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66440" y="2707560"/>
            <a:ext cx="380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  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是我发脾气大叫的妈妈开着大船来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她已经把那些丢掉的部分给找了回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并把他们重新缝好连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29960" y="2134440"/>
            <a:ext cx="380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伤害了孩子然后再把伤口修补好？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毕竟，会留下满身伤痕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而且，我们亲爱的小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不是卡通人物，摔不烂，打不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他（她）是有血有肉、有感受有情绪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有理想有抱负、有无限潜能的人！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380960" y="676440"/>
            <a:ext cx="6382080" cy="55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07040" y="32734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最后找到了我的脚，这下全缝好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82600" y="2923560"/>
            <a:ext cx="347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用自己的脚站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走自己的路，做最好的自己？！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619280" y="692280"/>
            <a:ext cx="6048360" cy="496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65840" y="2349000"/>
            <a:ext cx="2705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“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对不起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!”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发脾气大叫的妈妈对我说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然后我们就开船回家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68880" y="2421360"/>
            <a:ext cx="423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一句“对不起”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孩子就原谅了我们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“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只要改了就还是好妈妈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孩子无条件地爱着我们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们是否也能无条件地爱着（他）她？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345924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44a"/>
                </a:solidFill>
                <a:latin typeface="Tahoma"/>
              </a:rPr>
              <a:t>一只可爱的企鹅孩子向我们讲述了它和它妈妈之间的非凡经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3040" y="2420280"/>
            <a:ext cx="380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可爱的企鹅孩子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不就是我们的可爱的孩子的化身？！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846920" cy="590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83080" y="2707200"/>
            <a:ext cx="444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今天早上，我妈妈发脾气，冲着我生气地大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8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44a"/>
                </a:solidFill>
                <a:latin typeface="Tahoma"/>
              </a:rPr>
              <a:t>。（早上确实是妈妈容易抓狂的时间，孩子磨磨蹭蹭，早餐凉了，上学上班快要迟到了！）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7777080" cy="568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04:52:56Z</dcterms:created>
  <dc:creator>zty</dc:creator>
  <dc:description/>
  <dc:language>en-US</dc:language>
  <cp:lastModifiedBy>Lenovo User</cp:lastModifiedBy>
  <dcterms:modified xsi:type="dcterms:W3CDTF">2011-05-11T05:38:44Z</dcterms:modified>
  <cp:revision>134</cp:revision>
  <dc:subject/>
  <dc:title>没有幻灯片标题</dc:title>
</cp:coreProperties>
</file>