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gif" ContentType="image/gif"/>
  <Override PartName="/ppt/media/chimes.wav" ContentType="audio/x-wav"/>
  <Override PartName="/ppt/media/image5.png" ContentType="image/png"/>
  <Override PartName="/ppt/media/image8.jpeg" ContentType="image/jpe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FBB-2436-466E-9D53-2460283F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466-A79A-40C7-AB2F-8C82D09C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7B8-1567-4C61-AF91-5F020781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303-38FD-4500-99BE-75FE467A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A06A-9542-4ED1-80DE-CE5B74FD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233-3F14-4527-9D9C-C7B55A0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680-53E6-459E-B84F-C6D93A3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B488-330C-49B9-A417-5FEE9902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B8F7-160E-4674-B5BF-0E63B68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24A5-2EE7-41F0-BE81-57A3CC00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0FD1-25D3-4D36-BAC6-7285B69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4FC-F1A8-4CB9-9F9D-1B2EEFF9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9346-FE60-4382-A7BE-EE6F0B2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209-11B4-47A4-A175-2D587BE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A57E-A5AB-4392-90F5-16C27A6A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060-92B8-41C8-B6CA-C1B342E7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E1A3-31E3-4606-B012-F792C1E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6FFC-0EAE-42C3-BC13-B9935833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47E6-5BBC-4D04-9D2C-A67CD5F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4F44-C92D-4CF0-B004-B5C5FBA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FD66-9AA4-4342-9E8F-0799CC32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D2BC-597C-4C00-8F38-C3219A0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57A-B901-418D-B445-EA1B273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D6B6-EA08-4CD8-96B4-46939117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5E44-7B20-4706-86EC-C749A8D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ACDA-DF66-4E7C-963A-ADF296D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3B3A-85BD-4B60-BAB2-C3A06780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A892-F7BF-4442-B286-1B4B6ABB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153D-C7A0-4905-AB25-FA2A0714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E7EF-DBBF-4105-A569-4269BF35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C8F7-3E2B-4328-9998-7D4B8525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6BA7-817A-4E47-BE73-8725D70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32B1-0A5B-4451-AAB1-52796388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381-DDD8-4FE6-9F85-940E99E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296C-BC0E-4715-9962-4F2CD72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42D3-AE4C-4558-B68F-E81E23D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1DC7-9D6E-4543-AA64-F72DAF15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283D-BD83-4EE6-9922-0746BF6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CBAB-4021-47DE-9EB3-7ED2DC4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4168E-FA24-4183-BE9A-1CBC5AC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115E-BBFE-4DD1-8EC0-370C3F6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E8C1-479F-401B-8B06-B3D42827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FE2C-3512-4117-9920-43CCC68A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29999-EADC-4252-A999-181B1A1C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614-499F-4482-897A-3A83310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258E-B92D-4C3E-A130-7F9D7FD6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E425-3B66-44C6-8D0A-106B93B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EC4D-C671-4E20-AEB4-8258059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31695-AC68-4A78-BFAC-0D4EA4B3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B45B-F678-4B79-8207-B15A0852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1DBFB-2DC4-445C-A12B-8C5F1AF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F3E49-A7A4-4B51-BAF7-7E4DBBC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381E-B74B-4A14-A27A-C5ED14D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A2FD-5FB9-4F7B-B761-3C0A56A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9835-16B9-484C-942C-F7FEBE1F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B98-16C9-451B-BBBE-464E31E8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EA90-27AA-4DA5-81DA-B4FDF70F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53010-26EA-4A05-8F17-5FA023B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AEB1F-8F7A-42DE-ADA3-6476BDBF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6C46-0FE4-4C7D-B44D-AAB2CA42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0199-8A2A-4EA5-9D1E-5C19DA7A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1F98-9764-413F-AE9A-222072B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A1AC-EDD6-4AC3-B144-8A2D3C7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93F2-F786-44BA-A110-5C0D89C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14D3-140A-47CD-9F90-557A4A55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EA062-972B-4BEF-9D2C-36232F1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7A2-70BA-4DA3-A52B-A5B9EFA8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84FD7-3883-4A51-90B6-EFC3F0DA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3AC5-CC07-4EB5-97A2-D08D45F8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8A5B-8576-4EF4-928D-49FBB046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CD07-6E13-4152-A9EA-D6F3518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872FC-0582-4444-9148-96F5F00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E6B30-0756-43AE-93B9-00676BD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03BC-848E-46E1-9028-65DA5B6D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BC07-BE35-49AD-9672-1E65DF5C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0906B-E8DB-461D-8558-7AE901E4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2FE73-178A-4DA8-8D48-2A5C65D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A95-2A95-4283-B199-0CB4930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14FBF-04E3-49CC-893C-39B81739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DC0B-3BF2-4092-A81B-D6C9E5FF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C816F-020C-4B75-A7E3-5784EA60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9474-684D-4BA3-A39B-029648F1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D28B-319D-447F-B13D-AA7B275A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2535-9A79-47D9-AFBD-4C349412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6A869-AB93-4C6A-A45F-407D11EB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02B27-7BA1-4132-BEE6-93B37920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8816F-B7B6-4991-A346-D1A924F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206E-434B-4C4C-BD11-1B59EAF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6C1-E307-4D67-8682-A1C7BF4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6C35-F38D-4326-AE55-716922B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4DFB-755A-4C27-8EAA-2C7E991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D6D04-DBF7-43E4-B292-CFC1502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62F4-E1B9-4023-B719-2231325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6CEC-9836-4FEA-B132-60109BF5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E1D7E-70A8-4E38-99DD-E125943B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1A44-F462-4575-BEC2-27A864F9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488A-CB89-41FE-832D-8BB9A45D18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19D-E5B6-43F1-A1BB-DDA55AB7D8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73C7-67B8-4813-899B-766A7E429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CB84-B7AC-48DE-A83C-76354E94D2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5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8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922-B79D-49CC-8B30-A0F1C886A89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5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8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EAE0-AB07-4744-984D-53D9F34EA070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FC04-55D5-4526-A75D-07EC15B3532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0FA-1000-4C4E-8E1D-BCD014068C7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%5CProgram%20Files%5CTencent%5CQQ%5CUsers%5C2323189867%5CFileRecv%5C3" TargetMode="External"/><Relationship Id="rId3" Type="http://schemas.openxmlformats.org/officeDocument/2006/relationships/hyperlink" Target="269,3,&#24187;&#28783;&#29255; 3" TargetMode="External"/><Relationship Id="rId4" Type="http://schemas.openxmlformats.org/officeDocument/2006/relationships/hyperlink" Target="256,6,&#24187;&#28783;&#29255; 6" TargetMode="External"/><Relationship Id="rId5" Type="http://schemas.openxmlformats.org/officeDocument/2006/relationships/hyperlink" Target="256,6,&#24187;&#28783;&#29255; 6" TargetMode="External"/><Relationship Id="rId6" Type="http://schemas.openxmlformats.org/officeDocument/2006/relationships/hyperlink" Target="256,6,&#24187;&#28783;&#29255; 6" TargetMode="External"/><Relationship Id="rId7" Type="http://schemas.openxmlformats.org/officeDocument/2006/relationships/hyperlink" Target="260,7,&#24187;&#28783;&#29255; 7" TargetMode="External"/><Relationship Id="rId8" Type="http://schemas.openxmlformats.org/officeDocument/2006/relationships/hyperlink" Target="256,8,&#24187;&#28783;&#29255; 8" TargetMode="External"/><Relationship Id="rId9" Type="http://schemas.openxmlformats.org/officeDocument/2006/relationships/hyperlink" Target="256,8,&#24187;&#28783;&#29255; 8" TargetMode="External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050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班主任：李殿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时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-36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二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班家长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1558800"/>
            <a:ext cx="9074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家校共育，你我同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培养孩子良好的习惯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95280" y="7650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  有些题目孩子不懂，家长要耐心地解释题目的意思，鼓励孩子不懂就问。但是家长最好不要直接把答案告诉他，我想只要你把题目解释清楚孩子是能够自己解答的，我发现成绩不够理想的孩子，往往依赖性比较强，不愿独立思考，课堂上要么等老师讲解，要么转来转去偷看。这样的孩子在家里做作业也肯定很拖拉。家长要注意正确引导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  为孩子创设祥和安临的学习环境，鼓励孩子静心学习，当孩子做作业时，不要在他身边大声讲话，争论，看电视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我们了解到很多家长为了孩子安静地学习，在孩子做作业时从来不看电视，等孩子睡了再看，我很赞同这样的做法，只要孩子能听到电视的声音，是无法认真思考的，如果他在抄写，他能记住这几个字吗；如果他在做数学题，我想再简单的题也会做错的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?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9280" y="395640"/>
            <a:ext cx="7704360" cy="762120"/>
          </a:xfrm>
          <a:prstGeom prst="rect">
            <a:avLst/>
          </a:prstGeom>
          <a:solidFill>
            <a:srgbClr val="0075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50920" y="-3142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11280" y="1197000"/>
            <a:ext cx="8076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给孩子树立自信、鼓励点滴进步，在很大程度上，学生的学习积极性靠外部驱动，尤其低段孩子，他们更需要得到大人的赏识，有一位家长做得很好，只要有亲戚朋友来家做客，就把孩子画的画拿来给大家欣赏，客人们都把孩子夸奖了一番，后来孩子越画越好，取得了不少成绩。有家长注重孩子学习环境的布置，有专门的书架，放上孩子的书，让孩子能向别人展示自己的书，还有日记本需要准备专门的，以便能很快展示自己的作品。在别人面前，我们应该夸奖自己的孩子，孩子犯错误我们要关起门来耐心教育，给孩子面子。尤其在学习上，任何一个孩子都愿意取得好成绩，只是因为方法不当或是努力不够而暂时落后，教师和家长要为他们树立自信、指导方法，花时间帮助他克服困难、解决问题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多与孩子交流，多关注孩子的学习，检查孩子的作业，询问孩子在校的学习。抽读、抽背、听写、考题等。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79280" y="395640"/>
            <a:ext cx="7704360" cy="762120"/>
          </a:xfrm>
          <a:prstGeom prst="rect">
            <a:avLst/>
          </a:prstGeom>
          <a:solidFill>
            <a:srgbClr val="0075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280" y="306828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743120" y="1130400"/>
            <a:ext cx="614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5640" y="981000"/>
            <a:ext cx="7632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孩子学习特点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监管孩子的学习情况，直到自觉性的形成，这是前期是较为重要。开始主要依赖校迅通，逐渐过渡到孩子慢慢能够独立记作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孩子书面作业有错必须改正，背颂背写的内容家长监督到位，坚持口算卡训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深切希望，孩子在学习上，能够在爸爸妈妈配合下齐抓共管，课堂教学占五成因素，还要排除孩子因为注意力不集中，不会听课效果打折等，所以知识在课后巩固消除差异显得更加重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需家长配合的工作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紧跟老师的进度，真正关注孩子的学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每天要记得提醒孩子带课本和学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每天亲子交流，多问问学校表现，我比较重视孩子阅读习惯的培养。每天看十五分钟的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我在教学中当然会向你反映出孩子身上存在的问题，想办法目的是改进，不是告状，家长大可不必有心理压力，我们是成人尚会有错的时候，何况是那么小的孩子，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楷体_GB2312"/>
              </a:rPr>
              <a:t>我们之间本来就是合作者，彼此信任、相互交流对学生全面进步很有帮助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我以前教过一个小孩子，他比较顽皮，偷过同学的东西，上课玩东西不听讲，我打了几次电话给家长，后来他爸看到我还找地方躲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注重生活中自理能力的培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851120" cy="23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按时上学，不迟到，有事请假，纪律意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讲究卫生，不乱扔垃圾。文明有礼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作业一般情况下要求签名。特别是家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总结起来三句话：思想上继续引导孩子；行为上继续辅导孩子；学习上要帮助孩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260280"/>
            <a:ext cx="8136000" cy="59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81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送给家长的话（与家长共勉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分靠教，七分靠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分靠学，七分靠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分靠批评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七分靠表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天花一定的时间与孩子交流玩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周留一点和孩子一起看书，看电视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月腾一点和孩子外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身教者从，以言教者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是孩子最好的老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可以不是天才，但你可以成为天才的父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24000" y="1916280"/>
            <a:ext cx="55450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284640"/>
            <a:ext cx="41767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1916280"/>
            <a:ext cx="64087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775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隶书"/>
                <a:ea typeface="隶书"/>
              </a:rPr>
              <a:t>再次感谢各位家长对我们工作的支持，望在新学期共创佳绩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7596360" y="551664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611280" y="4005000"/>
            <a:ext cx="8229960" cy="1368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3333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1280" y="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>
            <a:hlinkClick r:id="rId2"/>
          </p:cNvPr>
          <p:cNvSpPr/>
          <p:nvPr/>
        </p:nvSpPr>
        <p:spPr>
          <a:xfrm>
            <a:off x="1403280" y="1125360"/>
            <a:ext cx="4800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1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家长会召开的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03280" y="1916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2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关于作息时间、课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03280" y="2565360"/>
            <a:ext cx="434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3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关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于作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3284640"/>
            <a:ext cx="4648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4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关于卫生方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03280" y="4005360"/>
            <a:ext cx="4953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5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给家长的一些建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6237360"/>
            <a:ext cx="513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11280" y="1052640"/>
            <a:ext cx="51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是连结家庭教育与学校教育的纽带，在家庭与学校之间架起了一座金色的桥梁，使学校教育与家庭教育有机地结合起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53280" y="6019920"/>
            <a:ext cx="990720" cy="838080"/>
          </a:xfrm>
          <a:custGeom>
            <a:avLst/>
            <a:gdLst>
              <a:gd name="textAreaLeft" fmla="*/ 52200 w 990720"/>
              <a:gd name="textAreaRight" fmla="*/ 938520 w 99072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82" y="1350"/>
                </a:lnTo>
                <a:lnTo>
                  <a:pt x="1350" y="135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82" y="20250"/>
                </a:lnTo>
                <a:lnTo>
                  <a:pt x="24182" y="135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182" y="2025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532" h="21600">
                <a:moveTo>
                  <a:pt x="5722" y="3756"/>
                </a:moveTo>
                <a:lnTo>
                  <a:pt x="19810" y="10800"/>
                </a:lnTo>
                <a:lnTo>
                  <a:pt x="5722" y="1784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476280"/>
            <a:ext cx="914400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温馨提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校开始早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要求：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上午、下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式上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上学要及时到校，不迟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放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为不影响学校教学放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午到校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 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要提前到校接学生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午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放学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注意安全！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关于作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回家作业一定有的，但量不会很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天都要给孩子检查后再签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一是有无完成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二是有无正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-554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404280"/>
            <a:ext cx="807696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有的孩子发下作业从不看看自己做的怎么样，直接就往下做。其实孩子的错误正是他正是他知识上的缺陷，正是应加强的地方，请家长在检查时翻翻以前的作业，如有错误一定要他及时改正、弄明白，才会学的更扎实。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   有的孩子依赖性很强，一有不明白的就想问，这时家长一定要帮孩子养成好的习惯。不会的可以先看看书、查查资料自己独立解决，确实不会才请教家长。培养孩子遇事动脑筋的好习惯。对于拖拖拉拉的孩子来说家长就需要让孩子限时写作业，必须在规定的时间内完成。这需要家长狠下心来管理才能收到好的效果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33720" y="190512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洗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剪指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刷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换衣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个人卫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72400" y="5562720"/>
            <a:ext cx="990720" cy="838080"/>
          </a:xfrm>
          <a:custGeom>
            <a:avLst/>
            <a:gdLst>
              <a:gd name="textAreaLeft" fmla="*/ 52200 w 990720"/>
              <a:gd name="textAreaRight" fmla="*/ 938520 w 99072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82" y="1350"/>
                </a:lnTo>
                <a:lnTo>
                  <a:pt x="1350" y="135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82" y="20250"/>
                </a:lnTo>
                <a:lnTo>
                  <a:pt x="24182" y="135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182" y="2025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532" h="21600">
                <a:moveTo>
                  <a:pt x="5722" y="3756"/>
                </a:moveTo>
                <a:lnTo>
                  <a:pt x="19810" y="10800"/>
                </a:lnTo>
                <a:lnTo>
                  <a:pt x="5722" y="17844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80880" y="1628640"/>
            <a:ext cx="807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态度。要求学习专心、认真、细心，勇于克服学习中的困难，书写要工整，清洁、准确，不能虎头蛇尾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作业。要保质保量，规定放学必须先写作业，自己检查，确任无误后家长在检查，培养孩子的责任心。家长辅导一定要有耐心，不要间断，成绩的提高才有保证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技能。如想问题，做作业时要准确、迅速，在质中求快。语言表达要清楚、生动。手工操作、口头背诵要求熟练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能力。主要是观察力、注意力、记忆力、想象力与思维力，在课余时间要鼓励孩子学会观察与思考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   孩子年龄小，培养的开始应带有一定的强制性，即具体要求、具体督促、具体检查、有的家长要求一大堆，却不认真检查落实，时间长了，孩子摸透了家长的脾气，进而钻了家长得空子。只有对孩子具体要求，认真检查，才能使孩子感觉家长要求的严肃性，进而要约束自己把要求化为行动。实践证明，对孩子的学习只能坚持正确要求，好的学习习惯定能够养成，学习成绩也能得到提高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476280"/>
            <a:ext cx="7704360" cy="1434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个建议仅供参考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39640" y="134136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、  发现问题及时与老师联系，尤其是孩子思想上的问题，有时家长说的话孩子不听，孩子一般比较听老师的话，所以可以跟老师说说，让老师跟孩子说，效果还是比较好的。作为家长不要怕麻烦老师，教育孩子是我们大家的职责。但是，有些孩子比较调皮，对老师的话表面很听的，而背着老师想干什么就干什么，所以，需要我们经常联系，多交流孩子的情况，双方互相配合，让小问题消灭于萌芽状态，不要等问题严重了再找老师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、 督促孩子认真完成回家作业，动作迅速，对书写质量严格要求。很多孩子的回家作业比课堂作业要差很多，因为不认真，所以错误多，而从培养孩子良好的学习习惯是非常重要的。习惯包括认真、及时作业，作业完成后能认真检查，遇到问题爱动脑筋、写字姿势正确，不睡懒觉，自己的事情自己做等等。有时也可以用一些策略来培养孩子的好习惯。例如：孩子喜欢晚上看动画片，就给他约定：今天你做作业时没有错题，你就可以看动画片，超过两个错，动画片不能看。这就是说，达不到这个标准的时候，一定要有限制，要惩罚，这个惩罚一定要剥夺他最喜欢的事情，这个时候不能心疼孩子，他达到这个标准之后，你就的奖励他最喜欢的事情，孩子通过这样的调整，慢慢地就习惯了，习惯培养的奥秘，可以总结出一句话：培养好习惯用加法，改正坏习惯用减法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89000"/>
            <a:ext cx="7704000" cy="1434600"/>
          </a:xfrm>
          <a:prstGeom prst="rect">
            <a:avLst/>
          </a:prstGeom>
          <a:solidFill>
            <a:srgbClr val="0075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1:53:05Z</dcterms:created>
  <dc:creator>12</dc:creator>
  <dc:description/>
  <dc:language>en-US</dc:language>
  <cp:lastModifiedBy>微软用户</cp:lastModifiedBy>
  <cp:lastPrinted>1899-12-30T00:00:00Z</cp:lastPrinted>
  <dcterms:modified xsi:type="dcterms:W3CDTF">2013-02-28T12:31:59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