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1518-4743-4F32-8324-4A87143C2840}" type="slidenum">
              <a:rPr b="1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D148-6959-4782-B914-F8AEAC501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1435-08FE-47C1-8AE1-AF7A9F23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A4A1-B883-4D0E-9BB5-97179BA93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2B05-4DE5-45C9-AEFB-3917F6367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64FE-4F92-4270-AFAF-B30B83139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77651-DE59-44B3-BD14-DD5203DC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C0D69-AA23-4133-8FB0-026D6ACD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A4E84-A123-4AFA-B61F-3324DA62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EFA0-2B6A-4F9E-82F5-485BB7443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0FDB-086E-408D-B2E5-27E9BC66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FCB3-C7BC-4913-A36A-31EDDDC1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7A7E-5345-4BAC-B31D-5ED4B6D7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0E50-AC87-45E3-817B-57EB57A7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AD68-E95A-43A4-97C6-B4503B3C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575D-FEA6-4C1D-B564-5C1BA97B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2C5A2-BFF4-4F37-9F8D-CA863AC3B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D619-9EB0-4BBA-8927-0D4930347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8429-7B84-4020-8925-777EA9EF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70CE-3C7A-4D17-8D8C-2FD4FC8F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31F1-966B-4FD5-8893-5687E41C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53C7-9E98-45DF-8367-728489F1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AA60-1D70-4950-8C76-F1CFFC00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D443-05D9-414E-8FB9-27DA5C53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7979-9C10-457D-88F8-BE7E2903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D87C-4E9B-4856-8520-0C975C9E6F9C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6292-0E85-4B73-85B6-0DB35F628E7F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 txBox="1"/>
          <p:nvPr/>
        </p:nvSpPr>
        <p:spPr>
          <a:xfrm>
            <a:off x="3348000" y="4437000"/>
            <a:ext cx="5029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——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0701</a:t>
            </a: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服装班主题班会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835280" y="1700280"/>
            <a:ext cx="50292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仿宋_GB2312"/>
              </a:rPr>
              <a:t>团结友爱共创和谐班级</a:t>
            </a:r>
            <a:endParaRPr b="0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仿宋_GB2312"/>
              <a:ea typeface="仿宋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468360" y="404640"/>
            <a:ext cx="777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484360" y="4076640"/>
            <a:ext cx="6659640" cy="27813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990720" y="914400"/>
            <a:ext cx="722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、要有不为小利益斤斤计较的思想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23880" y="19051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做事时是否有这样一种思想，觉得自己可能会吃亏，结果为自己的一点小利而损害的班集体的利益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468360" y="404640"/>
            <a:ext cx="777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484360" y="4076640"/>
            <a:ext cx="6659640" cy="27813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2556000" y="765000"/>
            <a:ext cx="2808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3520" y="11970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、要时刻把集体的利益放在第一位的思想 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447920" y="243828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要有主动“吃亏”的意识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84360" y="2421000"/>
            <a:ext cx="54003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1" lang="zh-CN" sz="4400" spc="-1" strike="noStrike">
                <a:solidFill>
                  <a:srgbClr val="40458c"/>
                </a:solidFill>
                <a:latin typeface="Tahoma"/>
              </a:rPr>
              <a:t>诗歌朗诵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7833"/>
                </a:solidFill>
                <a:latin typeface="Tahoma"/>
                <a:ea typeface="黑体"/>
              </a:rPr>
              <a:t>团结起来到明天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3400560" y="2413080"/>
            <a:ext cx="1839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129760" y="2249640"/>
            <a:ext cx="550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40458c"/>
                </a:solidFill>
                <a:latin typeface="Tahoma"/>
              </a:rPr>
              <a:t>舞蹈</a:t>
            </a:r>
            <a:r>
              <a:rPr b="1" lang="zh-CN" sz="9600" spc="-1" strike="noStrike">
                <a:solidFill>
                  <a:srgbClr val="40458c"/>
                </a:solidFill>
                <a:latin typeface="Tahoma"/>
              </a:rPr>
              <a:t>:</a:t>
            </a:r>
            <a:r>
              <a:rPr b="1" lang="zh-CN" sz="9600" spc="-1" strike="noStrike">
                <a:solidFill>
                  <a:srgbClr val="40458c"/>
                </a:solidFill>
                <a:latin typeface="Tahoma"/>
              </a:rPr>
              <a:t>七十二变</a:t>
            </a:r>
            <a:endParaRPr b="0" lang="en-US" sz="9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484360" y="4076640"/>
            <a:ext cx="66596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-39672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295280" y="0"/>
            <a:ext cx="7402680" cy="21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58c"/>
                </a:solidFill>
                <a:latin typeface="Tahoma"/>
              </a:rPr>
              <a:t>结束语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我们生活在</a:t>
            </a: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21</a:t>
            </a: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世纪，是充满竞争的世纪，同时更是一个需要广泛联系和密切合作的世纪。没有合作意识的人是不可能适应新世纪的社会的！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3124080" y="2349360"/>
            <a:ext cx="6019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969fff"/>
                </a:solidFill>
                <a:latin typeface="文鼎中行书简"/>
                <a:ea typeface="文鼎中行书简"/>
              </a:rPr>
              <a:t>さよらら！</a:t>
            </a:r>
            <a:endParaRPr b="0" lang="en-US" sz="8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3132000" y="7029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3348000" y="1341360"/>
            <a:ext cx="4133880" cy="11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Thank you!</a:t>
            </a:r>
            <a:endParaRPr b="1" lang="en-US" sz="6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med"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2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79280" y="2421000"/>
            <a:ext cx="868680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458c"/>
                </a:solidFill>
                <a:latin typeface="Tahoma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1" lang="zh-CN" sz="4000" spc="-1" strike="noStrike">
                <a:solidFill>
                  <a:srgbClr val="40458c"/>
                </a:solidFill>
                <a:latin typeface="Tahoma"/>
              </a:rPr>
              <a:t>一支竹篙哟轻轻被折断，十双筷子哟牢牢抱成团，一加十，十加百，百加千千万，你加我，我加你大家心相边，同舟共济海让路，号子喊嘛浪靠边，波涛在后岸在前……”</a:t>
            </a:r>
            <a:r>
              <a:rPr b="0" lang="zh-CN" sz="2800" spc="-1" strike="noStrike">
                <a:solidFill>
                  <a:srgbClr val="b7c1eb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b7c1eb"/>
                </a:solidFill>
                <a:latin typeface="Tahoma"/>
              </a:rPr>
              <a:t>       </a:t>
            </a:r>
            <a:endParaRPr b="0" lang="en-US" sz="9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22860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99ff"/>
                </a:solidFill>
                <a:latin typeface="Tahoma"/>
              </a:rPr>
              <a:t>导入——</a:t>
            </a:r>
            <a:r>
              <a:rPr b="1" lang="zh-CN" sz="3600" spc="-1" strike="noStrike">
                <a:solidFill>
                  <a:srgbClr val="ff99ff"/>
                </a:solidFill>
                <a:latin typeface="Tahoma"/>
              </a:rPr>
              <a:t>(</a:t>
            </a:r>
            <a:r>
              <a:rPr b="1" lang="zh-CN" sz="3600" spc="-1" strike="noStrike">
                <a:solidFill>
                  <a:srgbClr val="ff99ff"/>
                </a:solidFill>
                <a:latin typeface="Tahoma"/>
              </a:rPr>
              <a:t>大家一起唱</a:t>
            </a:r>
            <a:r>
              <a:rPr b="1" lang="zh-CN" sz="3600" spc="-1" strike="noStrike">
                <a:solidFill>
                  <a:srgbClr val="ff99ff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340000" y="364500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1" lang="zh-CN" sz="3600" spc="-1" strike="noStrike">
                <a:solidFill>
                  <a:srgbClr val="40458c"/>
                </a:solidFill>
                <a:latin typeface="Tahoma"/>
              </a:rPr>
              <a:t>小品</a:t>
            </a:r>
            <a:r>
              <a:rPr b="1" lang="zh-CN" sz="3600" spc="-1" strike="noStrike">
                <a:solidFill>
                  <a:srgbClr val="40458c"/>
                </a:solidFill>
                <a:latin typeface="Tahoma"/>
              </a:rPr>
              <a:t>:</a:t>
            </a:r>
            <a:r>
              <a:rPr b="1" lang="zh-CN" sz="3600" spc="-1" strike="noStrike">
                <a:solidFill>
                  <a:srgbClr val="ff00ff"/>
                </a:solidFill>
                <a:latin typeface="Tahoma"/>
              </a:rPr>
              <a:t>团结就是力量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443640" y="0"/>
            <a:ext cx="2305080" cy="1584360"/>
          </a:xfrm>
          <a:prstGeom prst="cloudCallout">
            <a:avLst>
              <a:gd name="adj1" fmla="val -68458"/>
              <a:gd name="adj2" fmla="val 60421"/>
            </a:avLst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26400" y="105264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40458c"/>
                </a:solidFill>
                <a:latin typeface="Tahoma"/>
              </a:rPr>
              <a:t>生活感悟</a:t>
            </a:r>
            <a:endParaRPr b="0" lang="en-US" sz="9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508720" y="4343400"/>
            <a:ext cx="2620800" cy="21477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474920" y="333360"/>
            <a:ext cx="4392360" cy="1224000"/>
          </a:xfrm>
          <a:custGeom>
            <a:avLst/>
            <a:gdLst>
              <a:gd name="textAreaLeft" fmla="*/ 0 w 4392360"/>
              <a:gd name="textAreaRight" fmla="*/ 4392720 w 4392360"/>
              <a:gd name="textAreaTop" fmla="*/ 158400 h 1224000"/>
              <a:gd name="textAreaBottom" fmla="*/ 10656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76360" y="549360"/>
            <a:ext cx="43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58c"/>
                </a:solidFill>
                <a:latin typeface="Tahoma"/>
                <a:ea typeface="黑体"/>
              </a:rPr>
              <a:t>七嘴八舌大家谈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1937400">
            <a:off x="6073920" y="541440"/>
            <a:ext cx="1008000" cy="1441440"/>
          </a:xfrm>
          <a:prstGeom prst="wedgeEllipseCallout">
            <a:avLst>
              <a:gd name="adj1" fmla="val -89074"/>
              <a:gd name="adj2" fmla="val 57592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539280" y="2421000"/>
            <a:ext cx="828036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40458c"/>
                </a:solidFill>
                <a:latin typeface="Tahoma"/>
              </a:rPr>
              <a:t>在一个班集体中如何体现自己的集体意识？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042920" y="62064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ahoma"/>
              </a:rPr>
              <a:t>集体力量</a:t>
            </a:r>
            <a:r>
              <a:rPr b="1" lang="zh-CN" sz="4000" spc="-1" strike="noStrike">
                <a:solidFill>
                  <a:srgbClr val="003399"/>
                </a:solidFill>
                <a:latin typeface="Tahoma"/>
              </a:rPr>
              <a:t>=</a:t>
            </a:r>
            <a:r>
              <a:rPr b="1" lang="zh-CN" sz="4000" spc="-1" strike="noStrike">
                <a:solidFill>
                  <a:srgbClr val="003399"/>
                </a:solidFill>
                <a:latin typeface="Tahoma"/>
              </a:rPr>
              <a:t>个人力量之和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1294920"/>
            <a:ext cx="76993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1" lang="zh-CN" sz="4000" spc="-1" strike="noStrike">
                <a:solidFill>
                  <a:srgbClr val="40458c"/>
                </a:solidFill>
                <a:latin typeface="Tahoma"/>
              </a:rPr>
              <a:t>不要只强调个人，更多要考虑集体……” 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724360" y="3284640"/>
            <a:ext cx="2621160" cy="33494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7164360" y="55166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68360" y="404640"/>
            <a:ext cx="777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484360" y="4076640"/>
            <a:ext cx="6659640" cy="27813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403280" y="1052640"/>
            <a:ext cx="60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1" lang="zh-CN" sz="3600" spc="-1" strike="noStrike">
                <a:solidFill>
                  <a:srgbClr val="40458c"/>
                </a:solidFill>
                <a:latin typeface="Tahoma"/>
              </a:rPr>
              <a:t>、要有一个健康的出发点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220968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每做一件事都要首先考虑是否正确，是不会影响班集体的荣誉？当可能会对集体造成影响时又该如何做？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01:22:18Z</dcterms:created>
  <dc:creator>AAAAA</dc:creator>
  <dc:description/>
  <dc:language>en-US</dc:language>
  <cp:lastModifiedBy>qinwei2</cp:lastModifiedBy>
  <dcterms:modified xsi:type="dcterms:W3CDTF">2007-11-13T11:38:43Z</dcterms:modified>
  <cp:revision>336</cp:revision>
  <dc:subject/>
  <dc:title>没有幻灯片标题</dc:title>
</cp:coreProperties>
</file>