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50289-FD6B-4C00-B834-C1826227E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C0FE6-15CF-4339-A36A-6C19F0E6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ADF20-C60B-4EC0-9400-0FFD67C6E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B9AED-08F5-4B10-BB98-77776337D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20035-46E5-48D7-9A5C-92B700468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1D69A-BF5D-47C8-962B-20B397F72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41525-A536-479D-8A73-95E49B43D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18168-B57E-44C0-8D00-341CE523D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00036-80F0-49AA-8545-82829AE5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46624-E698-4763-82E3-93472C095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8F4D4-A33B-4B83-B06C-9FA4D9D2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119A9-ED16-4716-A90A-D225A3F5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5775A-1D8C-4FC1-AC16-38C2C6B81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CA3A1-BE33-4900-AD01-1E15B3E01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285A9-BB5F-4C74-9F77-09D159310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059BC-C0D9-4E89-83F7-FDB4FE6A6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00706-B7C2-4E7D-B0B9-7C03CF809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0CEF-F3B2-4E78-8B34-F2AF5DF9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E5DC-D97A-42AA-9ABD-D667E7FB4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E9B4A-E957-4694-B9D7-B09338FCE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78D6A-6770-40D6-8631-4494F3299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7D1B-8EF9-4D90-B5CF-6BFAA6DEF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BB2E-E14B-4739-ABA7-15A3CD68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B415-66F7-478E-87B6-50652A01E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868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27A5-38FE-4A44-82F6-29CC21E476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4684-6913-44B1-AEDC-0E535DE24A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1680" y="0"/>
            <a:ext cx="9285120" cy="6967440"/>
          </a:xfrm>
          <a:prstGeom prst="rect">
            <a:avLst/>
          </a:prstGeom>
          <a:ln w="0">
            <a:noFill/>
          </a:ln>
        </p:spPr>
      </p:pic>
      <p:sp>
        <p:nvSpPr>
          <p:cNvPr id="84" name="PlaceHolder 1"/>
          <p:cNvSpPr>
            <a:spLocks noGrp="1"/>
          </p:cNvSpPr>
          <p:nvPr>
            <p:ph type="title"/>
          </p:nvPr>
        </p:nvSpPr>
        <p:spPr>
          <a:xfrm>
            <a:off x="539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仿宋_GB2312"/>
              </a:rPr>
              <a:t>大学生职业生涯规划书</a:t>
            </a:r>
            <a:endParaRPr b="0" lang="en-US" sz="5400" spc="-1" strike="noStrike">
              <a:solidFill>
                <a:srgbClr val="000000"/>
              </a:solidFill>
              <a:latin typeface="Arial"/>
            </a:endParaRPr>
          </a:p>
        </p:txBody>
      </p:sp>
      <p:sp>
        <p:nvSpPr>
          <p:cNvPr id="85" name="PlaceHolder 2"/>
          <p:cNvSpPr>
            <a:spLocks noGrp="1"/>
          </p:cNvSpPr>
          <p:nvPr>
            <p:ph type="subTitle"/>
          </p:nvPr>
        </p:nvSpPr>
        <p:spPr>
          <a:xfrm>
            <a:off x="611280" y="3212640"/>
            <a:ext cx="8066160" cy="27370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学校：班级：姓名：</a:t>
            </a:r>
            <a:endParaRPr b="0" lang="en-US" sz="36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家庭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1" i="1" lang="zh-CN" sz="2400" spc="-1" strike="noStrike">
                <a:solidFill>
                  <a:srgbClr val="000000"/>
                </a:solidFill>
                <a:latin typeface="Arial"/>
              </a:rPr>
              <a:t>就业形势</a:t>
            </a:r>
            <a:endParaRPr b="0" lang="en-US" sz="24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252000" cy="6872400"/>
          </a:xfrm>
          <a:prstGeom prst="rect">
            <a:avLst/>
          </a:prstGeom>
          <a:ln w="0">
            <a:noFill/>
          </a:ln>
        </p:spPr>
      </p:pic>
      <p:sp>
        <p:nvSpPr>
          <p:cNvPr id="114"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1" i="1" lang="zh-CN" sz="2400" spc="-1" strike="noStrike">
                <a:solidFill>
                  <a:srgbClr val="000000"/>
                </a:solidFill>
                <a:latin typeface="Arial"/>
              </a:rPr>
              <a:t>就业政策</a:t>
            </a:r>
            <a:endParaRPr b="0" lang="en-US" sz="24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395280" y="83628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1" i="1" lang="zh-CN" sz="3200" spc="-1" strike="noStrike">
                <a:solidFill>
                  <a:srgbClr val="000000"/>
                </a:solidFill>
                <a:latin typeface="Arial"/>
              </a:rPr>
              <a:t>、竞争对手</a:t>
            </a:r>
            <a:endParaRPr b="0" lang="en-US" sz="32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98280"/>
            <a:ext cx="9253440" cy="6956280"/>
          </a:xfrm>
          <a:prstGeom prst="rect">
            <a:avLst/>
          </a:prstGeom>
          <a:ln w="0">
            <a:noFill/>
          </a:ln>
        </p:spPr>
      </p:pic>
      <p:sp>
        <p:nvSpPr>
          <p:cNvPr id="11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章：职业定位</a:t>
            </a:r>
            <a:endParaRPr b="0" lang="en-US" sz="4400" spc="-1" strike="noStrike">
              <a:solidFill>
                <a:srgbClr val="000000"/>
              </a:solidFill>
              <a:latin typeface="Arial"/>
            </a:endParaRPr>
          </a:p>
        </p:txBody>
      </p:sp>
      <p:sp>
        <p:nvSpPr>
          <p:cNvPr id="11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一、内部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个人优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很大的精力和动力来创造成果，能够有效的和别人合作，并且与他人建立好友好和睦的人际关系，处理事实和细节问题时能够记住并利用各种事实，具有客观的态度，善于培养和帮助他人，对于良好的行为举止能够给予赞扬并使他们发扬光大，有非常强烈的责任意识，有韧性，在困难中不轻易放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个人弱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愿意尝试、接受新的和未经考验的观点和想法，没有得到表扬和新上市可能会变的失望，可能只关注眼前的需要而对长远利益的重视不够。容易表现得过于敏感，逃避难堪的场合，不喜欢在紧张的气氛中工作。</a:t>
            </a:r>
            <a:endParaRPr b="0" lang="en-US" sz="24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32400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二、外部因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000000"/>
                </a:solidFill>
                <a:latin typeface="Arial"/>
              </a:rPr>
              <a:t>职业机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经济危机以来我国纺织品行业受到创伤，但我国也推行了各种政策，随着政策的实施，纺织品行业也开始大量改革和招聘，因此我们的就业机会也随之大大提高，就业率也开始上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职业威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今时代纺织品行业大受欢迎，竞争市场变大，同时大学中纺织专业的学生也开始增多，竞争对手变多，因此我们的就业也存在了一定的威胁。</a:t>
            </a:r>
            <a:endParaRPr b="0" lang="en-US" sz="2800" spc="-1" strike="noStrike">
              <a:solidFill>
                <a:srgbClr val="000000"/>
              </a:solidFill>
              <a:latin typeface="Arial"/>
            </a:endParaRPr>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395280" y="-360"/>
            <a:ext cx="82296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实施策略</a:t>
            </a:r>
            <a:endParaRPr b="0" lang="en-US" sz="4400" spc="-1" strike="noStrike">
              <a:solidFill>
                <a:srgbClr val="000000"/>
              </a:solidFill>
              <a:latin typeface="Arial"/>
            </a:endParaRPr>
          </a:p>
        </p:txBody>
      </p:sp>
      <p:sp>
        <p:nvSpPr>
          <p:cNvPr id="124" name="PlaceHolder 2"/>
          <p:cNvSpPr>
            <a:spLocks noGrp="1"/>
          </p:cNvSpPr>
          <p:nvPr>
            <p:ph/>
          </p:nvPr>
        </p:nvSpPr>
        <p:spPr>
          <a:xfrm>
            <a:off x="395280" y="9079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时间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付出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表作息，努力学习，勤奋刻苦，坚持实行每个计划，积极参加班团活动、社团活动和学校活动。勇于去尝试性的事物和新的挑战，多看杂志、书籍、或查阅电脑了解当前的就业问题或一些专业知识，为以后的事业和工作做好铺垫。</a:t>
            </a:r>
            <a:endParaRPr b="0" lang="en-US" sz="3200" spc="-1" strike="noStrike">
              <a:solidFill>
                <a:srgbClr val="000000"/>
              </a:solidFill>
              <a:latin typeface="Arial"/>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218520" cy="6916680"/>
          </a:xfrm>
          <a:prstGeom prst="rect">
            <a:avLst/>
          </a:prstGeom>
          <a:ln w="0">
            <a:noFill/>
          </a:ln>
        </p:spPr>
      </p:pic>
      <p:sp>
        <p:nvSpPr>
          <p:cNvPr id="128"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六章：评估与反馈</a:t>
            </a:r>
            <a:endParaRPr b="0" lang="en-US" sz="4400" spc="-1" strike="noStrike">
              <a:solidFill>
                <a:srgbClr val="000000"/>
              </a:solidFill>
              <a:latin typeface="Arial"/>
            </a:endParaRPr>
          </a:p>
        </p:txBody>
      </p:sp>
      <p:sp>
        <p:nvSpPr>
          <p:cNvPr id="12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没有达到预期的目标则需要按实际情况作出相应的调整，如不能坚持实施计划就该做计划或找别人帮助、监督自己，精良坚持原先的计划。在长期目标中如长时间达不到目标，就需要降低要求或尝试其他职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两周进行一次评估和反馈，及时提醒自己，并将计划有好友分享让好友对自己的计划以及自己的实施行动进行评估和反馈。</a:t>
            </a:r>
            <a:endParaRPr b="0" lang="en-US" sz="2800" spc="-1" strike="noStrike">
              <a:solidFill>
                <a:srgbClr val="000000"/>
              </a:solidFill>
              <a:latin typeface="Arial"/>
            </a:endParaRPr>
          </a:p>
        </p:txBody>
      </p:sp>
    </p:spTree>
  </p:cSld>
  <p:transition spd="slow">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七章：总结</a:t>
            </a:r>
            <a:endParaRPr b="0" lang="en-US" sz="4400" spc="-1" strike="noStrike">
              <a:solidFill>
                <a:srgbClr val="000000"/>
              </a:solidFill>
              <a:latin typeface="Arial"/>
            </a:endParaRPr>
          </a:p>
        </p:txBody>
      </p:sp>
      <p:sp>
        <p:nvSpPr>
          <p:cNvPr id="132"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这个职业生涯规划书我可以更好的鞭策自己，明确自己将来的目标，同时可以提醒我不要荒废学业，可以多利用课上和课余时间来学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这个职业生涯规划书我了解到了中国纺织服装业的发展和纺织品设计专业在社会上的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更应该努力学习专业知识和其他知识来充实自己，以便在将来能有一个好的职位和一个。可观的收。</a:t>
            </a:r>
            <a:endParaRPr b="0" lang="en-US" sz="3200" spc="-1" strike="noStrike">
              <a:solidFill>
                <a:srgbClr val="000000"/>
              </a:solidFill>
              <a:latin typeface="Arial"/>
            </a:endParaRPr>
          </a:p>
        </p:txBody>
      </p:sp>
    </p:spTree>
  </p:cSld>
  <p:transition spd="slow">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subTitle"/>
          </p:nvPr>
        </p:nvSpPr>
        <p:spPr>
          <a:xfrm>
            <a:off x="1332000" y="2276640"/>
            <a:ext cx="6400800" cy="1752480"/>
          </a:xfrm>
          <a:prstGeom prst="rect">
            <a:avLst/>
          </a:prstGeom>
          <a:noFill/>
          <a:ln w="0">
            <a:noFill/>
          </a:ln>
        </p:spPr>
        <p:txBody>
          <a:bodyPr lIns="90000" rIns="90000" tIns="46800" bIns="46800" anchor="t">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00ff00"/>
                </a:solidFill>
                <a:latin typeface="Arial"/>
              </a:rPr>
              <a:t>谢谢观赏</a:t>
            </a:r>
            <a:endParaRPr b="0" lang="en-US" sz="8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23760"/>
            <a:ext cx="9252000" cy="6881760"/>
          </a:xfrm>
          <a:prstGeom prst="rect">
            <a:avLst/>
          </a:prstGeom>
          <a:ln w="0">
            <a:noFill/>
          </a:ln>
        </p:spPr>
      </p:pic>
      <p:sp>
        <p:nvSpPr>
          <p:cNvPr id="87" name="PlaceHolder 1"/>
          <p:cNvSpPr>
            <a:spLocks noGrp="1"/>
          </p:cNvSpPr>
          <p:nvPr>
            <p:ph type="title"/>
          </p:nvPr>
        </p:nvSpPr>
        <p:spPr>
          <a:xfrm>
            <a:off x="53964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前言</a:t>
            </a:r>
            <a:endParaRPr b="0" lang="en-US" sz="4800" spc="-1" strike="noStrike">
              <a:solidFill>
                <a:srgbClr val="000000"/>
              </a:solidFill>
              <a:latin typeface="Arial"/>
            </a:endParaRPr>
          </a:p>
        </p:txBody>
      </p:sp>
      <p:sp>
        <p:nvSpPr>
          <p:cNvPr id="88" name="PlaceHolder 2"/>
          <p:cNvSpPr>
            <a:spLocks noGrp="1"/>
          </p:cNvSpPr>
          <p:nvPr>
            <p:ph/>
          </p:nvPr>
        </p:nvSpPr>
        <p:spPr>
          <a:xfrm>
            <a:off x="539640" y="1413000"/>
            <a:ext cx="8229600" cy="4525920"/>
          </a:xfrm>
          <a:prstGeom prst="rect">
            <a:avLst/>
          </a:prstGeom>
          <a:solidFill>
            <a:srgbClr val="ffffff">
              <a:alpha val="49000"/>
            </a:srgbClr>
          </a:solidFill>
          <a:ln w="0">
            <a:noFill/>
          </a:ln>
        </p:spPr>
        <p:txBody>
          <a:bodyPr lIns="90000" rIns="90000" tIns="46800" bIns="46800" anchor="t" vert="eaVe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代社会处在变革的时代，到处充满着激烈的竞争。物竞天择，适者生存。职业活动的竞争非常突出，想要在这场激烈的竞争中脱颖而出并立于不败之地，必须要有绝对的优势，如良好的心态；超凡的创新理念；超强的能力。其中作为大学生，我们处于进入社会组织的阶段和职业生涯的初期阶段。如何才能让组织接受并聘用我们，如何才能更好更有效地发挥展现自己，这需要一个完整完善可行的职业生涯计划书。</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职业规划有助于自己确认职业发展目标，有助于鞭策自己工作，有助于个人认识就业形势和激发成就动力，有助于自己抓住重点，有助于引导个人发挥潜能，有助于提升应对竞争的能力，有助于评估目前的成绩。</a:t>
            </a:r>
            <a:endParaRPr b="0" lang="en-US" sz="24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3480" y="0"/>
            <a:ext cx="9285480" cy="69771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Arial"/>
              </a:rPr>
              <a:t>个人资料</a:t>
            </a:r>
            <a:endParaRPr b="0" lang="en-US" sz="6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姓名</a:t>
            </a:r>
            <a:r>
              <a:rPr b="1" lang="en-US" sz="3200" spc="-1" strike="noStrike">
                <a:solidFill>
                  <a:srgbClr val="660033"/>
                </a:solidFill>
                <a:latin typeface="Arial"/>
              </a:rPr>
              <a:t>:</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学校：</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系部：</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班级：</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手机：</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出生日期：</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家庭住址：</a:t>
            </a:r>
            <a:endParaRPr b="0" lang="en-US" sz="32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04760" y="-23760"/>
            <a:ext cx="9280440" cy="695304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目录</a:t>
            </a:r>
            <a:endParaRPr b="0" lang="en-US" sz="5400" spc="-1" strike="noStrike">
              <a:solidFill>
                <a:srgbClr val="000000"/>
              </a:solidFill>
              <a:latin typeface="Arial"/>
            </a:endParaRPr>
          </a:p>
        </p:txBody>
      </p:sp>
      <p:sp>
        <p:nvSpPr>
          <p:cNvPr id="94"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自我认识</a:t>
            </a:r>
            <a:endParaRPr b="0" lang="en-US" sz="3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评价自己</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职业兴趣</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职业能力</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确定目标</a:t>
            </a:r>
            <a:endParaRPr b="0" lang="en-US" sz="3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短期目标</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期目标</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长期目标</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环境评价</a:t>
            </a:r>
            <a:endParaRPr b="0" lang="en-US" sz="32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45080" y="134136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学校环境</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家庭环境</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社会环境</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职业定位</a:t>
            </a:r>
            <a:endParaRPr b="0" lang="en-US" sz="32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内部因素</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外部因素</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实施策略</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评估与反馈</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总结</a:t>
            </a:r>
            <a:endParaRPr b="0" lang="en-US" sz="3200" spc="-1" strike="noStrike">
              <a:solidFill>
                <a:srgbClr val="000000"/>
              </a:solidFill>
              <a:latin typeface="Arial"/>
            </a:endParaRPr>
          </a:p>
        </p:txBody>
      </p:sp>
    </p:spTree>
  </p:cSld>
  <p:transition spd="slow">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childTnLst>
                                </p:cTn>
                              </p:par>
                              <p:par>
                                <p:cTn id="8" nodeType="withEffect" fill="hold" presetClass="entr" presetID="10">
                                  <p:stCondLst>
                                    <p:cond delay="0"/>
                                  </p:stCondLst>
                                  <p:childTnLst>
                                    <p:set>
                                      <p:cBhvr>
                                        <p:cTn id="9" dur="1" fill="hold">
                                          <p:stCondLst>
                                            <p:cond delay="0"/>
                                          </p:stCondLst>
                                        </p:cTn>
                                        <p:tgtEl>
                                          <p:spTgt spid="94"/>
                                        </p:tgtEl>
                                        <p:attrNameLst>
                                          <p:attrName>style.visibility</p:attrName>
                                        </p:attrNameLst>
                                      </p:cBhvr>
                                      <p:to>
                                        <p:strVal val="visible"/>
                                      </p:to>
                                    </p:set>
                                    <p:animEffect filter="fade" transition="in">
                                      <p:cBhvr additive="repl">
                                        <p:cTn id="10" dur="2000"/>
                                        <p:tgtEl>
                                          <p:spTgt spid="94"/>
                                        </p:tgtEl>
                                      </p:cBhvr>
                                    </p:animEffect>
                                  </p:childTnLst>
                                </p:cTn>
                              </p:par>
                              <p:par>
                                <p:cTn id="11" nodeType="withEffect" fill="hold" presetClass="entr" presetID="10">
                                  <p:stCondLst>
                                    <p:cond delay="0"/>
                                  </p:stCondLst>
                                  <p:childTnLst>
                                    <p:set>
                                      <p:cBhvr>
                                        <p:cTn id="12" dur="1" fill="hold">
                                          <p:stCondLst>
                                            <p:cond delay="0"/>
                                          </p:stCondLst>
                                        </p:cTn>
                                        <p:tgtEl>
                                          <p:spTgt spid="95"/>
                                        </p:tgtEl>
                                        <p:attrNameLst>
                                          <p:attrName>style.visibility</p:attrName>
                                        </p:attrNameLst>
                                      </p:cBhvr>
                                      <p:to>
                                        <p:strVal val="visible"/>
                                      </p:to>
                                    </p:set>
                                    <p:animEffect filter="fade" transition="in">
                                      <p:cBhvr additive="repl">
                                        <p:cTn id="1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9120" y="-168120"/>
            <a:ext cx="9356760" cy="7029360"/>
          </a:xfrm>
          <a:prstGeom prst="rect">
            <a:avLst/>
          </a:prstGeom>
          <a:ln w="0">
            <a:noFill/>
          </a:ln>
        </p:spPr>
      </p:pic>
      <p:sp>
        <p:nvSpPr>
          <p:cNvPr id="97" name="PlaceHolder 1"/>
          <p:cNvSpPr>
            <a:spLocks noGrp="1"/>
          </p:cNvSpPr>
          <p:nvPr>
            <p:ph type="title"/>
          </p:nvPr>
        </p:nvSpPr>
        <p:spPr>
          <a:xfrm>
            <a:off x="324000" y="115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章：评价个人</a:t>
            </a:r>
            <a:endParaRPr b="0" lang="en-US" sz="4400" spc="-1" strike="noStrike">
              <a:solidFill>
                <a:srgbClr val="000000"/>
              </a:solidFill>
              <a:latin typeface="Arial"/>
            </a:endParaRPr>
          </a:p>
        </p:txBody>
      </p:sp>
      <p:sp>
        <p:nvSpPr>
          <p:cNvPr id="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评价自己</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自我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认为我的个性倾向于内向，优柔寡断，有点害羞，缺乏自主判断力，处事能力不够好。但我认为我的优点还是很多的，如善良、有责任心、能担当、体贴人、对人真诚、勤劳等等。同时我比较懒惰、不爱交流、爱哭、会紧张、有点虚荣心等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家人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妈常说我懒惰、不喜欢做家务、是个典型的电视迷、只要有电视其他无所谓，也不管不问。但我的家人常夸我很乖很听话，会竭力做好每一件别人吩咐的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朋友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许多朋友一致认为我会体贴人、心态好、从不会生气、有时很安静又是很胡闹。他们说我像一个仙人球，外表坚强内心脆弱。我感觉以上的评价还是很符合自己的。</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6840" y="260280"/>
            <a:ext cx="8435880" cy="586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兴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下是我的测试结果，艺术型、社会型和调研型相结合。结果还是蛮符合我的。我认为我也是艺术型占主要部分，同时我也很喜欢美术老师和时装模特。</a:t>
            </a:r>
            <a:endParaRPr b="0" lang="en-US" sz="2800" spc="-1" strike="noStrike">
              <a:solidFill>
                <a:srgbClr val="000000"/>
              </a:solidFill>
              <a:latin typeface="Arial"/>
            </a:endParaRPr>
          </a:p>
        </p:txBody>
      </p:sp>
      <p:graphicFrame>
        <p:nvGraphicFramePr>
          <p:cNvPr id="101" name=""/>
          <p:cNvGraphicFramePr/>
          <p:nvPr/>
        </p:nvGraphicFramePr>
        <p:xfrm>
          <a:off x="755640" y="2781360"/>
          <a:ext cx="7848720" cy="3240000"/>
        </p:xfrm>
        <a:graphic>
          <a:graphicData uri="http://schemas.openxmlformats.org/drawingml/2006/table">
            <a:tbl>
              <a:tblPr/>
              <a:tblGrid>
                <a:gridCol w="2255760"/>
                <a:gridCol w="2257560"/>
                <a:gridCol w="3335400"/>
              </a:tblGrid>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合职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艺术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英语教师、美术老师、哲学家、作家、时装模特、广告经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会活动家、部长助理、社会科学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研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学家、数学家、工程心理学家、哲学家、天文学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325080" cy="6927840"/>
          </a:xfrm>
          <a:prstGeom prst="rect">
            <a:avLst/>
          </a:prstGeom>
          <a:ln w="0">
            <a:noFill/>
          </a:ln>
        </p:spPr>
      </p:pic>
      <p:sp>
        <p:nvSpPr>
          <p:cNvPr id="103" name="PlaceHolder 1"/>
          <p:cNvSpPr>
            <a:spLocks noGrp="1"/>
          </p:cNvSpPr>
          <p:nvPr>
            <p:ph/>
          </p:nvPr>
        </p:nvSpPr>
        <p:spPr>
          <a:xfrm>
            <a:off x="179280" y="115920"/>
            <a:ext cx="8785440" cy="66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职业能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下是我的测评结果，我是社会型、和艺术型研究型的综合体。为人热情善良、乐于助人。比较看重社会义务和社会道德。是个典型的社会型人物。</a:t>
            </a:r>
            <a:endParaRPr b="0" lang="en-US" sz="2800" spc="-1" strike="noStrike">
              <a:solidFill>
                <a:srgbClr val="000000"/>
              </a:solidFill>
              <a:latin typeface="Arial"/>
            </a:endParaRPr>
          </a:p>
        </p:txBody>
      </p:sp>
      <p:graphicFrame>
        <p:nvGraphicFramePr>
          <p:cNvPr id="104" name=""/>
          <p:cNvGraphicFramePr/>
          <p:nvPr/>
        </p:nvGraphicFramePr>
        <p:xfrm>
          <a:off x="1042920" y="2781360"/>
          <a:ext cx="6985080" cy="2882880"/>
        </p:xfrm>
        <a:graphic>
          <a:graphicData uri="http://schemas.openxmlformats.org/drawingml/2006/table">
            <a:tbl>
              <a:tblPr/>
              <a:tblGrid>
                <a:gridCol w="1346040"/>
                <a:gridCol w="1346400"/>
                <a:gridCol w="42926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合职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师、社会工作者（咨询人员、公关人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艺术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摄影师、制图员、厨师、技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程师、医生、系统分析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325080" cy="69944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章：确认目标</a:t>
            </a:r>
            <a:endParaRPr b="0" lang="en-US" sz="4400" spc="-1" strike="noStrike">
              <a:solidFill>
                <a:srgbClr val="000000"/>
              </a:solidFill>
              <a:latin typeface="Arial"/>
            </a:endParaRPr>
          </a:p>
        </p:txBody>
      </p:sp>
      <p:sp>
        <p:nvSpPr>
          <p:cNvPr id="107" name="PlaceHolder 2"/>
          <p:cNvSpPr>
            <a:spLocks noGrp="1"/>
          </p:cNvSpPr>
          <p:nvPr>
            <p:ph/>
          </p:nvPr>
        </p:nvSpPr>
        <p:spPr>
          <a:xfrm>
            <a:off x="611280" y="1413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短期目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中期目标</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长期目标</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三章：环境评价</a:t>
            </a:r>
            <a:endParaRPr b="0" lang="en-US" sz="4400" spc="-1" strike="noStrike">
              <a:solidFill>
                <a:srgbClr val="000000"/>
              </a:solidFill>
              <a:latin typeface="Arial"/>
            </a:endParaRPr>
          </a:p>
        </p:txBody>
      </p:sp>
      <p:sp>
        <p:nvSpPr>
          <p:cNvPr id="11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学校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6:32:27Z</dcterms:created>
  <dc:creator>Administrator</dc:creator>
  <dc:description/>
  <dc:language>en-US</dc:language>
  <cp:lastModifiedBy>微软用户</cp:lastModifiedBy>
  <cp:lastPrinted>1899-12-30T00:00:00Z</cp:lastPrinted>
  <dcterms:modified xsi:type="dcterms:W3CDTF">2015-11-19T02:46:54Z</dcterms:modified>
  <cp:revision>9</cp:revision>
  <dc:subject/>
  <dc:title>大学生职业生涯规划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