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gif" ContentType="image/gif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E03C-E207-43C2-A3F0-EF232413F0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气球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2A2-E876-491D-A307-D38F0D8B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E49-8B19-4206-A1CC-D89FB143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2C1-FD5A-49AA-B631-E5B5BCD9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8AB-0D83-4E65-B15C-5B7472D3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BC74-FCB1-4B58-ABA4-94AF9741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D28D-AA39-4000-82F9-D0D5254B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6E9E-B4AF-49B0-8D47-1F7DCEB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E151-9EB0-40A1-B8D9-FDC779D0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B0F0-967F-44B4-ACC3-63A7BF62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D372-B4AC-41F9-9632-38B582C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FC5-4073-4C39-83C7-1152EBB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7C3-824C-4860-96AC-86A528EA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2B4F-7709-497A-91E8-1AC11B98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D05E-5BFD-4F83-B946-1B1E849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4484-FD25-4F8A-8EDD-E0878D5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59B-3F66-4052-8692-DA21FCF4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8911-4C65-41EA-A285-C76A0DC1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04A-B53D-4F38-84C9-79DC023D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580-2532-42AF-AE87-D824A0FF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3B9-195B-4E48-B7B5-9441AFD0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E0B-5B74-460A-A2F1-C532062C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CC0-8F07-419C-8794-3A916F1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7F3-7498-4999-A17C-769EA6AF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8B9-D2AA-4972-B7D5-44E14CDC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8929-A2B4-4DD0-B4AD-DFB33E8FE8B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3D60-E98C-4BDA-A2AF-26A36BDBDBB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1280" y="2421000"/>
            <a:ext cx="50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----</a:t>
            </a: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03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八年（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43400" y="45720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05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1545600">
            <a:off x="6587640" y="3645000"/>
            <a:ext cx="1295640" cy="212256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685800"/>
            <a:ext cx="5562720" cy="259092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3581280" cy="541044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二、改正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" descr="01-09-008-04.gif (22138 字节)"/>
          <p:cNvPicPr/>
          <p:nvPr/>
        </p:nvPicPr>
        <p:blipFill>
          <a:blip r:embed="rId2"/>
          <a:stretch/>
        </p:blipFill>
        <p:spPr>
          <a:xfrm>
            <a:off x="6997680" y="0"/>
            <a:ext cx="2146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5720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班里有同学损坏了公物，老师来调查时谁也不说，一起帮助这位同学掩盖事情真相，假如你是知情者，但又碍于同学间的面子，不好当面站出来，那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57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动动脑筋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如果碰到下列情况，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周一自习课，老师都在开会，班上同学吵闹，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你做作业时碰到难题，百思不得其解，同学把做好的作业让你抄，你会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666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假如你的好朋友经常无节制地上网玩游戏，你打算怎么帮助他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课间你在走廊中吃完橘子，剩下橘子皮，可旁边没有垃圾箱，也没有老师，这时你会怎么办？请实话实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1066680"/>
            <a:ext cx="6095880" cy="302256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905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一、认识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545600">
            <a:off x="533520" y="3428640"/>
            <a:ext cx="3047760" cy="242568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1835280" y="692280"/>
            <a:ext cx="3047760" cy="457200"/>
          </a:xfrm>
          <a:custGeom>
            <a:avLst/>
            <a:gdLst>
              <a:gd name="textAreaLeft" fmla="*/ 29520 w 3047760"/>
              <a:gd name="textAreaRight" fmla="*/ 3018240 w 3047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892" h="21600">
                <a:moveTo>
                  <a:pt x="0" y="0"/>
                </a:moveTo>
                <a:lnTo>
                  <a:pt x="143892" y="0"/>
                </a:lnTo>
                <a:lnTo>
                  <a:pt x="143892" y="21600"/>
                </a:lnTo>
                <a:lnTo>
                  <a:pt x="0" y="21600"/>
                </a:lnTo>
                <a:close/>
              </a:path>
              <a:path fill="lightenLess" w="143892" h="21600">
                <a:moveTo>
                  <a:pt x="0" y="0"/>
                </a:moveTo>
                <a:lnTo>
                  <a:pt x="143892" y="0"/>
                </a:lnTo>
                <a:lnTo>
                  <a:pt x="142492" y="1400"/>
                </a:lnTo>
                <a:lnTo>
                  <a:pt x="1400" y="1400"/>
                </a:lnTo>
                <a:close/>
              </a:path>
              <a:path fill="darken" w="143892" h="21600">
                <a:moveTo>
                  <a:pt x="143892" y="0"/>
                </a:moveTo>
                <a:lnTo>
                  <a:pt x="143892" y="21600"/>
                </a:lnTo>
                <a:lnTo>
                  <a:pt x="142492" y="20200"/>
                </a:lnTo>
                <a:lnTo>
                  <a:pt x="142492" y="1400"/>
                </a:lnTo>
                <a:close/>
              </a:path>
              <a:path fill="darkenLess" w="143892" h="21600">
                <a:moveTo>
                  <a:pt x="14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92" y="20200"/>
                </a:lnTo>
                <a:close/>
              </a:path>
              <a:path fill="lighten" w="14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81280" y="4013280"/>
            <a:ext cx="5562720" cy="284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1905120"/>
            <a:ext cx="86868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《发生在我们身边的事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30492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情境体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2276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分小组讨论，我们班中有哪些不良的行为习惯，并说说有什么害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12720" cy="3573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52280"/>
            <a:ext cx="3168720" cy="1341720"/>
          </a:xfrm>
          <a:prstGeom prst="cloudCallout">
            <a:avLst>
              <a:gd name="adj1" fmla="val -63027"/>
              <a:gd name="adj2" fmla="val 28226"/>
            </a:avLst>
          </a:prstGeom>
          <a:solidFill>
            <a:srgbClr val="66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228600"/>
            <a:ext cx="20876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你说我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5345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933720"/>
            <a:ext cx="3311640" cy="2548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848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5:52:16Z</dcterms:created>
  <dc:creator>Billgates</dc:creator>
  <dc:description/>
  <dc:language>en-US</dc:language>
  <cp:lastModifiedBy>微软用户</cp:lastModifiedBy>
  <dcterms:modified xsi:type="dcterms:W3CDTF">2009-08-13T10:20:05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d000000000001024120</vt:lpwstr>
  </property>
</Properties>
</file>