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chimes.wav" ContentType="audio/x-wav"/>
  <Override PartName="/ppt/media/image6.jpeg" ContentType="image/jpeg"/>
  <Override PartName="/ppt/media/image3.wmf" ContentType="image/x-wmf"/>
  <Override PartName="/ppt/media/image4.jpeg" ContentType="image/jpeg"/>
  <Override PartName="/ppt/media/typ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EE36-6FB4-4F17-98F5-70D17FA4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3E28-C53A-436F-9470-FC9466C6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4058-791A-4AA1-85D8-248EE5B42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B4DC-15BB-42D0-B039-443BE91FF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EF1D-1B1F-485A-84CD-B6FD9E0B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CAF9-963A-4D51-960D-77BB7A07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B704-3070-4F18-AD1A-D05E530E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4202-2917-49C1-866E-34B9DEEF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A453-E78C-46CD-BD06-D053E7CC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7E58-917C-4554-8185-8DF0907B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8BC3-1558-437E-870E-81B29F6D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BA1D-7AA1-46F2-A524-EB599AF2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B669-5CEF-4444-9E0A-249C28364F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Arial"/>
                <a:ea typeface="黑体"/>
              </a:rPr>
              <a:t>诚信考试</a:t>
            </a:r>
            <a:br>
              <a:rPr sz="8000"/>
            </a:br>
            <a:r>
              <a:rPr b="1" lang="zh-CN" sz="8000" spc="-1" strike="noStrike">
                <a:solidFill>
                  <a:srgbClr val="ff0066"/>
                </a:solidFill>
                <a:latin typeface="Arial"/>
                <a:ea typeface="黑体"/>
              </a:rPr>
              <a:t>展示真我风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考试作弊的行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偷看别人的试卷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问别人怎么答题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事先写好的小纸条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28600" y="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作弊的后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你伤害了老师和同学，给师生关系和同学关系蒙上了阴影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你对家长、老师和同学有负罪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你改变了在他们心目中的形象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失去了老师和同学对你的信任─本来我们都是相互信任、充满爱心的呀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以后生活本身对你的惩罚要比现在严厉的多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5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的信誉价值连城，你怎么舍得用一点点考分就把它出卖了？作弊的代价太高了！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300800" y="4191120"/>
            <a:ext cx="1549440" cy="242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个作弊的人是没有信用的人，他永远树立不起诚信、伟大的形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一个作弊的民族是不讲诚信的民族，很难自立于世界民族之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75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75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09480" y="1295280"/>
            <a:ext cx="7467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诚信是做人的一种品质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是职业道德的根本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是个人成就事业的根基。要培养诚信的良好道德品质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就要从身边的每一件小事做起。应该做到诚实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诚恳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实事求是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重信用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守承诺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8088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我宣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楷体_GB2312"/>
              </a:rPr>
              <a:t>在这次考试中，认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  <a:ea typeface="楷体_GB2312"/>
              </a:rPr>
              <a:t>真准备好每一场考试，遵守考场纪律，不作弊，诚信做人，考出自已的水平，向家长和老师汇报最佳成绩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3520" y="1066680"/>
            <a:ext cx="799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生命不会从谎言中开出灿烂的鲜花。诚信犹如火焰，给人希望，给人温暖；诚信犹如明镜，给人准则，给人借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333399"/>
                </a:solidFill>
                <a:latin typeface="华文新魏"/>
                <a:ea typeface="华文新魏"/>
              </a:rPr>
              <a:t>同学们，让诚信的火种永驻你们心中。相信，诚信会让你们的生命更加辉煌灿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000099"/>
                </a:solidFill>
                <a:latin typeface="Arial"/>
                <a:ea typeface="黑体"/>
              </a:rPr>
              <a:t>我的目标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科目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卷面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预期分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语文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德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原料知识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原料加工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营养卫生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烹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0066"/>
                </a:solidFill>
                <a:latin typeface="Arial"/>
                <a:ea typeface="黑体"/>
              </a:rPr>
              <a:t>为什么要考试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测试你对某门课的掌握程度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测试你的学习技巧和记忆力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评估教师的教学质量，了解哪些教                       得不错、哪些需要加强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最重要的是，测试你是否诚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ff0066"/>
                </a:solidFill>
                <a:latin typeface="Arial"/>
              </a:rPr>
              <a:t>什么是诚信？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09680" y="1905120"/>
            <a:ext cx="6248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谓“诚”即真诚、诚实；“信”即承诺、信用。诚信的基本含义是守诺、践约、无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它是人类社会正常的和必要的道德原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462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5050"/>
                </a:solidFill>
                <a:latin typeface="Arial"/>
                <a:ea typeface="黑体"/>
              </a:rPr>
              <a:t>与诚实有关的名言警句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617840"/>
            <a:ext cx="8686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而无信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知其可也。（孔子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君子养心莫善于诚。（荀子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言必信，行必果。（韩非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来一诺比黄金，那肯风尘负此心。（顾炎武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无信不立，家无信不睦，业无信不兴，国无信不宁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无诚信，好景不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诚实守信为荣，以见利忘义为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8600" y="380880"/>
            <a:ext cx="8686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一个士兵，非常不善于长跑，所以在一次部队的越野赛中很快就远落人后，一个人孤零零地跑着。转过了几道弯，遇到了一个岔路口，一条路，标明是军官跑的；另一条路，标明是士兵跑的小径。他停顿了一下，虽然对做军官连越野赛都有便宜可沾感到不满，但是仍然朝着士兵的小径跑去。没想到过了半个小时后到达终点，却是名列第一。他感到不可恩议，自己从来没有取得过名次不说，连前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也没有跑过。但是，主持赛跑的军官笑着恭喜他取得了比赛的胜利。 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过了几个钟头后，大批人马到了，他们跑得筋疲力尽，看见他赢得了胜利，也觉得奇怪。但是突然大家醒悟过来，在岔路口诚实守信，是多么重要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2280" y="365040"/>
            <a:ext cx="88394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前有一个人，背着四个背包在赶路。那四个背包分别是“</a:t>
            </a:r>
            <a:r>
              <a:rPr b="1" lang="zh-CN" sz="25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诚信，智慧，毅力，勇气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。走到一条河边。河水湍急，不能浮水而过，于是此人四下找寻。忽然发现一艘渡船，船上有一渔人。此人言道：“渔家，可否渡我过河？”渔人道：“我船小，阁下负重太多，恐难以渡过。”此人言道：“那便如何是好？”渔家道：“阁下可以卸下一个包袱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送予了我。”此人寻思也是这个道理。于是…此人把渔家推下水，自己驾船渡过了。</a:t>
            </a:r>
            <a:br>
              <a:rPr sz="2500"/>
            </a:b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年轻人抛弃了“诚信”后，平安地躲过了暴风雨。又经过一段时间的航行，船开进了一个叫“快乐岛”的港口。年轻人上了岸，想在“快乐岛”上寻找快乐。他走进了一家房产公司，想买一幢房子定居下来。于是他打开“金钱”的背囊。接待他的工作人员看了看里面成捆纸钞说：“对不起，您的纸币在我们岛上无法流通，如果你有‘诚信’的话，我们可以先把房子借给您。”然而，“诚信”早被年轻人丢进了海底。于是他又去了银行，想兑换岛上的纸币。“您的纸币我们没有见过。”银行工作人员笑眯眯地说，“请问您是否有‘诚信’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280" y="136440"/>
            <a:ext cx="8839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有的话，我们可以破例为您兑换。”年轻人无奈地摇了摇头，走出了银行。“难道我在‘快乐岛’上无法生活？”他想：不，我还有其他三个背曩，我可以靠它们寻找快乐！下定决心后，年轻人来到一家正在招聘人才的大公司。他自信地在主考官面前出示了“健康，才学，机敏，荣誉”这四个鼓鼓的背囊，主考官也非常满意这些。“那么，请问你有没有诚信呢？”最后主考官问了这样一个问题，这很重要吗？年轻人不解地问。主考官认真地说，在“快乐岛”上，诚信是最宝贵的财富。年轻人只好离开了这家公司。也许我不合适生活在这个岛上吧。年轻人所以想还是离开这儿吧。他又向来时的港口走去，忽然迎面走过来一个女孩，她是那样的清纯可爱，年轻人不禁对她一见钟情。他走到女孩面前，问他是否愿意和自己交朋友，并打开了出“金钱”外的其它五个背囊。“你有诚信吗？”女孩微笑着问道。“没有。”年轻人说，“不过，这五个已经足以弥补我缺少的诚信了。”女孩摇摇头，“你错了。虽然你很英俊，也有才华和学识，但如果没有诚信的话，就会成为一个不可靠的人。”女孩头也不回地走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280" y="495360"/>
            <a:ext cx="8839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轻人更加垂头丧气起来。“年轻人，你怎么有回来了？”在港口，送年轻人来的艄公问他。年轻人苦恼地说：“这个‘快乐岛’上干什么都要诚信，我待不下去了。艄公拍了拍他的肩膀，意味深长地说：“年轻人，其实不管在哪里，诚信都是必不可少的通行证。这个岛上人人都有诚信，所以他们才活得快乐。这也是‘快乐岛’名字的由来。我说过有弃有舍，有失有得，可你丢弃的恰恰是最宝贵的东西呀。”年轻人沉默了。他沉思了一会儿，忽然跳上船。“开船吧！艄公。”他望着远方，坚定地说。我要再去寻找一次诚信。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诚信，人与人之间不可缺少的东西，也是这个社会最重要的东西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5050"/>
                </a:solidFill>
                <a:latin typeface="Arial"/>
                <a:ea typeface="黑体"/>
              </a:rPr>
              <a:t>考试中你有以下方式证明你正直诚实：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即使没有老师监考，你也知道怎么做才合适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会多少答多少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不要作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ell</cp:lastModifiedBy>
  <dcterms:modified xsi:type="dcterms:W3CDTF">2010-06-24T02:22:5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