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  <p:custShowLst>
    <p:custShow name="自定义放映 1" id="0">
      <p:sldLst>
        <p:sld r:id="rId3"/>
        <p:sld r:id="rId4"/>
        <p:sld r:id="rId5"/>
        <p:sld r:id="rId6"/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7CF9-C60D-474A-BFDA-5C9E908B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B68-73D7-4FBC-8249-023DFF02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F923-87C5-42E9-B248-D7641CCF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3381-45B5-4F60-B13B-402431E9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A26-BC0A-4C75-8C4A-5EABE498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B914-2D09-4F5D-912B-1DD4CD19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09E-83FC-41DE-ACB4-45641C1D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48A-3676-4907-A059-98C5E985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4F8-93DC-41D6-A892-9AA9CE22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44A-9D45-42EB-8919-C824E91C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54F7-7B4C-46C0-83BF-FC112127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0D4F-0A2A-4405-8725-5AB083F4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7596-0EA8-42A7-AD2B-85EA8CD295A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48C4-6CE4-4132-B8E6-006F36E278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aa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79040" y="65880"/>
            <a:ext cx="6868800" cy="6673680"/>
            <a:chOff x="2579040" y="65880"/>
            <a:chExt cx="6868800" cy="6673680"/>
          </a:xfrm>
        </p:grpSpPr>
        <p:sp>
          <p:nvSpPr>
            <p:cNvPr id="42" name="六边形 23"/>
            <p:cNvSpPr/>
            <p:nvPr/>
          </p:nvSpPr>
          <p:spPr>
            <a:xfrm rot="2040000">
              <a:off x="3394080" y="1144440"/>
              <a:ext cx="5238720" cy="451656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六边形 16"/>
            <p:cNvSpPr/>
            <p:nvPr/>
          </p:nvSpPr>
          <p:spPr>
            <a:xfrm>
              <a:off x="3394080" y="1144440"/>
              <a:ext cx="5238720" cy="451656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26aadc"/>
                  </a:solidFill>
                  <a:latin typeface="Rockwell Std"/>
                  <a:ea typeface="宋体"/>
                </a:rPr>
                <a:t>诚信考试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26aadc"/>
                  </a:solidFill>
                  <a:latin typeface="Rockwell Std"/>
                  <a:ea typeface="宋体"/>
                </a:rPr>
                <a:t> </a:t>
              </a:r>
              <a:r>
                <a:rPr b="1" lang="zh-CN" sz="6600" spc="-1" strike="noStrike">
                  <a:solidFill>
                    <a:srgbClr val="26aadc"/>
                  </a:solidFill>
                  <a:latin typeface="Rockwell Std"/>
                  <a:ea typeface="宋体"/>
                </a:rPr>
                <a:t>从我做起</a:t>
              </a:r>
              <a:r>
                <a:rPr b="1" lang="zh-CN" sz="1600" spc="-1" strike="noStrike">
                  <a:solidFill>
                    <a:srgbClr val="26aadc"/>
                  </a:solidFill>
                  <a:latin typeface="Rockwell Std"/>
                  <a:ea typeface="宋体"/>
                </a:rPr>
                <a:t>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矩形 25"/>
          <p:cNvSpPr/>
          <p:nvPr/>
        </p:nvSpPr>
        <p:spPr>
          <a:xfrm rot="2700000">
            <a:off x="10269000" y="490680"/>
            <a:ext cx="236412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aadc"/>
                </a:solidFill>
                <a:latin typeface="方正兰亭粗黑简体"/>
                <a:ea typeface="方正兰亭粗黑简体"/>
              </a:rPr>
              <a:t>主题</a:t>
            </a:r>
            <a:r>
              <a:rPr b="0" lang="zh-CN" sz="1800" spc="-1" strike="noStrike">
                <a:solidFill>
                  <a:srgbClr val="26aadc"/>
                </a:solidFill>
                <a:latin typeface="方正兰亭粗黑简体"/>
                <a:ea typeface="方正兰亭粗黑简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52440" y="-1135080"/>
            <a:ext cx="13479480" cy="7230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92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343080"/>
            <a:ext cx="12192120" cy="7201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181400" y="1990800"/>
            <a:ext cx="3838680" cy="2876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-757080"/>
            <a:ext cx="12192120" cy="761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d2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9160" y="-256320"/>
            <a:ext cx="6710400" cy="5013000"/>
            <a:chOff x="29160" y="-256320"/>
            <a:chExt cx="6710400" cy="5013000"/>
          </a:xfrm>
        </p:grpSpPr>
        <p:sp>
          <p:nvSpPr>
            <p:cNvPr id="46" name="六边形 2"/>
            <p:cNvSpPr/>
            <p:nvPr/>
          </p:nvSpPr>
          <p:spPr>
            <a:xfrm rot="1500000">
              <a:off x="301320" y="921960"/>
              <a:ext cx="6165720" cy="2656080"/>
            </a:xfrm>
            <a:prstGeom prst="hexagon">
              <a:avLst>
                <a:gd name="adj" fmla="val 50027"/>
                <a:gd name="vf" fmla="val 115470"/>
              </a:avLst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六边形 3"/>
            <p:cNvSpPr/>
            <p:nvPr/>
          </p:nvSpPr>
          <p:spPr>
            <a:xfrm rot="21060000">
              <a:off x="301320" y="921960"/>
              <a:ext cx="6165720" cy="2656080"/>
            </a:xfrm>
            <a:prstGeom prst="hexagon">
              <a:avLst>
                <a:gd name="adj" fmla="val 50027"/>
                <a:gd name="vf" fmla="val 115470"/>
              </a:avLst>
            </a:prstGeom>
            <a:solidFill>
              <a:srgbClr val="fffff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9bd5"/>
                  </a:solidFill>
                  <a:latin typeface="Arial"/>
                  <a:ea typeface="宋体"/>
                </a:rPr>
                <a:t>诚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00"/>
                  </a:solidFill>
                  <a:latin typeface="Arial"/>
                </a:rPr>
                <a:t>诚信是一个道德范畴是公民的第二个“身份证”是日常行为的诚实和正式交流的信用的合称。即待人处事真诚、老实、讲信誉言必信、行必果一言九鼎一诺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矩形 4"/>
          <p:cNvSpPr/>
          <p:nvPr/>
        </p:nvSpPr>
        <p:spPr>
          <a:xfrm rot="2700000">
            <a:off x="10596600" y="218520"/>
            <a:ext cx="236376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32b2b"/>
                </a:solidFill>
                <a:latin typeface="方正兰亭粗黑简体"/>
                <a:ea typeface="方正兰亭粗黑简体"/>
              </a:rPr>
              <a:t>人人有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440000" y="2806920"/>
            <a:ext cx="6140160" cy="4316040"/>
            <a:chOff x="1440000" y="2806920"/>
            <a:chExt cx="6140160" cy="4316040"/>
          </a:xfrm>
        </p:grpSpPr>
        <p:sp>
          <p:nvSpPr>
            <p:cNvPr id="50" name="六边形 6"/>
            <p:cNvSpPr/>
            <p:nvPr/>
          </p:nvSpPr>
          <p:spPr>
            <a:xfrm rot="1380000">
              <a:off x="1655640" y="3831840"/>
              <a:ext cx="5708880" cy="2265480"/>
            </a:xfrm>
            <a:prstGeom prst="hexagon">
              <a:avLst>
                <a:gd name="adj" fmla="val 54307"/>
                <a:gd name="vf" fmla="val 115470"/>
              </a:avLst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六边形 7"/>
            <p:cNvSpPr/>
            <p:nvPr/>
          </p:nvSpPr>
          <p:spPr>
            <a:xfrm rot="20940000">
              <a:off x="1655280" y="3832200"/>
              <a:ext cx="5708880" cy="2265480"/>
            </a:xfrm>
            <a:prstGeom prst="hexagon">
              <a:avLst>
                <a:gd name="adj" fmla="val 54307"/>
                <a:gd name="vf" fmla="val 115470"/>
              </a:avLst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32b2b"/>
                  </a:solidFill>
                  <a:latin typeface="Arial"/>
                  <a:ea typeface="宋体"/>
                </a:rPr>
                <a:t>考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e85a0"/>
                  </a:solidFill>
                  <a:latin typeface="Arial"/>
                </a:rPr>
                <a:t>考试是一种严格的知识水平鉴定方法。为了保证结果的公平考场必须要求有很强的纪律约束并且专门设有主考、监考等监督考试过程。绝对禁止任何舞弊行为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678280" y="-417960"/>
            <a:ext cx="7000560" cy="7038000"/>
            <a:chOff x="5678280" y="-417960"/>
            <a:chExt cx="7000560" cy="7038000"/>
          </a:xfrm>
        </p:grpSpPr>
        <p:sp>
          <p:nvSpPr>
            <p:cNvPr id="53" name="六边形 9"/>
            <p:cNvSpPr/>
            <p:nvPr/>
          </p:nvSpPr>
          <p:spPr>
            <a:xfrm rot="2820000">
              <a:off x="6505200" y="807840"/>
              <a:ext cx="5346720" cy="4586040"/>
            </a:xfrm>
            <a:prstGeom prst="hexagon">
              <a:avLst>
                <a:gd name="adj" fmla="val 25125"/>
                <a:gd name="vf" fmla="val 115470"/>
              </a:avLst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六边形 10"/>
            <p:cNvSpPr/>
            <p:nvPr/>
          </p:nvSpPr>
          <p:spPr>
            <a:xfrm rot="780000">
              <a:off x="6505200" y="808200"/>
              <a:ext cx="5346720" cy="4586040"/>
            </a:xfrm>
            <a:prstGeom prst="hexagon">
              <a:avLst>
                <a:gd name="adj" fmla="val 25125"/>
                <a:gd name="vf" fmla="val 115470"/>
              </a:avLst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"/>
                  <a:ea typeface="宋体"/>
                </a:rPr>
                <a:t>对考试作弊学生的处罚规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00"/>
                  </a:solidFill>
                  <a:latin typeface="Arial"/>
                </a:rPr>
                <a:t>考核作弊作弊学生该门课程本次考核成绩按零分计不安排正常重考须重修。幵视情节轻重给予留校察看戒开除学籍处分。受留校察看处分的学生经考察一年以上德行优良经本人申请由学校审批可予以解除留校察看处分。作弊行为情节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37BA-753D-4A4F-98DD-177EAF9ACDA5}" type="slidenum">
              <a:t>2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aa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25"/>
          <p:cNvSpPr/>
          <p:nvPr/>
        </p:nvSpPr>
        <p:spPr>
          <a:xfrm rot="2700000">
            <a:off x="10639440" y="247320"/>
            <a:ext cx="236376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aadc"/>
                </a:solidFill>
                <a:latin typeface="方正兰亭粗黑简体"/>
                <a:ea typeface="方正兰亭粗黑简体"/>
              </a:rPr>
              <a:t>开心漫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0600" y="241200"/>
            <a:ext cx="4952880" cy="3505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504120" y="228600"/>
            <a:ext cx="4951440" cy="3503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360600" y="3498840"/>
            <a:ext cx="4953240" cy="350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42840" y="0"/>
            <a:ext cx="6095880" cy="6858000"/>
          </a:xfrm>
          <a:prstGeom prst="rect">
            <a:avLst/>
          </a:prstGeom>
          <a:solidFill>
            <a:srgbClr val="26a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2c2c"/>
                </a:solidFill>
                <a:latin typeface="宋体"/>
                <a:ea typeface="宋体"/>
              </a:rPr>
              <a:t>诚信小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有一个士兵，非常不善于长跑。所以在一次部队的越野赛中很快就远落人后，一个人孤零零地跑着。转过了几道弯，遇到了一个岔路口，一条路：标明是军官跑的而另一条路，标明是士兵跑的小径。他停顿了一下，虽然对做军官连越野赛都有便宜可沾感到不满，但是仍然朝着士兵的小径跑去。没想到过了半个小时后到达终点，却是名列第一。他感到不可恩议。自己从来没有取得过名次不说连前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50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名也没有跑过。但是主持赛跑的军官笑着恭喜他取得了比赛的胜利。过了几个钟头后大批人马到了，他们跑得筋疲力尽，看见他赢得了胜利也觉得奇怪。但是突然大家醒悟过来在岔路口诚实守信是多么重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6053040" y="0"/>
            <a:ext cx="6096240" cy="6858000"/>
          </a:xfrm>
          <a:prstGeom prst="rect">
            <a:avLst/>
          </a:prstGeom>
          <a:solidFill>
            <a:srgbClr val="e98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9"/>
          <p:cNvSpPr/>
          <p:nvPr/>
        </p:nvSpPr>
        <p:spPr>
          <a:xfrm>
            <a:off x="6407280" y="352440"/>
            <a:ext cx="52369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张海山锐线体2.0"/>
                <a:ea typeface="张海山锐线体2.0"/>
              </a:rPr>
              <a:t>名言警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人而无信</a:t>
            </a: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,</a:t>
            </a: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不知其可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君子养心莫善于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言必信</a:t>
            </a:r>
            <a:r>
              <a:rPr b="1" lang="zh-CN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，</a:t>
            </a: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行必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生来一诺比黄金</a:t>
            </a:r>
            <a:r>
              <a:rPr b="1" lang="zh-CN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，</a:t>
            </a: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那肯风尘负此心</a:t>
            </a:r>
            <a:r>
              <a:rPr b="1" lang="zh-CN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人无信不立</a:t>
            </a:r>
            <a:r>
              <a:rPr b="1" lang="zh-CN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，</a:t>
            </a: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家无信不睦</a:t>
            </a:r>
            <a:r>
              <a:rPr b="1" lang="zh-CN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，</a:t>
            </a: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业无信不兴</a:t>
            </a:r>
            <a:r>
              <a:rPr b="1" lang="zh-CN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，</a:t>
            </a: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国无信不宁</a:t>
            </a:r>
            <a:r>
              <a:rPr b="1" lang="zh-CN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人无诚信</a:t>
            </a:r>
            <a:r>
              <a:rPr b="1" lang="zh-CN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，</a:t>
            </a: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好景不长</a:t>
            </a:r>
            <a:r>
              <a:rPr b="1" lang="zh-CN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以诚实守信为荣</a:t>
            </a:r>
            <a:r>
              <a:rPr b="1" lang="zh-CN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，</a:t>
            </a: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以见利忘义为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一个诚信缺失的人是树立不起伟大形象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2"/>
          <p:cNvSpPr/>
          <p:nvPr/>
        </p:nvSpPr>
        <p:spPr>
          <a:xfrm rot="2700000">
            <a:off x="10611000" y="247320"/>
            <a:ext cx="236376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32b2b"/>
                </a:solidFill>
                <a:latin typeface="方正兰亭粗黑简体"/>
                <a:ea typeface="方正兰亭粗黑简体"/>
              </a:rPr>
              <a:t>内容简介</a:t>
            </a:r>
            <a:r>
              <a:rPr b="0" lang="zh-CN" sz="1800" spc="-1" strike="noStrike">
                <a:solidFill>
                  <a:srgbClr val="e982a7"/>
                </a:solidFill>
                <a:latin typeface="方正兰亭粗黑简体"/>
                <a:ea typeface="方正兰亭粗黑简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952160" y="4952520"/>
            <a:ext cx="2253960" cy="2091960"/>
            <a:chOff x="4952160" y="4952520"/>
            <a:chExt cx="2253960" cy="2091960"/>
          </a:xfrm>
        </p:grpSpPr>
        <p:sp>
          <p:nvSpPr>
            <p:cNvPr id="64" name="六边形 14"/>
            <p:cNvSpPr/>
            <p:nvPr/>
          </p:nvSpPr>
          <p:spPr>
            <a:xfrm rot="2040000">
              <a:off x="5146200" y="5365800"/>
              <a:ext cx="1865520" cy="1265040"/>
            </a:xfrm>
            <a:prstGeom prst="hexagon">
              <a:avLst>
                <a:gd name="adj" fmla="val 31780"/>
                <a:gd name="vf" fmla="val 115470"/>
              </a:avLst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六边形 15"/>
            <p:cNvSpPr/>
            <p:nvPr/>
          </p:nvSpPr>
          <p:spPr>
            <a:xfrm>
              <a:off x="5146560" y="5365800"/>
              <a:ext cx="1865520" cy="1265040"/>
            </a:xfrm>
            <a:prstGeom prst="hexagon">
              <a:avLst>
                <a:gd name="adj" fmla="val 31780"/>
                <a:gd name="vf" fmla="val 115470"/>
              </a:avLst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22c2c"/>
                  </a:solidFill>
                  <a:latin typeface="张海山锐线体2.0"/>
                  <a:ea typeface="张海山锐线体2.0"/>
                </a:rPr>
                <a:t>展示风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aa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椭圆 8"/>
          <p:cNvSpPr/>
          <p:nvPr/>
        </p:nvSpPr>
        <p:spPr>
          <a:xfrm>
            <a:off x="4192560" y="1638360"/>
            <a:ext cx="3505320" cy="3506760"/>
          </a:xfrm>
          <a:prstGeom prst="ellipse">
            <a:avLst/>
          </a:prstGeom>
          <a:solidFill>
            <a:srgbClr val="f5d28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73480" y="1712880"/>
            <a:ext cx="3502080" cy="3416400"/>
            <a:chOff x="4173480" y="1712880"/>
            <a:chExt cx="3502080" cy="3416400"/>
          </a:xfrm>
        </p:grpSpPr>
        <p:sp>
          <p:nvSpPr>
            <p:cNvPr id="68" name="椭圆 1"/>
            <p:cNvSpPr/>
            <p:nvPr/>
          </p:nvSpPr>
          <p:spPr>
            <a:xfrm>
              <a:off x="4173480" y="1712880"/>
              <a:ext cx="3502080" cy="3416400"/>
            </a:xfrm>
            <a:prstGeom prst="ellipse">
              <a:avLst/>
            </a:prstGeom>
            <a:solidFill>
              <a:srgbClr val="f5d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0" spc="-1" strike="noStrike">
                  <a:solidFill>
                    <a:srgbClr val="ffff00"/>
                  </a:solidFill>
                  <a:latin typeface="方正细谭黑简体"/>
                  <a:ea typeface="方正细谭黑简体"/>
                </a:rPr>
                <a:t>诚</a:t>
              </a:r>
              <a:endParaRPr b="0" lang="en-US" sz="20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文本框 2"/>
            <p:cNvSpPr/>
            <p:nvPr/>
          </p:nvSpPr>
          <p:spPr>
            <a:xfrm>
              <a:off x="5281560" y="2085120"/>
              <a:ext cx="129240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图片 4" descr=""/>
          <p:cNvPicPr/>
          <p:nvPr/>
        </p:nvPicPr>
        <p:blipFill>
          <a:blip r:embed="rId1"/>
          <a:stretch/>
        </p:blipFill>
        <p:spPr>
          <a:xfrm rot="20646600">
            <a:off x="9574200" y="136080"/>
            <a:ext cx="1738440" cy="1231920"/>
          </a:xfrm>
          <a:prstGeom prst="rect">
            <a:avLst/>
          </a:prstGeom>
          <a:ln w="0">
            <a:noFill/>
          </a:ln>
        </p:spPr>
      </p:pic>
      <p:sp>
        <p:nvSpPr>
          <p:cNvPr id="71" name="直接连接符 7"/>
          <p:cNvSpPr/>
          <p:nvPr/>
        </p:nvSpPr>
        <p:spPr>
          <a:xfrm flipV="1">
            <a:off x="5819760" y="930240"/>
            <a:ext cx="4451400" cy="681120"/>
          </a:xfrm>
          <a:prstGeom prst="line">
            <a:avLst/>
          </a:prstGeom>
          <a:ln w="6480">
            <a:solidFill>
              <a:srgbClr val="f5d2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0"/>
          <p:cNvSpPr/>
          <p:nvPr/>
        </p:nvSpPr>
        <p:spPr>
          <a:xfrm flipV="1">
            <a:off x="7562880" y="901800"/>
            <a:ext cx="2881440" cy="2565360"/>
          </a:xfrm>
          <a:prstGeom prst="line">
            <a:avLst/>
          </a:prstGeom>
          <a:ln w="6480">
            <a:solidFill>
              <a:srgbClr val="f5d2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2"/>
          <p:cNvSpPr/>
          <p:nvPr/>
        </p:nvSpPr>
        <p:spPr>
          <a:xfrm flipH="1" rot="18900000">
            <a:off x="-730080" y="278280"/>
            <a:ext cx="2360160" cy="361800"/>
          </a:xfrm>
          <a:prstGeom prst="rect">
            <a:avLst/>
          </a:prstGeom>
          <a:solidFill>
            <a:srgbClr val="f5d2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aadc"/>
                </a:solidFill>
                <a:latin typeface="方正兰亭粗黑简体"/>
                <a:ea typeface="方正兰亭粗黑简体"/>
              </a:rPr>
              <a:t>诚信天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05400" y="1925640"/>
            <a:ext cx="424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2c2c"/>
                </a:solidFill>
                <a:latin typeface="Arial"/>
                <a:ea typeface="宋体"/>
              </a:rPr>
              <a:t>The good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2243160"/>
            <a:ext cx="14628960" cy="9215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1135080"/>
            <a:ext cx="12192120" cy="7373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38120" y="-1933560"/>
            <a:ext cx="10982520" cy="9515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257040"/>
            <a:ext cx="13574880" cy="703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23:23:00Z</dcterms:created>
  <dc:creator>demon</dc:creator>
  <dc:description/>
  <cp:keywords/>
  <dc:language>en-US</dc:language>
  <cp:lastModifiedBy>未知用户</cp:lastModifiedBy>
  <dcterms:modified xsi:type="dcterms:W3CDTF">2015-12-03T02:21:57Z</dcterms:modified>
  <cp:revision>4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