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0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362-476B-4422-BE2C-14034F8F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6D4-BD35-4056-8AED-A5B0B4D4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919-8D9D-4047-A37C-DEFD5CDD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BF2-9BB2-4DCA-B275-4513ED29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3DF2-8DB0-4CC2-ACE1-16F9228C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5DD-C5F4-4810-9B9F-32C0C1B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DCDA-5B65-4207-9D8C-4D1944EC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3B20-32CB-444E-9424-6C0AD37C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B058-C83B-43BF-98DC-4FE971D0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9BDA-F132-4045-AA27-E3DBD7F6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B9DA-FC9A-44DC-A061-CDEED618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264-55C0-4E6B-9DF1-47A8064C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B0DF-D637-4901-BBFD-DE6D79E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98F9-38ED-4834-91D3-56170AC1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F775-017E-42BE-A335-55CEFBF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BFAD-AAE0-47B9-9BBA-25E755BA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C4F2-34E0-465B-9BAC-2F3C7776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F51-FA99-45FF-80C0-03BD22A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1B4-7A7F-4CBA-95C1-07A3055D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592D-6AFB-4747-8479-E9553831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960-4849-447E-8F6D-323E7458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6D4-53D2-4EE4-B580-7A65AB1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4C5-3C64-4AC7-A2BB-F8749CF6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CE1-0561-43BB-B5C7-4940E81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31" name="未知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A172-CE20-41A0-AFCD-262959FA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863E-2923-48FD-93BB-E06A753D2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684360" y="2205000"/>
            <a:ext cx="7200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金</a:t>
            </a:r>
            <a:r>
              <a:rPr b="0" lang="zh-CN" sz="15000" spc="-1" strike="noStrike">
                <a:solidFill>
                  <a:srgbClr val="000000"/>
                </a:solidFill>
                <a:latin typeface="Comic Sans MS"/>
                <a:ea typeface="长城行楷体"/>
              </a:rPr>
              <a:t>诚</a:t>
            </a:r>
            <a:r>
              <a:rPr b="0" lang="zh-CN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所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金石为</a:t>
            </a:r>
            <a:r>
              <a:rPr b="0" lang="zh-CN" sz="9600" spc="-1" strike="noStrike">
                <a:solidFill>
                  <a:srgbClr val="f6ceeb"/>
                </a:solidFill>
                <a:latin typeface="Comic Sans MS"/>
                <a:ea typeface="长城行楷体"/>
              </a:rPr>
              <a:t>开</a:t>
            </a:r>
            <a:r>
              <a:rPr b="0" lang="en-US" sz="9600" spc="-1" strike="noStrike">
                <a:solidFill>
                  <a:srgbClr val="cc0000"/>
                </a:solidFill>
                <a:latin typeface="Comic Sans MS"/>
                <a:ea typeface="长城行楷体"/>
              </a:rPr>
              <a:t>…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1828800"/>
            <a:ext cx="6400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191040" y="5164200"/>
            <a:ext cx="1676160" cy="12747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2209680" y="1447920"/>
            <a:ext cx="466884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言而有信　一诺千金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22280" y="3227400"/>
            <a:ext cx="66834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能说出“一诺千金”的由来吗？</a:t>
            </a:r>
            <a:endParaRPr b="1" lang="en-US" sz="24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476360" y="2708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于《史记》。季布是楚国的义士，他生性耿直，乐善好施，特别是他答应过的事情，无论困难再大，他都一定要设法办好，所以深受当时人们的赞誉。当时有个叫曹邱生的人，特地去见季布。并说：“我听楚人说过：得到百斤黄金，也抵不上季布的一个诺言。” 后来，人们把这个故事概括为“一诺千金”，用来比喻重视诺言，说话算数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2060640"/>
            <a:ext cx="7238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523880" y="380880"/>
            <a:ext cx="197172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1219320"/>
            <a:ext cx="389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诺千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8680" y="217476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"/>
              </a:rPr>
              <a:t>立木为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8360" y="404640"/>
            <a:ext cx="68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秋战国时，秦国的商鞅在秦孝公的支持下主持变法。当时处于战争频繁、人心惶惶之际，为了树立威信，推进改革，商鞅下令在都城南门外立一根三丈长的木头，并当众许下诺言：谁能把这根木头搬到北门，赏金十两。围观的人不相信如此轻而易举的事能得到如此高的赏赐，结果没人肯出手一试。于是，商鞅将赏金提高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。重赏之下必有勇夫，终于有人站起将木头扛到了北门。商鞅立即赏了他五十金。商鞅这一举动，在百姓心中树立起了威信，而商鞅接下来的变法就很快在秦国推广开了。新法使秦国渐渐强盛，最终统一了中国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120320" y="54828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烽火戏诸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0920" y="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样在商鞅“立木为信”的地方，在早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以前，却曾发生过一场令人啼笑皆非的“烽火戏诸侯”的闹剧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周幽王有个宠妃叫褒姒，为博取她的一笑，周幽王下令在都城附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座烽火台上点起烽火——烽火是边关报警的信号，只有在外敌入侵需召诸侯来救援的时候才能点燃。结果诸侯们见到烽火，率领兵将们匆匆赶到，弄明白这是君王为博妻一笑的花招后又愤然离去。褒姒看到平日威仪赫赫的诸侯们手足无措的样子，终于开心一笑。五年后，酉夷太戎大举攻周，幽王烽火再燃而诸侯未到——谁也不愿再上第二次当了。结果幽王被逼自刎而褒姒也被俘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55640" y="119700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cc"/>
                </a:solidFill>
                <a:latin typeface="Times New Roman"/>
                <a:ea typeface="楷体"/>
              </a:rPr>
              <a:t>立木为信与烽火戏诸候的对比事例说明了什么</a:t>
            </a:r>
            <a:r>
              <a:rPr b="1" lang="zh-CN" sz="4800" spc="-1" strike="noStrike">
                <a:solidFill>
                  <a:srgbClr val="0066cc"/>
                </a:solidFill>
                <a:latin typeface="Times New Roman"/>
                <a:ea typeface="华文行楷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-250920" y="0"/>
            <a:ext cx="1675080" cy="19810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1476360" y="0"/>
            <a:ext cx="1971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/>
          <p:nvPr/>
        </p:nvSpPr>
        <p:spPr>
          <a:xfrm>
            <a:off x="539640" y="2922480"/>
            <a:ext cx="817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一个“立木取信”，一诺千金；一个帝王无信，戏玩“狼来了”的游戏。结果前者变法成功，国强势壮；后者自取其辱，身死国亡。可见，“信”对一个国家的兴衰存亡都起着非常重要的作用。中国自古就有“民惟邦本，本固邦宁”、“得民心者得天下，失民心者失天下”的明训，还有“水可载舟亦可覆舟”之说，唐代魏征把诚信说成是“国之大纲”，可见“诚信”之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990720" y="1905120"/>
            <a:ext cx="7010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现实中一些不诚信的行为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115320" cy="45500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1219320" y="1141560"/>
            <a:ext cx="6553080" cy="46846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1143000" y="1096920"/>
            <a:ext cx="6705720" cy="49370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1042920" y="98100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-74520" y="0"/>
            <a:ext cx="921852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419640" y="2349360"/>
            <a:ext cx="57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如果世界失去诚信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480680" y="-392040"/>
            <a:ext cx="16434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三 篇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762120" y="26668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假如你的同学、老师、医生、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警察、司机、父母、邻居</a:t>
            </a:r>
            <a:r>
              <a:rPr b="0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...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都不正直、诚实</a:t>
            </a:r>
            <a:r>
              <a:rPr b="0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后果会</a:t>
            </a:r>
            <a:r>
              <a:rPr b="0" lang="en-US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?</a:t>
            </a:r>
            <a:endParaRPr b="0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66" name=""/>
          <p:cNvSpPr/>
          <p:nvPr/>
        </p:nvSpPr>
        <p:spPr>
          <a:xfrm>
            <a:off x="4331160" y="304920"/>
            <a:ext cx="8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Times New Roman"/>
              </a:rPr>
              <a:t>世界将充满虚伪和欺骗、不公和悲惨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33520" y="1066680"/>
            <a:ext cx="556236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信请看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42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2556000" y="4437000"/>
            <a:ext cx="6588000" cy="15843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级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班</a:t>
            </a: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楷体"/>
              </a:rPr>
              <a:t>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教育主题班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451560" y="1146240"/>
            <a:ext cx="23749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如果遇到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规则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司机，很容易发生这种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238880" cy="53341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219320" y="228600"/>
            <a:ext cx="678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又或者是行人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规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也会发生这种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2590920"/>
            <a:ext cx="655344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574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705720" cy="24382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609480" y="2819520"/>
            <a:ext cx="8001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术后化疗竟要人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１９９９年９月，李珍（化名）在广州市十二人民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医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甲状腺癌根治术，术后因院方在</a:t>
            </a:r>
            <a:r>
              <a:rPr b="1" lang="zh-CN" sz="2800" spc="-1" strike="noStrike">
                <a:solidFill>
                  <a:srgbClr val="0066cc"/>
                </a:solidFill>
                <a:latin typeface="Tahoma"/>
              </a:rPr>
              <a:t>无消毒隔离或进入洁净病房、无进行必要的各项检查、无强有力的预防感染措施、无干细胞支持等情况下，对李珍施予超常规剂量数倍的化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致李珍出现严重的感染性休克、内出血、全身衰竭，于１９９９年１０月１４日在医院</a:t>
            </a:r>
            <a:r>
              <a:rPr b="1" lang="zh-CN" sz="2800" spc="-1" strike="noStrike">
                <a:solidFill>
                  <a:srgbClr val="fc0a04"/>
                </a:solidFill>
                <a:latin typeface="Tahoma"/>
              </a:rPr>
              <a:t>死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82880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医生医德若有问题，你敢进医院治病吗？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981080" y="7621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中国留学生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德国某出名大学毕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想留在德国就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按他的成绩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应该不难在大公司找到高薪水的职位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过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去了几家公司面试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人家都很客气地据绝了他…后来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间小公司也是如此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忍不住问为什么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后来才知道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招聘单位按他的名字在网上查找他的资料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e40000"/>
                </a:solidFill>
                <a:latin typeface="Times New Roman"/>
              </a:rPr>
              <a:t>发现他在德国读书期间有三次乘电车逃票的记录</a:t>
            </a:r>
            <a:r>
              <a:rPr b="1" lang="en-US" sz="2700" spc="-1" strike="noStrike">
                <a:solidFill>
                  <a:srgbClr val="e4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认为他人品有问题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诚实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而一个公司的员工如果不具备诚信的话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这间公司是无法经营下去的…所以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143000" y="5181480"/>
            <a:ext cx="624852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人不诚信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往往会因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失大</a:t>
            </a:r>
            <a:r>
              <a:rPr b="0" lang="en-US" sz="3200" spc="-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3200" spc="-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175248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小事”不诚信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留学生的求职遭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684360" y="33336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原来，生活的平安、顺利</a:t>
            </a:r>
            <a:endParaRPr b="0" lang="en-US" sz="2400" spc="-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和美好</a:t>
            </a:r>
            <a:r>
              <a:rPr b="0" lang="en-US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离不开人们的诚信</a:t>
            </a:r>
            <a:r>
              <a:rPr b="0" lang="en-US" sz="24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-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"/>
          <p:cNvSpPr/>
          <p:nvPr/>
        </p:nvSpPr>
        <p:spPr>
          <a:xfrm>
            <a:off x="1474560" y="4005360"/>
            <a:ext cx="359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值得庆幸的是，这个世上绝大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数人都是相当诚信的，如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我们这一代能更诚信，那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会更美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业水平考试上升为国考，严肃考风考纪，确保考试公信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严禁考生出现替考、雷同卷、携带手机、交头接耳等作弊现象。考试过程中不许提前交卷，禁止中途上厕所，禁止提前离开考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各班强化对学生的教育。作弊考生（包括替考者、被替考者）记入个人诚信档案、记入个人综合素质评价。直接影响个人今后的工作录用、银行贷款信誉、出国留学旅游等，影响高校对考生的录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班级大量出现作弊学生要追究班主任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考及格分不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划线，及格率非常高，只要不作弊，凡认真作答者基本都能及格。万一不及格也不影响上大学，今后还有补考的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新形势下国家高度重视“以德树人”，提升全体国民诚信度。凡在考试中作弊、舞弊的学生和工作人员就要付出代价，全体学生和老师保持头脑清醒，认清形势，不做国家不允许做的事，不当眼前国家考试改革的牺牲品。所有人员必须学会因为自己的疏忽而承担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诚信考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替考属重大违纪行为，一旦查实将禁止参加高考。考试期间各班严控班级学生，禁止无重考学科学生在考试时间离开教室，班主任提前做好统计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所有学生在市教育局统一印制的《告知书》上签写：班级和姓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三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  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**  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后以班级为单位交到级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419640" y="206064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诚信格言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摘录共勉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480680" y="243000"/>
            <a:ext cx="16434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五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153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而无信，不知其可也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言既出，驷马难追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论语 颜渊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两重的真诚，其值等于一吨重的聪明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德国谚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正直地生活，别想入非非！要诚实地工作，才能前程远大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陀思妥耶夫斯基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蚜虫吃青草，锈吃铁，虚伪吃灵魂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契诃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应该老老实实地办事。 ———毛泽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讲诚信的人，是可悲的、可怜的、可恨的，也是可怕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不可能从谎言中开出灿烂的鲜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起诚信校园，树起诚信学风，成为诚信学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3680" y="259920"/>
            <a:ext cx="2879640" cy="1089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活动目的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6280" y="1771200"/>
            <a:ext cx="7837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懂得诚实守信是中华民族的传统美德，现代社会更需要诚实守信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反对虚假和不守信用的行为，反省自己不诚实不守信的行为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做一个诚信的小公民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增强自信，努力做到说话做事实实在在，表里如一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诚信考试，做文明考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419640" y="206064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诚信宣誓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立志诚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480680" y="243000"/>
            <a:ext cx="16434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六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4842000" y="1989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3640" y="855720"/>
            <a:ext cx="54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宣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言必行，行必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知之为知之，不知为不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以诚信换取诚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以诚信收获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用诚信开启知识之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用诚信鼓起上进之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诚信，我光荣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诚信，我自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我诚信，我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8720" y="323856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 rot="5272800">
            <a:off x="-1466640" y="269856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宋体"/>
              </a:rPr>
              <a:t>诚信宣誓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宋体"/>
              <a:ea typeface="宋体"/>
            </a:endParaRPr>
          </a:p>
        </p:txBody>
      </p:sp>
      <p:sp>
        <p:nvSpPr>
          <p:cNvPr id="606" name=""/>
          <p:cNvSpPr/>
          <p:nvPr/>
        </p:nvSpPr>
        <p:spPr>
          <a:xfrm>
            <a:off x="248436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258920" y="189000"/>
            <a:ext cx="5522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弘扬民族精神 做诚实守信学生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什么是诚信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一个道德范畴，是公民的第二个“身份证”，是日常行为的诚实和正式交流的信用的合称。即待人处事真诚、老实、讲信誉，言必信、行必果，一言九鼎，一诺千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27600" y="549360"/>
            <a:ext cx="789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哈佛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00720" y="1413000"/>
            <a:ext cx="2498760" cy="235404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真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65920" y="3860640"/>
            <a:ext cx="317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哈佛大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校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哈佛大学是世界上最著名的大学之一，这所学校把“真理”作为校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在哈佛大学的校门和建筑物上都刻了一个拉丁文单词“真理”，这个词代表了“真相、诚实和正直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正门上还刻了一句话：“真理之门只会向那些正直的民族开放。”意思是说，在这个世界上那些不诚实的人是没有出路的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419640" y="2349360"/>
            <a:ext cx="57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什么是诚信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1480680" y="1052640"/>
            <a:ext cx="16434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一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5748120" y="-209520"/>
            <a:ext cx="91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信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72640" y="1143000"/>
            <a:ext cx="789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实，守信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52080" y="476280"/>
            <a:ext cx="60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现代汉语词典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28640" y="160344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何  为  诚  信 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46240" y="5154480"/>
            <a:ext cx="762120" cy="722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749960" y="836640"/>
            <a:ext cx="667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俗表述，就是说老实话、办老实事、做老实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75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5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75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75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75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780000" y="170028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阅读故事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感悟诚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7640" y="907920"/>
            <a:ext cx="3106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二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10:25Z</dcterms:created>
  <dc:creator>teacher</dc:creator>
  <dc:description/>
  <dc:language>en-US</dc:language>
  <cp:lastModifiedBy>微软用户</cp:lastModifiedBy>
  <dcterms:modified xsi:type="dcterms:W3CDTF">2015-11-25T07:13:19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