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205-5815-4983-B5F9-23B539F8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BAC-C952-46C8-90DE-5F7146FD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F26-044E-4908-8C92-CC107FE1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940-A3FE-4B37-9F0A-3C878E22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DBA-682F-44EF-8D81-36EFC84E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58C-447F-4AD3-80C8-2A16115A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700-47F2-4609-B209-4946BB43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F8C-4DEC-4E10-8987-C1108B53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343-3632-4818-8B1C-3E6079C3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B2B-CE36-43ED-8499-B2FEF215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69B-62FA-45A3-9CF6-FF89B4C9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627-67C4-4F0A-897C-D906BD9C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D61B-C744-437B-A5CB-4DC11369DE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1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19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1523880"/>
            <a:ext cx="5257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2b47d1"/>
                    </a:gs>
                    <a:gs pos="50000">
                      <a:srgbClr val="cc3300"/>
                    </a:gs>
                    <a:gs pos="100000">
                      <a:srgbClr val="2b47d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《曹刿论战》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2b47d1"/>
                  </a:gs>
                  <a:gs pos="50000">
                    <a:srgbClr val="cc3300"/>
                  </a:gs>
                  <a:gs pos="100000">
                    <a:srgbClr val="2b47d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/>
          <p:nvPr/>
        </p:nvSpPr>
        <p:spPr>
          <a:xfrm>
            <a:off x="6084720" y="2421000"/>
            <a:ext cx="2368800" cy="916920"/>
          </a:xfrm>
          <a:prstGeom prst="rect">
            <a:avLst/>
          </a:prstGeom>
          <a:gradFill rotWithShape="0">
            <a:gsLst>
              <a:gs pos="0">
                <a:srgbClr val="ecc580"/>
              </a:gs>
              <a:gs pos="50000">
                <a:srgbClr val="ffffff"/>
              </a:gs>
              <a:gs pos="100000">
                <a:srgbClr val="ecc5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c0c02"/>
                </a:solidFill>
                <a:latin typeface="Times New Roman"/>
                <a:ea typeface="幼圆"/>
              </a:rPr>
              <a:t>复习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378936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f0501"/>
                </a:solidFill>
                <a:latin typeface="Times New Roman"/>
                <a:ea typeface="隶书"/>
              </a:rPr>
              <a:t>《左传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000000"/>
              </a:solidFill>
              <a:latin typeface="Times New Roman"/>
              <a:ea typeface="黑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106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出自本文的成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鼓作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再衰三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彼竭我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辙乱旗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438280"/>
            <a:ext cx="8077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后比喻趁尽头大时一下子把事情做完，不间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3429000"/>
            <a:ext cx="8077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后多指士气越来越低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5562720"/>
            <a:ext cx="8077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后形容军队溃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49568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对方士气已枯竭，我方士气正旺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0" y="243828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60" y="98100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十年春，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我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公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将战。曹刿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乡人曰：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肉食者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之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，又何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间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？”刿曰：“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肉食者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鄙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，未能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远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入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70828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鲁庄公十年的春天，齐国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军队攻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鲁国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鲁庄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将要迎战。曹刿请求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拜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鲁庄公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他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同乡说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居高位享厚禄的人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谋划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这件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你又何必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参与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”曹刿说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居高位享厚禄的人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目光短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不能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深谋远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于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进宫拜见鲁庄公。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26028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文章对译及重点词语解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404640"/>
            <a:ext cx="79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问：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何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战？”公曰：“衣食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弗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敢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专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也，必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分人。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对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曰：“小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民弗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也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2800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10800"/>
                </a:moveTo>
                <a:lnTo>
                  <a:pt x="27977" y="3794"/>
                </a:lnTo>
                <a:lnTo>
                  <a:pt x="2797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565360"/>
            <a:ext cx="83883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</a:rPr>
              <a:t>曹刿问：“您</a:t>
            </a:r>
            <a:r>
              <a:rPr b="1" lang="zh-CN" sz="3900" spc="-1" strike="noStrike">
                <a:solidFill>
                  <a:srgbClr val="ff3300"/>
                </a:solidFill>
                <a:latin typeface="Times New Roman"/>
              </a:rPr>
              <a:t>凭借什么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</a:rPr>
              <a:t>作战？”庄公说：“衣食这类</a:t>
            </a:r>
            <a:r>
              <a:rPr b="1" lang="zh-CN" sz="3900" spc="-1" strike="noStrike">
                <a:solidFill>
                  <a:srgbClr val="ff3300"/>
                </a:solidFill>
                <a:latin typeface="Times New Roman"/>
              </a:rPr>
              <a:t>养生的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</a:rPr>
              <a:t>东西，</a:t>
            </a:r>
            <a:r>
              <a:rPr b="1" lang="zh-CN" sz="3900" spc="-1" strike="noStrike">
                <a:solidFill>
                  <a:srgbClr val="ff3300"/>
                </a:solidFill>
                <a:latin typeface="Times New Roman"/>
              </a:rPr>
              <a:t>不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</a:rPr>
              <a:t>敢</a:t>
            </a:r>
            <a:r>
              <a:rPr b="1" lang="zh-CN" sz="3900" spc="-1" strike="noStrike">
                <a:solidFill>
                  <a:srgbClr val="ff3300"/>
                </a:solidFill>
                <a:latin typeface="Times New Roman"/>
              </a:rPr>
              <a:t>独自享受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</a:rPr>
              <a:t>，一定</a:t>
            </a:r>
            <a:r>
              <a:rPr b="1" lang="zh-CN" sz="3900" spc="-1" strike="noStrike">
                <a:solidFill>
                  <a:srgbClr val="ff3300"/>
                </a:solidFill>
                <a:latin typeface="Times New Roman"/>
              </a:rPr>
              <a:t>把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</a:rPr>
              <a:t>它分给别人。”曹刿说：“这只是小恩小惠，不能</a:t>
            </a:r>
            <a:r>
              <a:rPr b="1" lang="zh-CN" sz="3900" spc="-1" strike="noStrike">
                <a:solidFill>
                  <a:srgbClr val="cc0000"/>
                </a:solidFill>
                <a:latin typeface="Times New Roman"/>
              </a:rPr>
              <a:t>遍及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</a:rPr>
              <a:t>百姓，百姓是不会</a:t>
            </a:r>
            <a:r>
              <a:rPr b="1" lang="zh-CN" sz="3900" spc="-1" strike="noStrike">
                <a:solidFill>
                  <a:srgbClr val="ff3300"/>
                </a:solidFill>
                <a:latin typeface="Times New Roman"/>
              </a:rPr>
              <a:t>听从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</a:rPr>
              <a:t>您的。”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公曰：“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牺牲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玉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帛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，弗敢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加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也，必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信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。”对曰：“小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信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未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孚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，神弗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福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也。”公曰：“</a:t>
            </a:r>
            <a:r>
              <a:rPr b="1" lang="zh-CN" sz="3400" spc="-1" strike="noStrike" u="sng">
                <a:solidFill>
                  <a:srgbClr val="0000ff"/>
                </a:solidFill>
                <a:uFillTx/>
                <a:latin typeface="Times New Roman"/>
              </a:rPr>
              <a:t>小大</a:t>
            </a:r>
            <a:r>
              <a:rPr b="1" lang="zh-CN" sz="3400" spc="-1" strike="noStrike" u="sng">
                <a:solidFill>
                  <a:srgbClr val="ff3300"/>
                </a:solidFill>
                <a:uFillTx/>
                <a:latin typeface="Times New Roman"/>
              </a:rPr>
              <a:t>之</a:t>
            </a:r>
            <a:r>
              <a:rPr b="1" lang="zh-CN" sz="3400" spc="-1" strike="noStrike" u="sng">
                <a:solidFill>
                  <a:srgbClr val="ff0000"/>
                </a:solidFill>
                <a:uFillTx/>
                <a:latin typeface="Times New Roman"/>
              </a:rPr>
              <a:t>狱</a:t>
            </a:r>
            <a:r>
              <a:rPr b="1" lang="zh-CN" sz="3400" spc="-1" strike="noStrike" u="sng">
                <a:solidFill>
                  <a:srgbClr val="0000ff"/>
                </a:solidFill>
                <a:uFillTx/>
                <a:latin typeface="Times New Roman"/>
              </a:rPr>
              <a:t>，</a:t>
            </a:r>
            <a:r>
              <a:rPr b="1" lang="zh-CN" sz="3400" spc="-1" strike="noStrike" u="sng">
                <a:solidFill>
                  <a:srgbClr val="ff0000"/>
                </a:solidFill>
                <a:uFillTx/>
                <a:latin typeface="Times New Roman"/>
              </a:rPr>
              <a:t>虽</a:t>
            </a:r>
            <a:r>
              <a:rPr b="1" lang="zh-CN" sz="3400" spc="-1" strike="noStrike" u="sng">
                <a:solidFill>
                  <a:srgbClr val="0000ff"/>
                </a:solidFill>
                <a:uFillTx/>
                <a:latin typeface="Times New Roman"/>
              </a:rPr>
              <a:t>不能</a:t>
            </a:r>
            <a:r>
              <a:rPr b="1" lang="zh-CN" sz="3400" spc="-1" strike="noStrike" u="sng">
                <a:solidFill>
                  <a:srgbClr val="ff3300"/>
                </a:solidFill>
                <a:uFillTx/>
                <a:latin typeface="Times New Roman"/>
              </a:rPr>
              <a:t>察</a:t>
            </a:r>
            <a:r>
              <a:rPr b="1" lang="zh-CN" sz="3400" spc="-1" strike="noStrike" u="sng">
                <a:solidFill>
                  <a:srgbClr val="0000ff"/>
                </a:solidFill>
                <a:uFillTx/>
                <a:latin typeface="Times New Roman"/>
              </a:rPr>
              <a:t>，必</a:t>
            </a:r>
            <a:r>
              <a:rPr b="1" lang="zh-CN" sz="3400" spc="-1" strike="noStrike" u="sng">
                <a:solidFill>
                  <a:srgbClr val="ff3300"/>
                </a:solidFill>
                <a:uFillTx/>
                <a:latin typeface="Times New Roman"/>
              </a:rPr>
              <a:t>以情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。”对曰：“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忠之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属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也，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可以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一战。战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则请从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。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37168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庄公说：“祭祀用的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猪牛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玉器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丝织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，不敢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虚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一定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按照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实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报。”曹刿说：“这只是小信用，未能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让神灵信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神灵是不会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保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您的。”庄公说：“大大小小的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案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即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能一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明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也一定会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按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情判断。”曹刿说：“这是尽了本职的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事情，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可以凭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条件打仗，如果作战，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就请允许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跟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着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64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公与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乘。战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于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长勺。公将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鼓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刿曰： “未可。”齐人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三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鼓。刿曰：“可矣。”齐师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败绩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34936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鲁庄公和曹刿同坐一辆战车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勺和齐军作战。庄公（一上阵）就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击鼓进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曹刿说：“（现在）不行。”齐军击过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三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战鼓后，曹刿说：“可以击鼓进军啦。”齐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大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2491920"/>
            <a:ext cx="82296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庄公正要下令</a:t>
            </a:r>
            <a:r>
              <a:rPr b="1" lang="zh-CN" sz="3900" spc="-1" strike="noStrike">
                <a:solidFill>
                  <a:srgbClr val="ff3300"/>
                </a:solidFill>
                <a:latin typeface="黑体"/>
                <a:ea typeface="黑体"/>
              </a:rPr>
              <a:t>追击齐军</a:t>
            </a: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，曹刿说：“还不行。”（说完就）</a:t>
            </a:r>
            <a:r>
              <a:rPr b="1" lang="zh-CN" sz="3900" spc="-1" strike="noStrike">
                <a:solidFill>
                  <a:srgbClr val="ff3300"/>
                </a:solidFill>
                <a:latin typeface="黑体"/>
                <a:ea typeface="黑体"/>
              </a:rPr>
              <a:t>下车</a:t>
            </a: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去察看齐军的</a:t>
            </a:r>
            <a:r>
              <a:rPr b="1" lang="zh-CN" sz="3900" spc="-1" strike="noStrike">
                <a:solidFill>
                  <a:srgbClr val="ff3300"/>
                </a:solidFill>
                <a:latin typeface="黑体"/>
                <a:ea typeface="黑体"/>
              </a:rPr>
              <a:t>车印</a:t>
            </a: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，又登上</a:t>
            </a:r>
            <a:r>
              <a:rPr b="1" lang="zh-CN" sz="3900" spc="-1" strike="noStrike">
                <a:solidFill>
                  <a:srgbClr val="ff3300"/>
                </a:solidFill>
                <a:latin typeface="黑体"/>
                <a:ea typeface="黑体"/>
              </a:rPr>
              <a:t>车前的横木</a:t>
            </a: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望</a:t>
            </a:r>
            <a:r>
              <a:rPr b="1" lang="zh-CN" sz="3900" spc="-1" strike="noStrike">
                <a:solidFill>
                  <a:srgbClr val="ff3300"/>
                </a:solidFill>
                <a:latin typeface="黑体"/>
                <a:ea typeface="黑体"/>
              </a:rPr>
              <a:t>齐军</a:t>
            </a: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（的队形），（这才）说：“可以追击了。”</a:t>
            </a:r>
            <a:r>
              <a:rPr b="1" lang="zh-CN" sz="3900" spc="-1" strike="noStrike">
                <a:solidFill>
                  <a:srgbClr val="ff3300"/>
                </a:solidFill>
                <a:latin typeface="黑体"/>
                <a:ea typeface="黑体"/>
              </a:rPr>
              <a:t>于是追击</a:t>
            </a: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齐军。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33360"/>
            <a:ext cx="82296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ff"/>
                </a:solidFill>
                <a:latin typeface="Times New Roman"/>
              </a:rPr>
              <a:t>公将</a:t>
            </a:r>
            <a:r>
              <a:rPr b="1" lang="zh-CN" sz="4300" spc="-1" strike="noStrike">
                <a:solidFill>
                  <a:srgbClr val="ff0000"/>
                </a:solidFill>
                <a:latin typeface="Times New Roman"/>
              </a:rPr>
              <a:t>驰</a:t>
            </a:r>
            <a:r>
              <a:rPr b="1" lang="zh-CN" sz="43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4300" spc="-1" strike="noStrike">
                <a:solidFill>
                  <a:srgbClr val="0000ff"/>
                </a:solidFill>
                <a:latin typeface="Times New Roman"/>
              </a:rPr>
              <a:t>。刿曰：“未可。”</a:t>
            </a:r>
            <a:r>
              <a:rPr b="1" lang="zh-CN" sz="4300" spc="-1" strike="noStrike">
                <a:solidFill>
                  <a:srgbClr val="ff0000"/>
                </a:solidFill>
                <a:latin typeface="Times New Roman"/>
              </a:rPr>
              <a:t>下</a:t>
            </a:r>
            <a:r>
              <a:rPr b="1" lang="zh-CN" sz="4300" spc="-1" strike="noStrike">
                <a:solidFill>
                  <a:srgbClr val="0000ff"/>
                </a:solidFill>
                <a:latin typeface="Times New Roman"/>
              </a:rPr>
              <a:t>视其</a:t>
            </a:r>
            <a:r>
              <a:rPr b="1" lang="zh-CN" sz="4300" spc="-1" strike="noStrike">
                <a:solidFill>
                  <a:srgbClr val="ff3300"/>
                </a:solidFill>
                <a:latin typeface="Times New Roman"/>
              </a:rPr>
              <a:t>辙</a:t>
            </a:r>
            <a:r>
              <a:rPr b="1" lang="zh-CN" sz="4300" spc="-1" strike="noStrike">
                <a:solidFill>
                  <a:srgbClr val="0000ff"/>
                </a:solidFill>
                <a:latin typeface="Times New Roman"/>
              </a:rPr>
              <a:t>，登</a:t>
            </a:r>
            <a:r>
              <a:rPr b="1" lang="zh-CN" sz="4300" spc="-1" strike="noStrike">
                <a:solidFill>
                  <a:srgbClr val="ff3300"/>
                </a:solidFill>
                <a:latin typeface="Times New Roman"/>
              </a:rPr>
              <a:t>轼而</a:t>
            </a:r>
            <a:r>
              <a:rPr b="1" lang="zh-CN" sz="4300" spc="-1" strike="noStrike">
                <a:solidFill>
                  <a:srgbClr val="0000ff"/>
                </a:solidFill>
                <a:latin typeface="Times New Roman"/>
              </a:rPr>
              <a:t>望</a:t>
            </a:r>
            <a:r>
              <a:rPr b="1" lang="zh-CN" sz="43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4300" spc="-1" strike="noStrike">
                <a:solidFill>
                  <a:srgbClr val="0000ff"/>
                </a:solidFill>
                <a:latin typeface="Times New Roman"/>
              </a:rPr>
              <a:t>，曰：“可矣。”</a:t>
            </a:r>
            <a:r>
              <a:rPr b="1" lang="zh-CN" sz="4300" spc="-1" strike="noStrike">
                <a:solidFill>
                  <a:srgbClr val="ff3300"/>
                </a:solidFill>
                <a:latin typeface="Times New Roman"/>
              </a:rPr>
              <a:t>遂</a:t>
            </a:r>
            <a:r>
              <a:rPr b="1" lang="zh-CN" sz="4300" spc="-1" strike="noStrike">
                <a:solidFill>
                  <a:srgbClr val="ff0000"/>
                </a:solidFill>
                <a:latin typeface="Times New Roman"/>
              </a:rPr>
              <a:t>逐</a:t>
            </a:r>
            <a:r>
              <a:rPr b="1" lang="zh-CN" sz="4300" spc="-1" strike="noStrike">
                <a:solidFill>
                  <a:srgbClr val="0000ff"/>
                </a:solidFill>
                <a:latin typeface="Times New Roman"/>
              </a:rPr>
              <a:t>齐师。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26028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既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克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，公问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其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故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。对曰：“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夫</a:t>
            </a:r>
            <a:r>
              <a:rPr b="1" lang="zh-CN" sz="44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战，勇气也。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一鼓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作气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，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再而衰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，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三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而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竭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。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彼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竭我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盈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，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故</a:t>
            </a:r>
            <a:r>
              <a:rPr b="1" lang="zh-CN" sz="44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克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之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3274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100" spc="-1" strike="noStrike">
                <a:solidFill>
                  <a:srgbClr val="ff3300"/>
                </a:solidFill>
                <a:latin typeface="黑体"/>
                <a:ea typeface="黑体"/>
              </a:rPr>
              <a:t>战胜</a:t>
            </a:r>
            <a:r>
              <a:rPr b="0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齐军</a:t>
            </a:r>
            <a:r>
              <a:rPr b="0" lang="zh-CN" sz="4100" spc="-1" strike="noStrike">
                <a:solidFill>
                  <a:srgbClr val="ff3300"/>
                </a:solidFill>
                <a:latin typeface="黑体"/>
                <a:ea typeface="黑体"/>
              </a:rPr>
              <a:t>以</a:t>
            </a:r>
            <a:r>
              <a:rPr b="1" lang="zh-CN" sz="4100" spc="-1" strike="noStrike">
                <a:solidFill>
                  <a:srgbClr val="ff3300"/>
                </a:solidFill>
                <a:latin typeface="黑体"/>
                <a:ea typeface="黑体"/>
              </a:rPr>
              <a:t>后</a:t>
            </a: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，鲁庄公询问</a:t>
            </a:r>
            <a:r>
              <a:rPr b="1" lang="zh-CN" sz="4100" spc="-1" strike="noStrike">
                <a:solidFill>
                  <a:srgbClr val="ff3300"/>
                </a:solidFill>
                <a:latin typeface="黑体"/>
                <a:ea typeface="黑体"/>
              </a:rPr>
              <a:t>取胜的原因</a:t>
            </a: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。曹刿答道：“作战，要靠勇气。</a:t>
            </a:r>
            <a:r>
              <a:rPr b="1" lang="zh-CN" sz="4100" spc="-1" strike="noStrike">
                <a:solidFill>
                  <a:srgbClr val="ff3300"/>
                </a:solidFill>
                <a:latin typeface="黑体"/>
                <a:ea typeface="黑体"/>
              </a:rPr>
              <a:t>第一次击鼓</a:t>
            </a: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能</a:t>
            </a:r>
            <a:r>
              <a:rPr b="1" lang="zh-CN" sz="4100" spc="-1" strike="noStrike">
                <a:solidFill>
                  <a:srgbClr val="ff3300"/>
                </a:solidFill>
                <a:latin typeface="黑体"/>
                <a:ea typeface="黑体"/>
              </a:rPr>
              <a:t>振作士气</a:t>
            </a: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100" spc="-1" strike="noStrike">
                <a:solidFill>
                  <a:srgbClr val="ff3300"/>
                </a:solidFill>
                <a:latin typeface="黑体"/>
                <a:ea typeface="黑体"/>
              </a:rPr>
              <a:t>第二次击鼓</a:t>
            </a: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士气就</a:t>
            </a:r>
            <a:r>
              <a:rPr b="1" lang="zh-CN" sz="4100" spc="-1" strike="noStrike">
                <a:solidFill>
                  <a:srgbClr val="ff3300"/>
                </a:solidFill>
                <a:latin typeface="黑体"/>
                <a:ea typeface="黑体"/>
              </a:rPr>
              <a:t>衰弱</a:t>
            </a: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了，</a:t>
            </a:r>
            <a:r>
              <a:rPr b="1" lang="zh-CN" sz="4100" spc="-1" strike="noStrike">
                <a:solidFill>
                  <a:srgbClr val="ff3300"/>
                </a:solidFill>
                <a:latin typeface="黑体"/>
                <a:ea typeface="黑体"/>
              </a:rPr>
              <a:t>第三次击鼓</a:t>
            </a: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时士气已经</a:t>
            </a:r>
            <a:r>
              <a:rPr b="1" lang="zh-CN" sz="4100" spc="-1" strike="noStrike">
                <a:solidFill>
                  <a:srgbClr val="ff3300"/>
                </a:solidFill>
                <a:latin typeface="黑体"/>
                <a:ea typeface="黑体"/>
              </a:rPr>
              <a:t>枯竭</a:t>
            </a: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了。</a:t>
            </a:r>
            <a:r>
              <a:rPr b="1" lang="zh-CN" sz="4100" spc="-1" strike="noStrike">
                <a:solidFill>
                  <a:srgbClr val="ff3300"/>
                </a:solidFill>
                <a:latin typeface="黑体"/>
                <a:ea typeface="黑体"/>
              </a:rPr>
              <a:t>对方</a:t>
            </a: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的士气已经枯竭而我方的士气正</a:t>
            </a:r>
            <a:r>
              <a:rPr b="1" lang="zh-CN" sz="4100" spc="-1" strike="noStrike">
                <a:solidFill>
                  <a:srgbClr val="ff3300"/>
                </a:solidFill>
                <a:latin typeface="黑体"/>
                <a:ea typeface="黑体"/>
              </a:rPr>
              <a:t>旺盛</a:t>
            </a: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100" spc="-1" strike="noStrike">
                <a:solidFill>
                  <a:srgbClr val="ff3300"/>
                </a:solidFill>
                <a:latin typeface="黑体"/>
                <a:ea typeface="黑体"/>
              </a:rPr>
              <a:t>所以</a:t>
            </a: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战胜了他们。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3300"/>
                </a:solidFill>
                <a:latin typeface="Times New Roman"/>
              </a:rPr>
              <a:t>夫</a:t>
            </a:r>
            <a:r>
              <a:rPr b="1" lang="zh-CN" sz="4500" spc="-1" strike="noStrike">
                <a:solidFill>
                  <a:srgbClr val="3366ff"/>
                </a:solidFill>
                <a:latin typeface="Times New Roman"/>
              </a:rPr>
              <a:t>大国，难</a:t>
            </a:r>
            <a:r>
              <a:rPr b="1" lang="zh-CN" sz="4500" spc="-1" strike="noStrike">
                <a:solidFill>
                  <a:srgbClr val="ff3300"/>
                </a:solidFill>
                <a:latin typeface="Times New Roman"/>
              </a:rPr>
              <a:t>测</a:t>
            </a:r>
            <a:r>
              <a:rPr b="1" lang="zh-CN" sz="4500" spc="-1" strike="noStrike">
                <a:solidFill>
                  <a:srgbClr val="3366ff"/>
                </a:solidFill>
                <a:latin typeface="Times New Roman"/>
              </a:rPr>
              <a:t>也，</a:t>
            </a:r>
            <a:r>
              <a:rPr b="1" lang="zh-CN" sz="4500" spc="-1" strike="noStrike">
                <a:solidFill>
                  <a:srgbClr val="0000ff"/>
                </a:solidFill>
                <a:latin typeface="Times New Roman"/>
              </a:rPr>
              <a:t>惧有</a:t>
            </a:r>
            <a:r>
              <a:rPr b="1" lang="zh-CN" sz="4500" spc="-1" strike="noStrike">
                <a:solidFill>
                  <a:srgbClr val="ff3300"/>
                </a:solidFill>
                <a:latin typeface="Times New Roman"/>
              </a:rPr>
              <a:t>伏焉</a:t>
            </a:r>
            <a:r>
              <a:rPr b="1" lang="zh-CN" sz="4500" spc="-1" strike="noStrike">
                <a:solidFill>
                  <a:srgbClr val="0000ff"/>
                </a:solidFill>
                <a:latin typeface="Times New Roman"/>
              </a:rPr>
              <a:t>。吾视</a:t>
            </a:r>
            <a:r>
              <a:rPr b="1" lang="zh-CN" sz="45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1" lang="zh-CN" sz="4500" spc="-1" strike="noStrike">
                <a:solidFill>
                  <a:srgbClr val="3366ff"/>
                </a:solidFill>
                <a:latin typeface="Times New Roman"/>
              </a:rPr>
              <a:t>辙</a:t>
            </a:r>
            <a:r>
              <a:rPr b="1" lang="zh-CN" sz="4500" spc="-1" strike="noStrike">
                <a:solidFill>
                  <a:srgbClr val="0000ff"/>
                </a:solidFill>
                <a:latin typeface="Times New Roman"/>
              </a:rPr>
              <a:t>乱，望其旗</a:t>
            </a:r>
            <a:r>
              <a:rPr b="1" lang="zh-CN" sz="4500" spc="-1" strike="noStrike">
                <a:solidFill>
                  <a:srgbClr val="ff0000"/>
                </a:solidFill>
                <a:latin typeface="Times New Roman"/>
              </a:rPr>
              <a:t>靡</a:t>
            </a:r>
            <a:r>
              <a:rPr b="1" lang="zh-CN" sz="45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4500" spc="-1" strike="noStrike">
                <a:solidFill>
                  <a:srgbClr val="ff3300"/>
                </a:solidFill>
                <a:latin typeface="Times New Roman"/>
              </a:rPr>
              <a:t>故</a:t>
            </a:r>
            <a:r>
              <a:rPr b="1" lang="zh-CN" sz="4500" spc="-1" strike="noStrike">
                <a:solidFill>
                  <a:srgbClr val="0000ff"/>
                </a:solidFill>
                <a:latin typeface="Times New Roman"/>
              </a:rPr>
              <a:t>逐</a:t>
            </a:r>
            <a:r>
              <a:rPr b="1" lang="zh-CN" sz="45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45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989000"/>
            <a:ext cx="8064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齐是）大国，它的情况难以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估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害怕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在那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埋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我看到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他们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车印杂乱，远望他们的军旗也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倒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所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才下令追击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他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143000" y="2362320"/>
            <a:ext cx="1371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论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67080" y="129528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战前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67080" y="251460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战中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343400" y="39625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战后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666880" y="1752120"/>
            <a:ext cx="129564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29718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335268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40464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结构梳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25640" y="1981080"/>
            <a:ext cx="1003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远 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052640"/>
            <a:ext cx="1508040" cy="785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战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1752480" cy="785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战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3733920"/>
            <a:ext cx="1447920" cy="785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战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25520" y="1599840"/>
            <a:ext cx="8384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01840" y="2819520"/>
            <a:ext cx="7621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3276720"/>
            <a:ext cx="838440" cy="838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8520" y="1111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</a:rPr>
              <a:t>取信于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447920"/>
            <a:ext cx="1143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2895480"/>
            <a:ext cx="1143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73000" y="2514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</a:rPr>
              <a:t>捕捉时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4114800"/>
            <a:ext cx="12189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73000" y="3778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</a:rPr>
              <a:t>分析胜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501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2562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dd2562"/>
                </a:solidFill>
                <a:latin typeface="Times New Roman"/>
              </a:rPr>
              <a:t>课文中哪两个字最能概括曹刿这一人物的特点？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52480" y="1143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105264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f0501"/>
                </a:solidFill>
                <a:latin typeface="Times New Roman"/>
                <a:ea typeface="黑体"/>
              </a:rPr>
              <a:t>关于《左传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2205000"/>
            <a:ext cx="655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•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本文选自《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》，这是我国第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一部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______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体史书。旧传为春秋时期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_______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所作，是一部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名著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名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10160" y="21337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左 传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278136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编 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3429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左丘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3962520"/>
            <a:ext cx="192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史 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4581360"/>
            <a:ext cx="160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文  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8080" y="228600"/>
            <a:ext cx="3934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宋体"/>
              </a:rPr>
              <a:t>人物形象分析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29528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曹刿是在怎样的背景下请见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为什么要“请见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“何以战？”一问，鲁庄公提出哪三个条件？分别是对谁而言的？曹刿的态度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7524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十年春，齐师伐我。公将战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590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“肉食者鄙，未能远谋。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8240" y="3962520"/>
            <a:ext cx="82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官僚贵族；天地神灵；〈否定〉   广大人民〈肯定〉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44200" y="4648320"/>
            <a:ext cx="3812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曹刿为什么要肯定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第三个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条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1384200"/>
            <a:ext cx="782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曹刿为什么要在“齐人三鼓”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才曰“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矣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曹刿为什么要“下视其辙，登轼而望之。”？他看到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43000" cy="906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29960" y="198108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齐人三鼓正是“彼竭我盈”之时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94880" y="3886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“惧有伏焉”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“辙乱旗靡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5791320"/>
            <a:ext cx="6094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58040" y="5810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远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1197000"/>
            <a:ext cx="8064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2562"/>
                </a:solidFill>
                <a:latin typeface="Times New Roman"/>
                <a:ea typeface="楷体_GB2312"/>
              </a:rPr>
              <a:t>一知“民心向背”，有为国分忧的精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2562"/>
                </a:solidFill>
                <a:latin typeface="Times New Roman"/>
                <a:ea typeface="楷体_GB2312"/>
              </a:rPr>
              <a:t>二知“士气盈竭”，有当机立断的才干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2562"/>
                </a:solidFill>
                <a:latin typeface="Times New Roman"/>
                <a:ea typeface="楷体_GB2312"/>
              </a:rPr>
              <a:t>三知“战场虚实”，有务实求真的才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3860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曹刿——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谨慎周密，从容镇定，详察敌情，善于捕捉有利战机的杰出军事才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即：他的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远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1035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鲁庄公的“鄙”表现在哪些方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133720"/>
            <a:ext cx="67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﹑把战争寄托在近臣和神灵身上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66560" y="30686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﹑用兵轻举妄动，急功近利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9880" y="39337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﹑取胜而不知胜因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64280" y="4651920"/>
            <a:ext cx="47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政治上昏庸无能、见识短浅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军事上急躁冒进、不察敌情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2342520"/>
            <a:ext cx="83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本文集中体现了鲁庄公作为国君见识的“鄙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鲁庄公把战争的希望寄托在施行“小惠”和祈求神灵的保佑上，说明他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政治上无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；他急于求战，急于攻击，说明他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军事上的无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。 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但鲁庄公不是一个昏君。鲁庄公备战见刿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能虚心采纳曹刿的意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；作战用刿，亲自参与打仗，表现他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礼贤下士、知错能改、知人善任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；战后问刿，不因胜而自喜，表现他为求真知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不耻下问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。 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综上所述，可以看出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鲁庄公并非昏君，而是一位缺乏军事才能的庸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6040" y="23328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鲁庄公是个昏君吗？谈谈你的看法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人记叙这场战争，用“齐鲁长勺之战”为题，而后人却改用“曹刿论战”为题，为什么要作这样的改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3886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文记事哪些详写，哪些略写？为什么这样处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971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全篇以曹刿的言行为主组织记事材料，而记事的中心又处落在曹刿的“谋”字和“论”字上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4941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本文重点是写“论战”，故战前对话写得详；战争过程写得略；曹刿用谋写得详；庄公问计写得略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549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写法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内容理解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曹刿的远谋体现在哪些方面？用自己的话从政治和军事两个方面简要分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政治方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军事方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_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7560" y="2637000"/>
            <a:ext cx="8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认为取信于民是作战取胜的先决条件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422100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善于把握进攻和追击的时机，适时出击、适时追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304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内容小结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2030400"/>
            <a:ext cx="783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勺之战表现了曹刿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____________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说明了在政治上必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军事上必须运用正确的                 ，并掌握          ，才能取得战争胜利的道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1676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56000" y="37004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战略战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41324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战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31971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取信于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8366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主 旨 归 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640" y="26924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爱国精神、政治远见和卓越的军事指挥才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Times New Roman"/>
              </a:rPr>
              <a:t>读了这则短文，鲁国获胜给你启示最深的一点是什么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</a:rPr>
              <a:t>请联系生活实际简要谈谈你的看法。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04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拓展提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209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99"/>
                </a:solidFill>
                <a:latin typeface="Times New Roman"/>
              </a:rPr>
              <a:t>示例一：</a:t>
            </a:r>
            <a:r>
              <a:rPr b="1" lang="zh-CN" sz="4100" spc="-1" strike="noStrike">
                <a:solidFill>
                  <a:srgbClr val="ff3300"/>
                </a:solidFill>
                <a:latin typeface="Times New Roman"/>
              </a:rPr>
              <a:t>鲁国获胜的根本是取信于民，获得人民的支持。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Times New Roman"/>
              </a:rPr>
              <a:t>俗话说，得民心者得天下。民心向背是国家兴与衰、战争胜与败、做事成与否的关键所在。在近代的抗日战争、解放战争中，我军能用小米加步枪以弱胜强，取得胜利，正是因为全国人民的同仇敌忾、齐心协力。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语音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刿（   ） 孚（   ） 辙（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轼（   ） 遂（   ）盈（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靡（   ）  小惠未徧（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玉帛（   ）鄙（   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又何间（   ）焉   （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弗（   ）敢专也 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01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通假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99"/>
                </a:solidFill>
                <a:latin typeface="Times New Roman"/>
              </a:rPr>
              <a:t>示例二：</a:t>
            </a:r>
            <a:r>
              <a:rPr b="1" lang="zh-CN" sz="4100" spc="-1" strike="noStrike">
                <a:solidFill>
                  <a:srgbClr val="ff3300"/>
                </a:solidFill>
                <a:latin typeface="Times New Roman"/>
              </a:rPr>
              <a:t>我感受最深的一点启示是：战争中要善于分析敌情、把握战机。</a:t>
            </a:r>
            <a:r>
              <a:rPr b="1" lang="zh-CN" sz="4100" spc="-1" strike="noStrike">
                <a:solidFill>
                  <a:srgbClr val="000000"/>
                </a:solidFill>
                <a:latin typeface="Times New Roman"/>
              </a:rPr>
              <a:t>在赤壁之战中，孙刘联军以少胜多取得胜利的关键就是，诸葛亮巧借东风、火烧连营。战机就是有利于作战的良好时机，就是“天时”。机不可失、时不再来，作战如此，学习、做事更是如此。对于一些背诵的科目，我们要善于抓住清晨、上午这些记忆力比较强的时间，强化记忆，往往能起到事半功倍的效果。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99"/>
                </a:solidFill>
                <a:latin typeface="Times New Roman"/>
              </a:rPr>
              <a:t>示例三：</a:t>
            </a:r>
            <a:r>
              <a:rPr b="1" lang="zh-CN" sz="4100" spc="-1" strike="noStrike">
                <a:solidFill>
                  <a:srgbClr val="ff3300"/>
                </a:solidFill>
                <a:latin typeface="Times New Roman"/>
              </a:rPr>
              <a:t>我感受最深的一点启示是：统治者应善于听取并采纳群众的意见。</a:t>
            </a:r>
            <a:r>
              <a:rPr b="1" lang="zh-CN" sz="4100" spc="-1" strike="noStrike">
                <a:solidFill>
                  <a:srgbClr val="000000"/>
                </a:solidFill>
                <a:latin typeface="Times New Roman"/>
              </a:rPr>
              <a:t>兼听则明，偏听则暗。唐太宗正是由于广泛听取魏征等大臣的意见，才取得了“贞观之治”的繁荣局面。作为普通人，更应广泛听取别人的意见，尤其是批评意见，“有则改之，无则加勉”从而使自己臻于完美。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古今异义词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小大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 古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：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齐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  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：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牺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玉帛  古：　       今： 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又何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焉 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肉食者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今：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古今异义词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小大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 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案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监狱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齐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  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讨伐，攻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砍伐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牺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玉帛  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古代是指牛、羊之类用于祭祀的祭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今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人民、为正义事业而献出自己的生命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又何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焉 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参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间，隔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肉食者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目光短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今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轻视，看不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弗敢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也 古：           今：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能察  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：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而衰   古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必以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：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之属也   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可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战   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：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弗敢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也 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虚夸，以少报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增加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能察  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即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虽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而衰   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二次，两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事情或行为重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必以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言语真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书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之属也   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尽力做好本分的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 今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忠诚。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可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战   古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可以用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愿动词，表示可能或能够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词类活用 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神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也   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作气  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词用作动词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、重点字词解释：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何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战：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曰：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望其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   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衣食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专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也：  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信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虽不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齐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败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词类活用 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神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也   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词用作动词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赐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　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作气  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词用作动词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击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、重点字词解释：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何以战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凭借什么作战。以：用、凭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曰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答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望其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倒下。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   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衣食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专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也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养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独占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信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人所信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虽不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弄清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齐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败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溃败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公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下视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遂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齐师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既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公问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已经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鼓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气：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彼竭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难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也，惧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焉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公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驱车追赶齐军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下视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车轮滚过地面留下的痕迹。     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遂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齐师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是，就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追击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既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公问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已经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战胜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原因，缘故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鼓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振作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彼竭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充满。这里指士气正旺盛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难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也，惧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测，估计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//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埋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语音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刿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ɡu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孚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f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辙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zh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轼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sh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遂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su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盈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yín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靡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m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  　　小惠未徧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bià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玉帛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b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鄙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b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又何间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jià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焉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弗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f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敢专也 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501336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通假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惠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民弗从也        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 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徧：同“遍”，遍及、普遍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、回答下列问题。  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文中的“将鼓”“将驰”表现了鲁庄公什么？“未可”“可矣”表现了曹刿什么？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曹刿分析取胜的原因有两条：一条是选择有利于进攻的时机，即文中的哪一句？一条是把握有利于追击的时机，又是哪一句？ 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、回答下列问题。  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文中的“将鼓”“将驰”表现了鲁庄公什么？“未可”“可矣”表现了曹刿什么？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将鼓”“将驰”表现了鲁庄公急躁冒进；“未可”“可矣”表现了曹刿胸有成竹，从容不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曹刿分析取胜的原因有两条：一条是选择有利于进攻的时机，即文中的哪一句？一条是把握有利于追击的时机，又是哪一句？ 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 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彼竭我盈。         辙乱旗靡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、如何评价曹刿这一人物形象？ 　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、曹刿认为“肉食者鄙，未能远谋”。在战前曹刿与鲁庄公的论战中，鲁庄公的“鄙”表现在哪里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曹刿的“远谋”又表现在哪里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用自己的话加以概括。 　　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、如何评价曹刿这一人物形象？ 　　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他是一个深谋远虑的军事家，论战表现出他的勇气，作战“下视其辙”“登轼而望”，充分体现了他谨慎和丰富的军事经验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、曹刿认为“肉食者鄙，未能远谋”。在战前曹刿与鲁庄公的论战中，鲁庄公的“鄙”表现在哪里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曹刿的“远谋”又表现在哪里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用自己的话加以概括。 　　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鲁庄公把战争取胜的希望寄托在少数人的支持和神灵的保佑上。曹刿认为取信于民是获胜的保证。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本文多处将鲁庄公与曹刿进行对比描写，请找出其中一例，分析这样写的好处。 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曹刿的“远谋”体现在哪里？用自己的话从政治和军事两方面简要说说。 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本文多处将鲁庄公与曹刿进行对比描写，请找出其中一例，分析这样写的好处。 　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战前：鲁 浅陋 ； 曹 有远谋 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战时：鲁 不作调查，急躁冒进； 曹 实地调查，抓准时机 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战后：鲁 茫然不知 曹 细说原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//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通过对比，突出曹刿指挥作战的军事才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曹刿的“远谋”体现在哪里？用自己的话从政治和军事两方面简要说说。   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政治方面：认为取信于民是作战的先决条件。 　　  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军事方面：善于把握进攻和追击的时机。（或：适时出击，适时追击）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谈谈“肉食者鄙，未能远谋”一句在全文中的作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文章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节主要内容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文章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节主要内容是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文章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节通过曹刿的言行表现了他的品质或才能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谈谈“肉食者鄙，未能远谋”一句在全文中的作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下文写庄公作铺垫②衬托曹刿的远见卓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文章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节主要内容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齐鲁两国长勺之战的概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文章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节主要内容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战后曹刿论述战斗取胜的原因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文章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节通过曹刿的言行表现了他的品质或才能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胸有成竹、指挥从容、善于把握战机。 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文章结尾一段表现了曹刿哪些方面的才能？ 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就曹刿和鲁庄公的对话，联系全文，说说曹刿在对话中表现出来的主要思想。 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文章结尾一段表现了曹刿哪些方面的才能？ 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战中善于把握战机，注意观察敌情，做到知己知彼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就曹刿和鲁庄公的对话，联系全文，说说曹刿在对话中表现出来的主要思想。 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有尽心尽职才能取信于民，只有取信于民，得到人民的支持，才是战争取胜的基本条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907920"/>
            <a:ext cx="85341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释下列各句中红色的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肉食者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未能远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小惠未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民弗从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弗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也，必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小信未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神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公将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公问其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吾视其辙乱，望其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11640" y="15573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鄙陋，这里指目光短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227664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同“遍”，遍及、普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666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66640" y="29973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虚夸，这里指以少报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3645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诚实，意思是对神说实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18920" y="414972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为人所信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5240" y="4221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赐福、保佑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83680" y="472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动词，击鼓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5445000"/>
            <a:ext cx="17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 战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609300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倒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词语小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177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学习这篇文章之后，你能从曹刿或鲁庄公身上获得什么启示或明白什么道理？（结合文章说理由）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1778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学习这篇文章之后，你能从曹刿或鲁庄公身上获得什么启示或明白什么道理？（结合文章说理由）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曹刿身上获得启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可从远见、爱国、责任感等方面说 ，　从鲁庄公身上获得启示主要是从纳谏、领导与人民的关系方面说。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  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1700280"/>
            <a:ext cx="876312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b0f03"/>
                </a:solidFill>
                <a:latin typeface="Times New Roman"/>
              </a:rPr>
              <a:t>一、区别下列各组词的含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b0f03"/>
                </a:solidFill>
                <a:latin typeface="Times New Roman"/>
              </a:rPr>
              <a:t>            </a:t>
            </a:r>
            <a:r>
              <a:rPr b="1" lang="zh-CN" sz="4400" spc="-1" strike="noStrike">
                <a:solidFill>
                  <a:srgbClr val="2b0f03"/>
                </a:solidFill>
                <a:latin typeface="Times New Roman"/>
              </a:rPr>
              <a:t>又何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间</a:t>
            </a:r>
            <a:r>
              <a:rPr b="1" lang="zh-CN" sz="4400" spc="-1" strike="noStrike">
                <a:solidFill>
                  <a:srgbClr val="2b0f03"/>
                </a:solidFill>
                <a:latin typeface="Times New Roman"/>
              </a:rPr>
              <a:t>焉（      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400" spc="-1" strike="noStrike">
                <a:solidFill>
                  <a:srgbClr val="2b0f03"/>
                </a:solidFill>
                <a:latin typeface="Times New Roman"/>
              </a:rPr>
              <a:t>中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间</a:t>
            </a:r>
            <a:r>
              <a:rPr b="1" lang="zh-CN" sz="4400" spc="-1" strike="noStrike">
                <a:solidFill>
                  <a:srgbClr val="2b0f03"/>
                </a:solidFill>
                <a:latin typeface="Times New Roman"/>
              </a:rPr>
              <a:t>力拉崩倒之声（   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2b0f03"/>
                </a:solidFill>
                <a:latin typeface="Times New Roman"/>
              </a:rPr>
              <a:t>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间</a:t>
            </a:r>
            <a:r>
              <a:rPr b="1" lang="zh-CN" sz="4400" spc="-1" strike="noStrike">
                <a:solidFill>
                  <a:srgbClr val="2b0f03"/>
                </a:solidFill>
                <a:latin typeface="Times New Roman"/>
              </a:rPr>
              <a:t>令吴广之次所旁丛祠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b0f03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2b0f03"/>
                </a:solidFill>
                <a:latin typeface="Times New Roman"/>
              </a:rPr>
              <a:t>（                   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19280" y="27082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f0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2565360"/>
            <a:ext cx="6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b0f03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2b0f03"/>
                </a:solidFill>
                <a:latin typeface="Times New Roman"/>
              </a:rPr>
              <a:t>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24210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参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32130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夹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4360" y="50133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私自，偷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549360"/>
            <a:ext cx="4681800" cy="8251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f0501"/>
                </a:solidFill>
                <a:latin typeface="Times New Roman"/>
                <a:ea typeface="隶书"/>
              </a:rPr>
              <a:t>复习检测（一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600200" y="1676520"/>
            <a:ext cx="8381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b0f03"/>
                </a:solidFill>
                <a:latin typeface="Times New Roman"/>
              </a:rPr>
              <a:t>望其旗靡</a:t>
            </a: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故</a:t>
            </a: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逐之（   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既克，公问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故</a:t>
            </a: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（     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温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故</a:t>
            </a: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而知新（       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而两狼之并驱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故</a:t>
            </a: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（   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36232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0f03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2b0f03"/>
                </a:solidFill>
                <a:latin typeface="Times New Roman"/>
              </a:rPr>
              <a:t>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198108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16002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所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51460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原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19720" y="335268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c64da"/>
                </a:solidFill>
                <a:latin typeface="Times New Roman"/>
                <a:ea typeface="隶书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旧知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4267080"/>
            <a:ext cx="184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原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600200" y="1981080"/>
            <a:ext cx="304920" cy="2438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f0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41560" y="1828800"/>
            <a:ext cx="443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1447920"/>
            <a:ext cx="7391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宋体"/>
              </a:rPr>
              <a:t>必以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信</a:t>
            </a:r>
            <a:r>
              <a:rPr b="1" lang="zh-CN" sz="4400" spc="-1" strike="noStrike">
                <a:solidFill>
                  <a:srgbClr val="0f0501"/>
                </a:solidFill>
                <a:latin typeface="宋体"/>
              </a:rPr>
              <a:t>( 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宋体"/>
              </a:rPr>
              <a:t>小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信</a:t>
            </a:r>
            <a:r>
              <a:rPr b="1" lang="zh-CN" sz="4400" spc="-1" strike="noStrike">
                <a:solidFill>
                  <a:srgbClr val="0f0501"/>
                </a:solidFill>
                <a:latin typeface="宋体"/>
              </a:rPr>
              <a:t>未孚</a:t>
            </a:r>
            <a:r>
              <a:rPr b="1" lang="zh-CN" sz="4400" spc="-1" strike="noStrike">
                <a:solidFill>
                  <a:srgbClr val="0f0501"/>
                </a:solidFill>
                <a:latin typeface="宋体"/>
              </a:rPr>
              <a:t>( 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宋体"/>
              </a:rPr>
              <a:t>愿陛下亲之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信</a:t>
            </a:r>
            <a:r>
              <a:rPr b="1" lang="zh-CN" sz="4400" spc="-1" strike="noStrike">
                <a:solidFill>
                  <a:srgbClr val="0f0501"/>
                </a:solidFill>
                <a:latin typeface="宋体"/>
              </a:rPr>
              <a:t>之</a:t>
            </a:r>
            <a:r>
              <a:rPr b="1" lang="zh-CN" sz="4400" spc="-1" strike="noStrike">
                <a:solidFill>
                  <a:srgbClr val="0f0501"/>
                </a:solidFill>
                <a:latin typeface="宋体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11640" y="1700280"/>
            <a:ext cx="201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  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88080" y="2770200"/>
            <a:ext cx="191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信  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3733920"/>
            <a:ext cx="198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信  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981080"/>
            <a:ext cx="77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f0501"/>
                </a:solidFill>
                <a:latin typeface="Times New Roman"/>
              </a:rPr>
              <a:t>3.</a:t>
            </a:r>
            <a:r>
              <a:rPr b="1" lang="zh-CN" sz="5400" spc="-1" strike="noStrike">
                <a:solidFill>
                  <a:srgbClr val="0f0501"/>
                </a:solidFill>
                <a:latin typeface="Times New Roman"/>
              </a:rPr>
              <a:t>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9640" y="1989000"/>
            <a:ext cx="80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c0c02"/>
                </a:solidFill>
                <a:latin typeface="Times New Roman"/>
              </a:rPr>
              <a:t>4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c0c02"/>
                </a:solidFill>
                <a:latin typeface="Times New Roman"/>
              </a:rPr>
              <a:t>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19280" y="213372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c0c02"/>
                </a:solidFill>
                <a:latin typeface="黑体"/>
                <a:ea typeface="黑体"/>
              </a:rPr>
              <a:t>十年春，齐师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伐</a:t>
            </a:r>
            <a:r>
              <a:rPr b="1" lang="zh-CN" sz="4000" spc="-1" strike="noStrike">
                <a:solidFill>
                  <a:srgbClr val="2c0c02"/>
                </a:solidFill>
                <a:latin typeface="黑体"/>
                <a:ea typeface="黑体"/>
              </a:rPr>
              <a:t>我（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伐</a:t>
            </a:r>
            <a:r>
              <a:rPr b="1" lang="zh-CN" sz="4000" spc="-1" strike="noStrike">
                <a:solidFill>
                  <a:srgbClr val="2c0c02"/>
                </a:solidFill>
                <a:latin typeface="Times New Roman"/>
                <a:ea typeface="黑体"/>
              </a:rPr>
              <a:t>竹取道，下见小潭（   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43640" y="2133720"/>
            <a:ext cx="15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进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77080" y="328464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砍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2276640"/>
            <a:ext cx="379440" cy="1655640"/>
          </a:xfrm>
          <a:custGeom>
            <a:avLst/>
            <a:gdLst>
              <a:gd name="textAreaLeft" fmla="*/ 242640 w 379440"/>
              <a:gd name="textAreaRight" fmla="*/ 379800 w 37944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f0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55640" y="2349360"/>
            <a:ext cx="73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c0c02"/>
                </a:solidFill>
                <a:latin typeface="宋体"/>
              </a:rPr>
              <a:t>5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c0c02"/>
                </a:solidFill>
                <a:latin typeface="宋体"/>
              </a:rPr>
              <a:t>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47640" y="2637000"/>
            <a:ext cx="379440" cy="1655640"/>
          </a:xfrm>
          <a:custGeom>
            <a:avLst/>
            <a:gdLst>
              <a:gd name="textAreaLeft" fmla="*/ 242640 w 379440"/>
              <a:gd name="textAreaRight" fmla="*/ 379800 w 37944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f0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2421000"/>
            <a:ext cx="6854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c0c02"/>
                </a:solidFill>
                <a:latin typeface="宋体"/>
              </a:rPr>
              <a:t>衣食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安</a:t>
            </a:r>
            <a:r>
              <a:rPr b="1" lang="zh-CN" sz="4400" spc="-1" strike="noStrike">
                <a:solidFill>
                  <a:srgbClr val="2c0c02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2c0c02"/>
                </a:solidFill>
                <a:latin typeface="宋体"/>
              </a:rPr>
              <a:t>弗敢专也</a:t>
            </a:r>
            <a:r>
              <a:rPr b="1" lang="zh-CN" sz="4400" spc="-1" strike="noStrike">
                <a:solidFill>
                  <a:srgbClr val="2c0c02"/>
                </a:solidFill>
                <a:latin typeface="宋体"/>
              </a:rPr>
              <a:t>(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安</a:t>
            </a:r>
            <a:r>
              <a:rPr b="1" lang="zh-CN" sz="4400" spc="-1" strike="noStrike">
                <a:solidFill>
                  <a:srgbClr val="2c0c02"/>
                </a:solidFill>
                <a:latin typeface="Times New Roman"/>
              </a:rPr>
              <a:t>能辨我是雄雌</a:t>
            </a:r>
            <a:r>
              <a:rPr b="1" lang="zh-CN" sz="4400" spc="-1" strike="noStrike">
                <a:solidFill>
                  <a:srgbClr val="2c0c02"/>
                </a:solidFill>
                <a:latin typeface="Times New Roman"/>
              </a:rPr>
              <a:t>(          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93080" y="2421000"/>
            <a:ext cx="88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27640" y="3860640"/>
            <a:ext cx="23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怎么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09680" y="18288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413000"/>
            <a:ext cx="891540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下列句中红色的词与“忠之属也”的“属”意思相同的一项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属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予作文以记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神情与苏黄不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常有高猿长啸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属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引凄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良田美池桑竹之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4360" y="206064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b47d1"/>
                </a:solidFill>
                <a:latin typeface="Times New Roman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42920" y="404640"/>
            <a:ext cx="3025800" cy="76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Times New Roman"/>
                <a:ea typeface="幼圆"/>
              </a:rPr>
              <a:t>考题呈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838080" y="9907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1628640"/>
            <a:ext cx="9144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f0501"/>
                </a:solidFill>
                <a:latin typeface="Times New Roman"/>
              </a:rPr>
              <a:t>一、解释下列句中的红色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f0501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0f0501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0f0501"/>
                </a:solidFill>
                <a:latin typeface="Times New Roman"/>
              </a:rPr>
              <a:t>小惠未</a:t>
            </a:r>
            <a:r>
              <a:rPr b="1" lang="zh-CN" sz="4800" spc="-1" strike="noStrike">
                <a:solidFill>
                  <a:srgbClr val="f1420b"/>
                </a:solidFill>
                <a:latin typeface="Times New Roman"/>
              </a:rPr>
              <a:t>徧</a:t>
            </a:r>
            <a:r>
              <a:rPr b="1" lang="zh-CN" sz="4800" spc="-1" strike="noStrike">
                <a:solidFill>
                  <a:srgbClr val="0f0501"/>
                </a:solidFill>
                <a:latin typeface="Times New Roman"/>
              </a:rPr>
              <a:t>（                    ）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f0501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0f0501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0f0501"/>
                </a:solidFill>
                <a:latin typeface="Times New Roman"/>
              </a:rPr>
              <a:t>肉食者</a:t>
            </a:r>
            <a:r>
              <a:rPr b="1" lang="zh-CN" sz="4800" spc="-1" strike="noStrike">
                <a:solidFill>
                  <a:srgbClr val="f1420b"/>
                </a:solidFill>
                <a:latin typeface="Times New Roman"/>
              </a:rPr>
              <a:t>鄙</a:t>
            </a:r>
            <a:r>
              <a:rPr b="1" lang="zh-CN" sz="4800" spc="-1" strike="noStrike">
                <a:solidFill>
                  <a:srgbClr val="0f0501"/>
                </a:solidFill>
                <a:latin typeface="Times New Roman"/>
              </a:rPr>
              <a:t>（            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f0501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0f0501"/>
                </a:solidFill>
                <a:latin typeface="Times New Roman"/>
              </a:rPr>
              <a:t>3.</a:t>
            </a:r>
            <a:r>
              <a:rPr b="1" lang="zh-CN" sz="4800" spc="-1" strike="noStrike">
                <a:solidFill>
                  <a:srgbClr val="0f0501"/>
                </a:solidFill>
                <a:latin typeface="Times New Roman"/>
              </a:rPr>
              <a:t>小大之</a:t>
            </a:r>
            <a:r>
              <a:rPr b="1" lang="zh-CN" sz="4800" spc="-1" strike="noStrike">
                <a:solidFill>
                  <a:srgbClr val="f1420b"/>
                </a:solidFill>
                <a:latin typeface="Times New Roman"/>
              </a:rPr>
              <a:t>狱</a:t>
            </a:r>
            <a:r>
              <a:rPr b="1" lang="zh-CN" sz="4800" spc="-1" strike="noStrike">
                <a:solidFill>
                  <a:srgbClr val="0f0501"/>
                </a:solidFill>
                <a:latin typeface="Times New Roman"/>
              </a:rPr>
              <a:t>（         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59280" y="378936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目光短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88000" y="2781360"/>
            <a:ext cx="373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“遍”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遍及</a:t>
            </a:r>
            <a:r>
              <a:rPr b="1" lang="zh-CN" sz="4000" spc="-1" strike="noStrike">
                <a:solidFill>
                  <a:srgbClr val="4c64da"/>
                </a:solidFill>
                <a:latin typeface="隶书"/>
                <a:ea typeface="隶书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03640" y="486900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案 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5076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549360"/>
            <a:ext cx="4895640" cy="8251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f0501"/>
                </a:solidFill>
                <a:latin typeface="Times New Roman"/>
                <a:ea typeface="隶书"/>
              </a:rPr>
              <a:t>复习检测（二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900000" y="1557360"/>
            <a:ext cx="7925040" cy="31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b0f03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2b0f03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再</a:t>
            </a:r>
            <a:r>
              <a:rPr b="1" lang="zh-CN" sz="4800" spc="-1" strike="noStrike">
                <a:solidFill>
                  <a:srgbClr val="2b0f03"/>
                </a:solidFill>
                <a:latin typeface="Times New Roman"/>
              </a:rPr>
              <a:t>而衰（               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b0f03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2b0f03"/>
                </a:solidFill>
                <a:latin typeface="Times New Roman"/>
              </a:rPr>
              <a:t>、公将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鼓</a:t>
            </a:r>
            <a:r>
              <a:rPr b="1" lang="zh-CN" sz="4800" spc="-1" strike="noStrike">
                <a:solidFill>
                  <a:srgbClr val="2b0f03"/>
                </a:solidFill>
                <a:latin typeface="Times New Roman"/>
              </a:rPr>
              <a:t>之（            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b0f03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2b0f03"/>
                </a:solidFill>
                <a:latin typeface="Times New Roman"/>
              </a:rPr>
              <a:t>、神弗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福</a:t>
            </a:r>
            <a:r>
              <a:rPr b="1" lang="zh-CN" sz="4800" spc="-1" strike="noStrike">
                <a:solidFill>
                  <a:srgbClr val="2b0f03"/>
                </a:solidFill>
                <a:latin typeface="Times New Roman"/>
              </a:rPr>
              <a:t>也（                    ）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03640" y="256536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击 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8000" y="14842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第二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27640" y="386064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赐福保佑</a:t>
            </a:r>
            <a:r>
              <a:rPr b="1" lang="zh-CN" sz="5400" spc="-1" strike="noStrike">
                <a:solidFill>
                  <a:srgbClr val="4c64da"/>
                </a:solidFill>
                <a:latin typeface="Times New Roman"/>
                <a:ea typeface="隶书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6680" y="304920"/>
            <a:ext cx="70106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释下列各句中红色词语古今的不同意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牺牲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玉帛，弗敢加也，必以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义：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忠之属也。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可以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义：           今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肉食者谋之，又何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间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义：           今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大之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狱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虽不能察，必以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义：            今义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160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祭祀用的猪、牛、羊等祭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2286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为正义事业舍生，引申为丢弃某种利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60680" y="3505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可以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72360" y="3505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表示可能，许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480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参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4800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隔开，不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60199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案件，官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13320" y="60213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监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4360" y="3284640"/>
            <a:ext cx="914400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d0c0b"/>
                </a:solidFill>
                <a:latin typeface="黑体"/>
                <a:ea typeface="黑体"/>
              </a:rPr>
              <a:t>A.</a:t>
            </a:r>
            <a:r>
              <a:rPr b="0" lang="zh-CN" sz="4800" spc="-1" strike="noStrike">
                <a:solidFill>
                  <a:srgbClr val="0d0c0b"/>
                </a:solidFill>
                <a:latin typeface="黑体"/>
                <a:ea typeface="黑体"/>
              </a:rPr>
              <a:t>齐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师</a:t>
            </a:r>
            <a:r>
              <a:rPr b="0" lang="zh-CN" sz="4800" spc="-1" strike="noStrike">
                <a:solidFill>
                  <a:srgbClr val="0d0c0b"/>
                </a:solidFill>
                <a:latin typeface="黑体"/>
                <a:ea typeface="黑体"/>
              </a:rPr>
              <a:t>伐我    威武之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d0c0b"/>
                </a:solidFill>
                <a:latin typeface="黑体"/>
                <a:ea typeface="黑体"/>
              </a:rPr>
              <a:t>B.</a:t>
            </a:r>
            <a:r>
              <a:rPr b="0" lang="zh-CN" sz="4800" spc="-1" strike="noStrike">
                <a:solidFill>
                  <a:srgbClr val="0d0c0b"/>
                </a:solidFill>
                <a:latin typeface="黑体"/>
                <a:ea typeface="黑体"/>
              </a:rPr>
              <a:t>肉食者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鄙</a:t>
            </a:r>
            <a:r>
              <a:rPr b="0" lang="zh-CN" sz="4800" spc="-1" strike="noStrike">
                <a:solidFill>
                  <a:srgbClr val="f1420b"/>
                </a:solidFill>
                <a:latin typeface="黑体"/>
                <a:ea typeface="黑体"/>
              </a:rPr>
              <a:t>    </a:t>
            </a:r>
            <a:r>
              <a:rPr b="0" lang="zh-CN" sz="4800" spc="-1" strike="noStrike">
                <a:solidFill>
                  <a:srgbClr val="0d0c0b"/>
                </a:solidFill>
                <a:latin typeface="黑体"/>
                <a:ea typeface="黑体"/>
              </a:rPr>
              <a:t>卑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鄙</a:t>
            </a:r>
            <a:r>
              <a:rPr b="0" lang="zh-CN" sz="4800" spc="-1" strike="noStrike">
                <a:solidFill>
                  <a:srgbClr val="0d0c0b"/>
                </a:solidFill>
                <a:latin typeface="黑体"/>
                <a:ea typeface="黑体"/>
              </a:rPr>
              <a:t>无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d0c0b"/>
                </a:solidFill>
                <a:latin typeface="黑体"/>
                <a:ea typeface="黑体"/>
              </a:rPr>
              <a:t>C.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牺牲</a:t>
            </a:r>
            <a:r>
              <a:rPr b="0" lang="zh-CN" sz="4800" spc="-1" strike="noStrike">
                <a:solidFill>
                  <a:srgbClr val="2c1202"/>
                </a:solidFill>
                <a:latin typeface="Times New Roman"/>
                <a:ea typeface="黑体"/>
              </a:rPr>
              <a:t>玉帛</a:t>
            </a:r>
            <a:r>
              <a:rPr b="0" lang="zh-CN" sz="4800" spc="-1" strike="noStrike">
                <a:solidFill>
                  <a:srgbClr val="2c1202"/>
                </a:solidFill>
                <a:latin typeface="Times New Roman"/>
                <a:ea typeface="华文新魏"/>
              </a:rPr>
              <a:t>        </a:t>
            </a:r>
            <a:r>
              <a:rPr b="0" lang="zh-CN" sz="4800" spc="-1" strike="noStrike">
                <a:solidFill>
                  <a:srgbClr val="2c1202"/>
                </a:solidFill>
                <a:latin typeface="Times New Roman"/>
                <a:ea typeface="黑体"/>
              </a:rPr>
              <a:t>英勇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牺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c1202"/>
                </a:solidFill>
                <a:latin typeface="楷体_GB2312"/>
                <a:ea typeface="楷体_GB2312"/>
              </a:rPr>
              <a:t>D.</a:t>
            </a:r>
            <a:r>
              <a:rPr b="0" lang="zh-CN" sz="4800" spc="-1" strike="noStrike">
                <a:solidFill>
                  <a:srgbClr val="f1420b"/>
                </a:solidFill>
                <a:latin typeface="黑体"/>
                <a:ea typeface="黑体"/>
              </a:rPr>
              <a:t>忠</a:t>
            </a:r>
            <a:r>
              <a:rPr b="0" lang="zh-CN" sz="4800" spc="-1" strike="noStrike">
                <a:solidFill>
                  <a:srgbClr val="2c1202"/>
                </a:solidFill>
                <a:latin typeface="黑体"/>
                <a:ea typeface="黑体"/>
              </a:rPr>
              <a:t>之属也    赤胆</a:t>
            </a:r>
            <a:r>
              <a:rPr b="0" lang="zh-CN" sz="4800" spc="-1" strike="noStrike">
                <a:solidFill>
                  <a:srgbClr val="f1420b"/>
                </a:solidFill>
                <a:latin typeface="黑体"/>
                <a:ea typeface="黑体"/>
              </a:rPr>
              <a:t>忠</a:t>
            </a:r>
            <a:r>
              <a:rPr b="0" lang="zh-CN" sz="4800" spc="-1" strike="noStrike">
                <a:solidFill>
                  <a:srgbClr val="2c1202"/>
                </a:solidFill>
                <a:latin typeface="黑体"/>
                <a:ea typeface="黑体"/>
              </a:rPr>
              <a:t>心</a:t>
            </a:r>
            <a:r>
              <a:rPr b="0" lang="zh-CN" sz="5400" spc="-1" strike="noStrike">
                <a:solidFill>
                  <a:srgbClr val="2c1202"/>
                </a:solidFill>
                <a:latin typeface="华文新魏"/>
                <a:ea typeface="华文新魏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30481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15200" y="43434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11430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6858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1557360"/>
            <a:ext cx="845964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下列各组中红色的词意思相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一项是（  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27640" y="2133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b47d1"/>
                </a:solidFill>
                <a:latin typeface="黑体"/>
                <a:ea typeface="黑体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404640"/>
            <a:ext cx="3025800" cy="76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Times New Roman"/>
                <a:ea typeface="幼圆"/>
              </a:rPr>
              <a:t>考题呈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1268280"/>
            <a:ext cx="883908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下列句中红色的词与“必以分人”中的“以”意思相同的一项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天下之所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攻亲戚之所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残年余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曾不能损魁父之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君为长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物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以己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5181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451640" y="22050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b47d1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76280"/>
            <a:ext cx="446400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0501"/>
                </a:solidFill>
                <a:latin typeface="幼圆"/>
                <a:ea typeface="幼圆"/>
              </a:rPr>
              <a:t>复习检测 考题呈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24000" y="1413000"/>
            <a:ext cx="95202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下列句中红色的词与“肉食者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之”的“之”字用法相同的一项是</a:t>
            </a: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( 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68360" y="3068640"/>
            <a:ext cx="568836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A.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小大</a:t>
            </a:r>
            <a:r>
              <a:rPr b="1" lang="zh-CN" sz="4400" spc="-1" strike="noStrike">
                <a:solidFill>
                  <a:srgbClr val="f1420b"/>
                </a:solidFill>
                <a:latin typeface="Times New Roman"/>
                <a:ea typeface="黑体"/>
              </a:rPr>
              <a:t>之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B.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公将鼓</a:t>
            </a:r>
            <a:r>
              <a:rPr b="1" lang="zh-CN" sz="4400" spc="-1" strike="noStrike">
                <a:solidFill>
                  <a:srgbClr val="f1420b"/>
                </a:solidFill>
                <a:latin typeface="Times New Roman"/>
                <a:ea typeface="黑体"/>
              </a:rPr>
              <a:t>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C.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辍耕</a:t>
            </a:r>
            <a:r>
              <a:rPr b="1" lang="zh-CN" sz="4400" spc="-1" strike="noStrike">
                <a:solidFill>
                  <a:srgbClr val="f1420b"/>
                </a:solidFill>
                <a:latin typeface="Times New Roman"/>
                <a:ea typeface="黑体"/>
              </a:rPr>
              <a:t>之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垄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D.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属予作文以记</a:t>
            </a:r>
            <a:r>
              <a:rPr b="1" lang="zh-CN" sz="4400" spc="-1" strike="noStrike">
                <a:solidFill>
                  <a:srgbClr val="f1420b"/>
                </a:solidFill>
                <a:latin typeface="Times New Roman"/>
                <a:ea typeface="黑体"/>
              </a:rPr>
              <a:t>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96360" y="206064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b47d1"/>
                </a:solidFill>
                <a:latin typeface="Times New Roman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692360" y="2708280"/>
            <a:ext cx="82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寒暑易节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始一反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焉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.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且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焉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置土石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.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又何间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焉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.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惧有伏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焉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1052640"/>
            <a:ext cx="82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c0c02"/>
                </a:solidFill>
                <a:latin typeface="Times New Roman"/>
              </a:rPr>
              <a:t>3.</a:t>
            </a:r>
            <a:r>
              <a:rPr b="1" lang="zh-CN" sz="4800" spc="-1" strike="noStrike">
                <a:solidFill>
                  <a:srgbClr val="2c0c02"/>
                </a:solidFill>
                <a:latin typeface="Times New Roman"/>
              </a:rPr>
              <a:t>下列句中红色的词用法相同的两项是（     ）和（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64000" y="1773360"/>
            <a:ext cx="59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56360" y="1773360"/>
            <a:ext cx="88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600200" y="2286000"/>
            <a:ext cx="8001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小大之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狱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虽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不能察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必以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情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鼓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作气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再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而衰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三而竭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肉食者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谋之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又何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间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焉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3280" y="765000"/>
            <a:ext cx="3457800" cy="8251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语句释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92360" y="5734080"/>
            <a:ext cx="6480000" cy="620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35280" y="573408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一定注意译准红色词语的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762120"/>
            <a:ext cx="4106880" cy="8251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复习重点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9640" y="765000"/>
            <a:ext cx="705816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注意特殊句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倒装句</a:t>
            </a: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判断句</a:t>
            </a: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等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2590920"/>
            <a:ext cx="63248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何以战</a:t>
            </a:r>
            <a:r>
              <a:rPr b="0" lang="zh-CN" sz="4400" spc="-1" strike="noStrike">
                <a:solidFill>
                  <a:srgbClr val="0f0501"/>
                </a:solidFill>
                <a:latin typeface="Times New Roman"/>
              </a:rPr>
              <a:t>?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3505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4267080"/>
            <a:ext cx="403848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62320" y="3429000"/>
            <a:ext cx="44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凭借什么作战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44956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夫战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勇气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6172200"/>
            <a:ext cx="480060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5410080"/>
            <a:ext cx="54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作战，是靠勇气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066680" y="1828800"/>
            <a:ext cx="2971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16360" y="836640"/>
            <a:ext cx="3167280" cy="9169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理解文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2971800" y="2133720"/>
            <a:ext cx="116586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                       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贯穿全篇的线索是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(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A.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战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B.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远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C.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勇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D.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一鼓作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54880" y="190512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b47d1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71640" y="836640"/>
            <a:ext cx="3746520" cy="9169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复习重点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55640" y="1447920"/>
            <a:ext cx="792000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文中表明曹刿“请见”的原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是什么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?(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用曹刿的话回答</a:t>
            </a:r>
            <a:r>
              <a:rPr b="1" lang="zh-CN" sz="4400" spc="-1" strike="noStrike">
                <a:solidFill>
                  <a:srgbClr val="0f0501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03280" y="3860640"/>
            <a:ext cx="52578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58920" y="314172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932f4"/>
                </a:solidFill>
                <a:latin typeface="黑体"/>
                <a:ea typeface="黑体"/>
              </a:rPr>
              <a:t>肉食者鄙</a:t>
            </a:r>
            <a:r>
              <a:rPr b="1" lang="zh-CN" sz="4400" spc="-1" strike="noStrike">
                <a:solidFill>
                  <a:srgbClr val="4932f4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4932f4"/>
                </a:solidFill>
                <a:latin typeface="黑体"/>
                <a:ea typeface="黑体"/>
              </a:rPr>
              <a:t>未能远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414972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曹刿认为</a:t>
            </a:r>
            <a:r>
              <a:rPr b="1" lang="zh-CN" sz="2400" spc="-1" strike="noStrike">
                <a:solidFill>
                  <a:srgbClr val="0f0501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“可以一战”的条件是什么</a:t>
            </a:r>
            <a:r>
              <a:rPr b="0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6858000"/>
            <a:ext cx="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6400800"/>
            <a:ext cx="685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41880" y="5638680"/>
            <a:ext cx="505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932f4"/>
                </a:solidFill>
                <a:latin typeface="黑体"/>
                <a:ea typeface="黑体"/>
              </a:rPr>
              <a:t>小大之狱</a:t>
            </a:r>
            <a:r>
              <a:rPr b="1" lang="zh-CN" sz="4400" spc="-1" strike="noStrike">
                <a:solidFill>
                  <a:srgbClr val="4932f4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4932f4"/>
                </a:solidFill>
                <a:latin typeface="黑体"/>
                <a:ea typeface="黑体"/>
              </a:rPr>
              <a:t>虽不能察</a:t>
            </a:r>
            <a:r>
              <a:rPr b="1" lang="zh-CN" sz="4400" spc="-1" strike="noStrike">
                <a:solidFill>
                  <a:srgbClr val="4932f4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4932f4"/>
                </a:solidFill>
                <a:latin typeface="黑体"/>
                <a:ea typeface="黑体"/>
              </a:rPr>
              <a:t>必以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用原文中的语句回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258920" y="620640"/>
            <a:ext cx="838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5943600"/>
            <a:ext cx="583236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6858000"/>
            <a:ext cx="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9640" y="1628640"/>
            <a:ext cx="831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0501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f0501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0f0501"/>
                </a:solidFill>
                <a:latin typeface="黑体"/>
                <a:ea typeface="黑体"/>
              </a:rPr>
              <a:t>曹刿分析取胜的原因有两条：一条是选择有利于进攻的时机，即文中的哪一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0501"/>
                </a:solidFill>
                <a:latin typeface="黑体"/>
                <a:ea typeface="黑体"/>
              </a:rPr>
              <a:t>一条是把握有利于追击的时机，又是哪一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82480" y="31240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彼竭我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18080" y="51814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吾视其辙乱，望其旗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用原文中的语句回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80000" y="3860640"/>
            <a:ext cx="244764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476280"/>
            <a:ext cx="914400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结合原文，用自己的话回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15238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1.“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彼竭我盈”指什么时候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3200400"/>
            <a:ext cx="5943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23623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齐人三鼓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我军一鼓之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342900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2.“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辙乱旗靡”是怎么发现的</a:t>
            </a:r>
            <a:r>
              <a:rPr b="1" lang="zh-CN" sz="4400" spc="-1" strike="noStrike">
                <a:solidFill>
                  <a:srgbClr val="0f0501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5105520"/>
            <a:ext cx="76964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43434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辙乱是曹刿下车后仔细观察发现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97080" y="54100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旗靡是曹刿登上车前横木发现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6172200"/>
            <a:ext cx="72392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685800"/>
            <a:ext cx="7391160" cy="65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辨析下列各组句子中红色词语的不同意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吾视其辙乱，望其旗靡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逐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既克，公问其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民弗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战则请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既克，公问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吾视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辙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乡人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3716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048120"/>
            <a:ext cx="76320" cy="129528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4572000"/>
            <a:ext cx="76320" cy="129528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1295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所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2362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缘故，原因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2971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听从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3962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跟随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4419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这样，如此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952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他们的，指齐军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54864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他的，指曹刿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68000" y="1916280"/>
            <a:ext cx="8496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0501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0f0501"/>
                </a:solidFill>
                <a:latin typeface="黑体"/>
                <a:ea typeface="黑体"/>
              </a:rPr>
              <a:t>文中的“将鼓”“将驰”表现了鲁庄公                    ；       </a:t>
            </a:r>
            <a:r>
              <a:rPr b="1" lang="zh-CN" sz="4000" spc="-1" strike="noStrike" u="sng">
                <a:solidFill>
                  <a:srgbClr val="0f0501"/>
                </a:solidFill>
                <a:uFillTx/>
                <a:latin typeface="黑体"/>
                <a:ea typeface="黑体"/>
              </a:rPr>
              <a:t>                              </a:t>
            </a:r>
            <a:r>
              <a:rPr b="1" lang="zh-CN" sz="4000" spc="-1" strike="noStrike">
                <a:solidFill>
                  <a:srgbClr val="0f0501"/>
                </a:solidFill>
                <a:latin typeface="黑体"/>
                <a:ea typeface="黑体"/>
              </a:rPr>
              <a:t>“未可”“可矣”表现了曹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0501"/>
                </a:solidFill>
                <a:latin typeface="黑体"/>
                <a:ea typeface="黑体"/>
              </a:rPr>
              <a:t>                       </a:t>
            </a:r>
            <a:r>
              <a:rPr b="1" lang="zh-CN" sz="4000" spc="-1" strike="noStrike">
                <a:solidFill>
                  <a:srgbClr val="0f0501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16000" y="3068640"/>
            <a:ext cx="5040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03280" y="4292640"/>
            <a:ext cx="5616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胸有成竹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从容不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76360" y="3500280"/>
            <a:ext cx="4897440" cy="0"/>
          </a:xfrm>
          <a:prstGeom prst="line">
            <a:avLst/>
          </a:prstGeom>
          <a:ln w="31680">
            <a:solidFill>
              <a:srgbClr val="0f0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692280"/>
            <a:ext cx="914400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结合原文，用自己的话回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03280" y="4941720"/>
            <a:ext cx="4969080" cy="0"/>
          </a:xfrm>
          <a:prstGeom prst="line">
            <a:avLst/>
          </a:prstGeom>
          <a:ln w="31680">
            <a:solidFill>
              <a:srgbClr val="0f0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2852640"/>
            <a:ext cx="5473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草率进攻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鲁莽急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55640" y="141300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鲁军战胜齐军的原因</a:t>
            </a: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请结合课文判断</a:t>
            </a: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哪些是正确的</a:t>
            </a:r>
            <a:r>
              <a:rPr b="1" lang="zh-CN" sz="4000" spc="-1" strike="noStrike">
                <a:solidFill>
                  <a:srgbClr val="0f0501"/>
                </a:solidFill>
                <a:latin typeface="Times New Roman"/>
              </a:rPr>
              <a:t>(                   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-1066680" y="2924280"/>
            <a:ext cx="10210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战前对作战部署谋划的周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.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战前在政治上取信于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.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鲁庄公亲自部署指挥战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.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军事上采用了后发制人的战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E.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详察敌情以后才下令追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52360" y="2060640"/>
            <a:ext cx="17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420b"/>
                </a:solidFill>
                <a:latin typeface="Times New Roman"/>
              </a:rPr>
              <a:t>B D 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71640" y="476280"/>
            <a:ext cx="26128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501"/>
                </a:solidFill>
                <a:latin typeface="Times New Roman"/>
                <a:ea typeface="幼圆"/>
              </a:rPr>
              <a:t>考点呈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55640" y="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1420b"/>
                </a:solidFill>
                <a:latin typeface="Times New Roman"/>
                <a:ea typeface="华文隶书"/>
              </a:rPr>
              <a:t>他山之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9280" y="76500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10.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解释下列语句中加点词的意思。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(3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分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齐师伐我          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牺牲玉帛          牺牲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小大之狱          狱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11. 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用现代汉语翻译下面的语句。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(3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分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肉食者鄙 翻译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可以一战 翻译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一鼓作气 翻译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12. 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文中的哪些地方表现了曹刿的“远谋”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?(2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分</a:t>
            </a:r>
            <a:r>
              <a:rPr b="1" lang="zh-CN" sz="3200" spc="-1" strike="noStrike">
                <a:solidFill>
                  <a:srgbClr val="0f0501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1480" y="1268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420b"/>
                </a:solidFill>
                <a:latin typeface="Times New Roman"/>
              </a:rPr>
              <a:t>讨伐，进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47920" y="177336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1420b"/>
                </a:solidFill>
                <a:latin typeface="Times New Roman"/>
              </a:rPr>
              <a:t>古代祭祀用的猪、牛、羊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97960" y="2171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420b"/>
                </a:solidFill>
                <a:latin typeface="Times New Roman"/>
              </a:rPr>
              <a:t>案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71120" y="37162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1420b"/>
                </a:solidFill>
                <a:latin typeface="Times New Roman"/>
              </a:rPr>
              <a:t>居高位、享厚禄的贵族官僚们目光短浅，不能深谋远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61920" y="4724280"/>
            <a:ext cx="24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可凭借</a:t>
            </a: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这个条件</a:t>
            </a: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打一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56040" y="5610240"/>
            <a:ext cx="35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第一次击鼓</a:t>
            </a: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能够</a:t>
            </a: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振作</a:t>
            </a: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士兵们的</a:t>
            </a: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勇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314172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6920" y="4365720"/>
            <a:ext cx="7848720" cy="1727280"/>
          </a:xfrm>
          <a:prstGeom prst="wedgeRectCallout">
            <a:avLst>
              <a:gd name="adj1" fmla="val 19537"/>
              <a:gd name="adj2" fmla="val 67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表现曹刿“远谋”的地方有：在战争之前，曹刿就预见到“肉食者鄙，未能远谋”。在实战过程中，不急于进攻和追击，表现了他在战略上的深谋远虑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300720" y="189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北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怀柔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765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解释下列加点词在句中的意思。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(3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分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肉食者谋之，又何间焉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? 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间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小信未孚，神弗福也。   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既克，公问其故。           故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用现代汉语解释文中画线的句子。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(3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分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　　肉食者鄙，未能远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7.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按下列要求，用选文的原句回答。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(5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分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鲁庄公的答复中最符合曹刿“取信于民”这一思想的句子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齐军大败后，鲁庄公“将驰之”，曹刿说：“未可。”曹刿阐述理由的句子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8.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出身下层的谋士曹刿毛遂自荐，辅佐鲁庄公取得长勺之战的胜利。曹刿的成功给你什么启发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?(4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分</a:t>
            </a:r>
            <a:r>
              <a:rPr b="1" lang="zh-CN" sz="2800" spc="-1" strike="noStrike">
                <a:solidFill>
                  <a:srgbClr val="0f050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0000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福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浦田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85800" y="117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参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80520" y="162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赐福、保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53600" y="2060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缘故、原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19640" y="2924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1420b"/>
                </a:solidFill>
                <a:latin typeface="Times New Roman"/>
              </a:rPr>
              <a:t>大官们眼光短浅，不能深谋远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8000" y="4221000"/>
            <a:ext cx="53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420b"/>
                </a:solidFill>
                <a:latin typeface="Times New Roman"/>
              </a:rPr>
              <a:t>小大之狱，虽不能察，必以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88000" y="5084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1420b"/>
                </a:solidFill>
                <a:latin typeface="Times New Roman"/>
              </a:rPr>
              <a:t>夫大国，难测也，惧有伏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4149720"/>
            <a:ext cx="8353440" cy="1297080"/>
          </a:xfrm>
          <a:prstGeom prst="wedgeRectCallout">
            <a:avLst>
              <a:gd name="adj1" fmla="val 4143"/>
              <a:gd name="adj2" fmla="val 95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1420b"/>
                </a:solidFill>
                <a:latin typeface="Times New Roman"/>
              </a:rPr>
              <a:t>示例：能力的展现需要一个舞台，当机遇尚未到来时，应该积极为自己能力的展现寻找机会，让别人认识你，欣赏你，愿意为你提供施展才华的平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000000"/>
              </a:solidFill>
              <a:latin typeface="Times New Roman"/>
              <a:ea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文言重点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5000"/>
              </a:lnSpc>
              <a:spcBef>
                <a:spcPts val="2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忠之属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5000"/>
              </a:lnSpc>
              <a:spcBef>
                <a:spcPts val="2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以一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5000"/>
              </a:lnSpc>
              <a:spcBef>
                <a:spcPts val="2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战则请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5000"/>
              </a:lnSpc>
              <a:spcBef>
                <a:spcPts val="2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与之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05740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这是尽了职分的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2971800"/>
            <a:ext cx="41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可以凭借这个条件打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38862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（如果）作战，就请允许（我）跟随着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006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鲁庄公和他共坐一辆战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000000"/>
              </a:solidFill>
              <a:latin typeface="Times New Roman"/>
              <a:ea typeface="黑体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夫战，勇气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鼓作气，再而衰，三而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49080" y="2895480"/>
            <a:ext cx="37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作战，要靠勇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4114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第一次击鼓能够振作士气，第二次击鼓士气减弱，到第三次击鼓时士气已经枯竭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9:03:25Z</dcterms:created>
  <dc:creator>Billgates</dc:creator>
  <dc:description/>
  <dc:language>en-US</dc:language>
  <cp:lastModifiedBy>User</cp:lastModifiedBy>
  <dcterms:modified xsi:type="dcterms:W3CDTF">2013-03-10T14:31:37Z</dcterms:modified>
  <cp:revision>39</cp:revision>
  <dc:subject/>
  <dc:title>PowerPoint 演示文稿</dc:title>
</cp:coreProperties>
</file>