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D58-8580-4FD2-999C-CEA5EA4C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34E-C6B0-4A1E-8119-A67D3829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86A-96B4-41CD-9938-8C2209EE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E5A-985A-4C42-86BB-5A75E0DD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158-4880-424B-8975-C3251200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ED1-9A65-4C0D-A539-686A578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560-CAD5-4396-A0C3-04F889E8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DC9-6DD7-4F5F-989F-333263FD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B97-658A-4FD1-BF15-C8E4AA36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5E5-D710-4915-9F71-CFF3C0F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A89-2887-48E7-ACA5-2A74C76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395-E35D-4DD7-BF83-AE33012C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7E57-DC62-403E-96D5-E7906F3A6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m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6019560" cy="529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4560" y="56944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895480"/>
            <a:ext cx="464832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§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猜猜我有多爱你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§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Sam McBratney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Anita Jeram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ess08h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01040" y="5670720"/>
            <a:ext cx="105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格格笑着说：“我爱你，和我跳得一样高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跳来，又跳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uess09h" descr=""/>
          <p:cNvPicPr/>
          <p:nvPr/>
        </p:nvPicPr>
        <p:blipFill>
          <a:blip r:embed="rId2"/>
          <a:stretch/>
        </p:blipFill>
        <p:spPr>
          <a:xfrm>
            <a:off x="165240" y="30492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4100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微笑着说：“可是，我爱你和我跳得一样高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说着往上一跳，耳朵都碰到树枝了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跳得真高，小兔子想。要是我也能跳得和他一样高，该多好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uess10h" descr=""/>
          <p:cNvPicPr/>
          <p:nvPr/>
        </p:nvPicPr>
        <p:blipFill>
          <a:blip r:embed="rId2"/>
          <a:stretch/>
        </p:blipFill>
        <p:spPr>
          <a:xfrm>
            <a:off x="165240" y="30492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88720" y="5410080"/>
            <a:ext cx="14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大叫：“我爱你，一直穿过小路，到远远的河那边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说：“我爱你，一直穿过了小河，到山的那一边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guess11h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968960" cy="4613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940280"/>
            <a:ext cx="826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想，那真是好远啊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快要睡过去了，什么也想不起来了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时，他看看树丛前方，无边的黑夜之中，再没有什么比那天空更遥远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guess12h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483400" cy="48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93120" y="5410080"/>
            <a:ext cx="31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，一直到月亮上面。”小兔子说着，闭上了眼睛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噢！那可真远，”大兔子说，“真的是非常、非常远了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uess14h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385128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，大兔子轻轻地躺在小兔子的旁边，带着一个微笑，小声说道：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我爱你，从这儿一直到月亮上面，再—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绕回来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uess00h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5079960" cy="594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7240" y="990720"/>
            <a:ext cx="14601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兔子要上床睡觉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紧紧抓住大兔子长长的耳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uess01h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8200" cy="4757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92960" y="5305320"/>
            <a:ext cx="199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要大兔子认认真真地听他说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猜猜我有多爱你？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噢，我想我猜不出来。”大兔子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uess02h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17000" cy="4736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20200" y="5486400"/>
            <a:ext cx="90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有这么多。”小兔子说着，使劲儿把两只手臂张得大大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uess03h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12040" cy="477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530532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的手臂更长，他也张开手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可是，我爱你有这么多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想：嗯，这确实很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uess04h" descr=""/>
          <p:cNvPicPr/>
          <p:nvPr/>
        </p:nvPicPr>
        <p:blipFill>
          <a:blip r:embed="rId2"/>
          <a:stretch/>
        </p:blipFill>
        <p:spPr>
          <a:xfrm>
            <a:off x="203040" y="380880"/>
            <a:ext cx="8737920" cy="5079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8360" y="571500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，就和我举得一样高。”小兔子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uess05h" descr=""/>
          <p:cNvPicPr/>
          <p:nvPr/>
        </p:nvPicPr>
        <p:blipFill>
          <a:blip r:embed="rId2"/>
          <a:stretch/>
        </p:blipFill>
        <p:spPr>
          <a:xfrm>
            <a:off x="165240" y="45720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04920" y="5670720"/>
            <a:ext cx="14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，和我举得一样高。”大兔子说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真的很高，小兔子想：要是我的手臂可以和他一样，该多好啊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uess06h" descr=""/>
          <p:cNvPicPr/>
          <p:nvPr/>
        </p:nvPicPr>
        <p:blipFill>
          <a:blip r:embed="rId2"/>
          <a:stretch/>
        </p:blipFill>
        <p:spPr>
          <a:xfrm>
            <a:off x="146160" y="304920"/>
            <a:ext cx="8851680" cy="5079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1920" y="541008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又有了个好点子。他脚顶着树干，倒立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边说：“我爱你一直到我的脚趾头！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uess07h" descr=""/>
          <p:cNvPicPr/>
          <p:nvPr/>
        </p:nvPicPr>
        <p:blipFill>
          <a:blip r:embed="rId2"/>
          <a:stretch/>
        </p:blipFill>
        <p:spPr>
          <a:xfrm>
            <a:off x="146160" y="380880"/>
            <a:ext cx="8851680" cy="507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58360" y="567072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我爱你，一直到你的脚趾头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说着，把小兔子抛起来，一下子抛过了他的头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3:23:14Z</dcterms:created>
  <dc:creator>ddm</dc:creator>
  <dc:description/>
  <dc:language>en-US</dc:language>
  <cp:lastModifiedBy>ddm</cp:lastModifiedBy>
  <dcterms:modified xsi:type="dcterms:W3CDTF">2006-09-27T05:01:49Z</dcterms:modified>
  <cp:revision>2</cp:revision>
  <dc:subject/>
  <dc:title>PowerPoint 演示文稿</dc:title>
</cp:coreProperties>
</file>